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CE0-433F-47C6-8B08-1D3B151CB2C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39E-CB49-42FB-84BD-D866C14B20A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A2D-73AD-4B46-93E5-DAC58109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422-3C6D-4C6E-A56F-EDB4B5A2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5B5-85A0-4AFD-BFED-A2F9E14F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A30-7FCC-4A5B-9636-2D2ABB78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27B-CE9D-46D3-B7EC-8D721A1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D3B-5580-426D-8C37-75C8A1E4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EF8-F577-42C4-A20C-8C8AD60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4D1-E167-4026-9FF5-55936138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594-0B6D-4843-819B-7CB7A0A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CD9-BA54-4261-83C6-0029B6A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C91-F84B-48DC-958E-E7E0D10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F47-7843-494F-93AE-A889EC5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DD3-A929-495B-BA01-F173AC1CE5A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17928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岩手県立宮古水産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06560" y="1098720"/>
            <a:ext cx="1188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宮古水産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者をゼロにする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年度：０人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年度：１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情報を共有し、一体となって学校経営に取り組んでいる」と答えた割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年度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:50%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年度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:46.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日常の生徒指導業務等に手厚く対応する必要から、授業の準備等の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時間が不足していると感じている教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の多忙化解消の観点から、慣例の見直しを軸とした業務への取り組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方の再検討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73756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０日　宮古水産高等学校長　伊東 道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〇　本校に勤務する教職員のワーク・ライフ・バランスを向上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生徒一人ひとりのケアが丁寧に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業務改善について、教職員から積極的に提案がな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働き方改革に係る課題について、学校全体で共有し、その解決を図る場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適宜設定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管理職が日頃から、教職員に対し適切な助言を行うとともに、風通しのよ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職場の雰囲気づくり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が、心身の休養を図る機会が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慣例を見直し、業務の精選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グループウェアを活用し、情報共有に係る業務量の低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朝会を月・金・必要な日の開催にすることにより、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は電子データとし、紙媒体での配付は行い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せ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  外部業者の職員室への立ち入りを安易にコロナ禍前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戻すことなく、真に必要な観点から精選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外は留守番電話を利用し、電話対応に係る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負担を軽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スクールカウンセラー等の専門家からの助言によ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育相談等に係る教職員の負担を軽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生徒指導については、地域の理解・協力を得て対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きるよう、情報発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の諸課題に、学科や学年の枠を越え、全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職員で協力して解決する体制作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の理解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つながるよう積極的に情報を発信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コンプライアンスの定期的な取組をとおして、教育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員としての誇りと責任を持ちながらの服務を遵守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89920" y="808524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効率化や見直しを進め、休暇を取得しやすい職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の取得やメンタルヘルスについて積極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、教職員の状況に応じ、共済保健事業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活用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月の途中で月の時間外在校等時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となった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教職員に対して、当該時間を知らせるととも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健康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観点から、ミニ面談を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  お盆、年末年始は学校を閉庁し、教職員のプライベート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・休養時間が確保される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水上　弓枝</cp:lastModifiedBy>
  <cp:lastPrinted>2023-05-10T00:44:39Z</cp:lastPrinted>
  <dcterms:modified xsi:type="dcterms:W3CDTF">2023-05-11T08:00:59Z</dcterms:modified>
  <cp:revision>979</cp:revision>
  <dc:subject/>
  <dc:title>スライド 1</dc:title>
</cp:coreProperties>
</file>