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F0B1-8D8A-4DD3-AF0B-04E2DD1EEB1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3EF1-D71E-40F2-B28B-91AEB5A68371}"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58960" y="739800"/>
            <a:ext cx="5018040" cy="3699000"/>
          </a:xfrm>
          <a:prstGeom prst="rect">
            <a:avLst/>
          </a:prstGeom>
          <a:ln w="0">
            <a:noFill/>
          </a:ln>
        </p:spPr>
      </p:sp>
      <p:sp>
        <p:nvSpPr>
          <p:cNvPr id="7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0803E-6000-422F-82C7-8881A9356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951B9-3EA4-438F-8F1C-F1446A82B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5A47C-5624-4547-A150-69C08E7C1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BB07E-BD29-4F9E-977A-7B8C26862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20F1E-A292-4A92-A7B1-94196F90E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589EA-B8A0-490D-A0A8-735835802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D57C0-F8EF-4EF5-A224-E166BE58E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B2E56-2664-4546-AC79-813A2A9EA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94319-B3E9-40D8-B865-DA8200602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1E84C-A751-49DA-902D-58DC591A4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5F1A6-14FE-4025-A7E9-1A2004E35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2A089-2865-42F6-AB31-AA939125B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CB3E1-65A8-4148-9A15-A7BC2C45CD40}"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西和賀高等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873000" y="1101600"/>
            <a:ext cx="12098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西和賀高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ゼロ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３人、</a:t>
            </a:r>
            <a:r>
              <a:rPr b="0" lang="en-US" sz="1200" spc="-1" strike="noStrike">
                <a:solidFill>
                  <a:srgbClr val="000000"/>
                </a:solidFill>
                <a:latin typeface="Arial"/>
              </a:rPr>
              <a:t>R</a:t>
            </a:r>
            <a:r>
              <a:rPr b="0" lang="ja-JP" sz="1200" spc="-1" strike="noStrike">
                <a:solidFill>
                  <a:srgbClr val="000000"/>
                </a:solidFill>
                <a:latin typeface="Arial"/>
              </a:rPr>
              <a:t>４年度：０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１２日、</a:t>
            </a:r>
            <a:r>
              <a:rPr b="0" lang="en-US" sz="1200" spc="-1" strike="noStrike">
                <a:solidFill>
                  <a:srgbClr val="000000"/>
                </a:solidFill>
                <a:latin typeface="Arial"/>
              </a:rPr>
              <a:t>R</a:t>
            </a:r>
            <a:r>
              <a:rPr b="0" lang="ja-JP" sz="1200" spc="-1" strike="noStrike">
                <a:solidFill>
                  <a:srgbClr val="000000"/>
                </a:solidFill>
                <a:latin typeface="Arial"/>
              </a:rPr>
              <a:t>４年度：１１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当校で推進する「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ゼロ」の取組が全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に徹底されて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新たな業務が発生した際、スクラップアンドビルドの視点を持って業務見直し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9366120" y="7728120"/>
            <a:ext cx="329112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日　西和賀高等学校長　助川剛栄　</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達成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本校に勤務する先生方のワーク・ライフ・バランス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こどもたちへの質の高い教育を持続的に提供し得る観点から働き方の見直し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図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改善について、教員から積極的に提案がな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働き方改革に係る課題について、学校全体で共有し、その解決を図る場が定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的に設定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いきいきとやりがいをもって、子どもたちに向き合う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土日のうちどちらか一日を確実に休む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ＩＣＴ機器を活用して効率的かつ効果的な教育活動が展開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012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行事等の見直しによる業務の改善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の必要性を含めた在り方を考え、効率化を進め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かがやきプラン推進事業支援員、部活動指導員の活用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よる業務軽減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ＩＣＴ機器活用による効率的な教育活動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課題の配付・回収、</a:t>
            </a:r>
            <a:r>
              <a:rPr b="0" lang="en-US" sz="1200" spc="-1" strike="noStrike">
                <a:solidFill>
                  <a:srgbClr val="000000"/>
                </a:solidFill>
                <a:latin typeface="Arial"/>
              </a:rPr>
              <a:t>Forms</a:t>
            </a:r>
            <a:r>
              <a:rPr b="0" lang="ja-JP" sz="1200" spc="-1" strike="noStrike">
                <a:solidFill>
                  <a:srgbClr val="000000"/>
                </a:solidFill>
                <a:latin typeface="Arial"/>
              </a:rPr>
              <a:t>によりアンケートな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団体業務の明確化・適正化を推進し負担の軽減を図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　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コミュニティースクールを活用し、地域と一体となって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及び教員が担う業務の明確化・適正化の推進に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留守番電話等による時間外対応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外部人材による補助を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211880" y="8085240"/>
            <a:ext cx="561528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長時間勤務者の要因分析を確実に実施し、教職員の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医・学校薬剤師や労働組合と連携して健康管理を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各教職員の時間外在校等時間について把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適切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心身のリフレッシュのため年次休暇の取得を促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次の取得日数を増やし、家庭での時間を作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切田　壮</cp:lastModifiedBy>
  <cp:lastPrinted>2023-04-27T03:17:56Z</cp:lastPrinted>
  <dcterms:modified xsi:type="dcterms:W3CDTF">2023-04-28T01:48:34Z</dcterms:modified>
  <cp:revision>959</cp:revision>
  <dc:subject/>
  <dc:title>スライド 1</dc:title>
</cp:coreProperties>
</file>