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DC63-EDEA-44FC-9CAE-6044AC15245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EDE6-FF29-4EFF-A759-696993379CB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E04-201A-44AC-9FE2-C18C7B21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2C9-CC09-48B2-B4AB-04E40B2F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4A2-9031-481C-BCF2-5F4979BC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217-2A6A-41BD-B7C9-050D3D54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84B-5FAF-4665-A554-BBA59E3A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0D1-A635-4B13-8AC6-F96F6BED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EEE-912C-4162-AF71-EE37E170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F1E-87B0-4215-9536-D328AE36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6D2-A64A-4B1B-B58F-2FDF1F7C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FB6-2D7A-45FF-BCE5-96EBC289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152-EA04-48DC-8E6C-741F2404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BB6-148B-43A0-9B04-B355A955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EACD-2BDC-4CD6-8615-88D83E1A798B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一戸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笑顔あふれる職場づくり　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647640" y="1101600"/>
            <a:ext cx="125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一戸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、時間外勤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教職員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延べ５名（全体の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4.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教職員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延べ１名（全体の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.9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一部の担当職員に業務が集中する傾向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部活動指導が時間外勤務時間増加の一因と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残務処理のため休日仕事を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統合準備のため、業務量が増大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9063000" y="7707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〇月●日　●●学校長　●●●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それぞれの専門性や積み重ねた経験を発揮、子どもたちと向き合い、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健康でやり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生徒の学習指導、進路指導、生徒指導など教育活動に専念でき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負担軽減が可能な業務について見直す姿勢を示し、勤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環境整備を進め、全職員で業務改善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個人の時間や家族との生活が充実し、職務にも精励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効率的な業務遂行を念頭に、学校行事等の見直しに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定例職員会議における資料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化し、事前配付する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とともに、会議をペーパーレスで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朝会におい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利用することにより、時間短縮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図るとともに、連絡を効率的に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積極的に授業に活用するとともに、課題の配布・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回収を行い、効率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活動における案内、集計について、メールやア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ケートシステムを活用し、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留守番電話の導入等、働き方改革に向けた取組を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保護者に理解してもらう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行事については、学校の実情に応じて精選等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休日等の部活動については、部活動支援員等の協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力をいただきながら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211880" y="8085240"/>
            <a:ext cx="56152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長期休業期間の学校閉庁日の設定を確実に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の積極的な取得により、休養、リフレッシュ、健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康維持を意識した働き方を推進し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新田　剛史</cp:lastModifiedBy>
  <cp:lastPrinted>2023-05-10T05:53:20Z</cp:lastPrinted>
  <dcterms:modified xsi:type="dcterms:W3CDTF">2023-05-10T05:54:51Z</dcterms:modified>
  <cp:revision>954</cp:revision>
  <dc:subject/>
  <dc:title>スライド 1</dc:title>
</cp:coreProperties>
</file>