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1E25-1E55-4C14-AF1B-58FB4C31D1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9840"/>
            <a:ext cx="2944800" cy="4968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92E9-BF2C-4393-A9A8-8AC87BD5B57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2760"/>
          </a:xfrm>
          <a:prstGeom prst="rect">
            <a:avLst/>
          </a:prstGeom>
          <a:ln w="0">
            <a:noFill/>
          </a:ln>
        </p:spPr>
      </p:sp>
      <p:sp>
        <p:nvSpPr>
          <p:cNvPr id="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57EE2-E2E0-408A-8E07-ADE2C34F1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EF77-4D44-4FDE-92BD-45689D69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9F9FF-065C-4E4F-816F-14C910C3B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7294-74BB-4D7A-BF9C-50F4AD05D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67C8-C628-4D4D-B46C-CCC54B65B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74C44-2D0B-44E1-AEA6-302A896D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08D5-7EF3-47C5-BAE9-7D9D1CDE5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C1AF-2B02-4DFF-AE26-D5659A39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5EAF8-2BA3-43F1-AD9B-5DA68FA5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5BBE-1C52-455B-B461-B96613FC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B1869-143B-440C-946E-A50D2120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6994-7ACA-408B-8AF5-F20CFC332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2AED-B317-41F9-BDFA-C33F5B64545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800" spc="-1" strike="noStrike">
                <a:solidFill>
                  <a:srgbClr val="000000"/>
                </a:solidFill>
                <a:latin typeface="HGS創英角ｺﾞｼｯｸUB"/>
                <a:ea typeface="HGS創英角ｺﾞｼｯｸUB"/>
              </a:rPr>
              <a:t>令和５年度　宮古高等学校教職員 働き方改革アクションプラン</a:t>
            </a:r>
            <a:endParaRPr b="0" lang="en-US" sz="2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046160" y="1101600"/>
            <a:ext cx="11771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宮古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昨年度一年間の平均　（</a:t>
            </a:r>
            <a:r>
              <a:rPr b="0" lang="en-US" sz="1200" spc="-1" strike="noStrike">
                <a:solidFill>
                  <a:srgbClr val="000000"/>
                </a:solidFill>
                <a:latin typeface="Arial"/>
              </a:rPr>
              <a:t>※ </a:t>
            </a:r>
            <a:r>
              <a:rPr b="0" lang="ja-JP" sz="1200" spc="-1" strike="noStrike">
                <a:solidFill>
                  <a:srgbClr val="000000"/>
                </a:solidFill>
                <a:latin typeface="Arial"/>
              </a:rPr>
              <a:t>教職員総数</a:t>
            </a:r>
            <a:r>
              <a:rPr b="0" lang="en-US" sz="1200" spc="-1" strike="noStrike">
                <a:solidFill>
                  <a:srgbClr val="000000"/>
                </a:solidFill>
                <a:latin typeface="Arial"/>
              </a:rPr>
              <a:t>57</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１００時間以上の職員：　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４５時間以上の職員：　１２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間の総時間外勤務３６０時間以上の職員：　３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を対象とした学校評価アンケートで「教職員が誇りや情熱、同一使命感を持ち業務に取り組んでいる」とする回答：　９２．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を効率的に行うことに努めており、「岩手県における部活動の在り方に関する方針」に基づき、週１日以上の休養日を確保し、休養日の年間累計が１００日以上となるよう計画している。</a:t>
            </a: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55200" y="77169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宮古高等学校長　鈴木　裕</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常に真理を探究しようとする意欲のある生徒の育成に向け、教職員が誇りや情熱、同一使命感を持ち業務を行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を含むタイムマネジメント等の意識改革を進め、教職員が心身ともに健康で充実して働く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等を構成員とする既存の組織（校務運営委員会等）を活用して、業務の見直し、改善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の質を確保しつつ日課表の見直しを図り、放課後に落ち着いて業務に当たる時間的ゆとり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施設設備や備品等の管理・整理・改善により業務のスリム化を進めます。</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を有効活用しながら外部連絡の受信時間を明確化して、職員の業務の適正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外の業務について、保護者の理解を得た上で適正化を図るよ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イルス感染症対策が緩和し、部活動や学校活動が通常ベースとなった後において、安易にコロナ禍前の状態に戻すのではなく、真に必要な活動は何かという観点から見直しを図る。</a:t>
            </a: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83440" y="808848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を行っている教職員と管理職が面談をしながら、勤務時間の適正化に取り組みます。特に、時間外勤務時間の多い教職員との日常的な対話に力を入れて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活用しやすい環境整備に努め、教職員が心身ともに健康で働くことができる職場づくりに取り組みます。</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及川　玲一郎</cp:lastModifiedBy>
  <cp:lastPrinted>2023-05-18T00:17:53Z</cp:lastPrinted>
  <dcterms:modified xsi:type="dcterms:W3CDTF">2023-05-18T00:37:37Z</dcterms:modified>
  <cp:revision>960</cp:revision>
  <dc:subject/>
  <dc:title>スライド 1</dc:title>
</cp:coreProperties>
</file>