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76F2-C92F-47E1-8E56-50BA8A8F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646-E014-42A9-9D78-8C0CEAAF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4B4A-2355-44F5-8C1D-A3E2E059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A65-02C6-4393-9079-34690D9D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E05-698A-4E8E-BC65-AE68F154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C21-1472-447F-9A46-DF4F21F7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989E-ED67-4360-AE85-E05253A7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E024-5CC8-4D4D-A413-2DDB3484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BEF-D2C0-4449-820E-146BB3F2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A21-EE75-471C-9F13-FC68BCA0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A4B-6017-4DDA-A4CC-A705C49A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080-D280-493C-B213-D8B55C40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1C90-F19A-4D6B-9F8A-A32CB9F7A442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82120" y="191880"/>
            <a:ext cx="12479400" cy="87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txBody>
          <a:bodyPr lIns="152280" rIns="152280" tIns="18360" bIns="18360" anchor="ctr">
            <a:noAutofit/>
          </a:bodyPr>
          <a:p>
            <a:pPr indent="0" algn="ctr">
              <a:lnSpc>
                <a:spcPts val="1397"/>
              </a:lnSpc>
              <a:spcBef>
                <a:spcPts val="1800"/>
              </a:spcBef>
              <a:buNone/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令和５年度　大船渡高等学校教職員 働き方改革アクションプラン</a:t>
            </a:r>
            <a:br>
              <a:rPr sz="2600"/>
            </a:br>
            <a:br>
              <a:rPr sz="2600"/>
            </a:br>
            <a:r>
              <a:rPr b="0" lang="ja-JP" sz="2400" spc="-1" strike="noStrike">
                <a:solidFill>
                  <a:srgbClr val="6600cc"/>
                </a:solidFill>
                <a:latin typeface="HGS創英角ｺﾞｼｯｸUB"/>
                <a:ea typeface="HGS創英角ｺﾞｼｯｸUB"/>
              </a:rPr>
              <a:t>～　先生の元気は生徒の元気　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正方形/長方形 6"/>
          <p:cNvSpPr/>
          <p:nvPr/>
        </p:nvSpPr>
        <p:spPr>
          <a:xfrm>
            <a:off x="565200" y="1114560"/>
            <a:ext cx="12658680" cy="29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大船渡高等学校では、「岩手県教職員働き方改革プラン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0"/>
          <p:cNvSpPr/>
          <p:nvPr/>
        </p:nvSpPr>
        <p:spPr>
          <a:xfrm>
            <a:off x="601560" y="1425600"/>
            <a:ext cx="5889600" cy="3747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　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0"/>
          <p:cNvSpPr/>
          <p:nvPr/>
        </p:nvSpPr>
        <p:spPr>
          <a:xfrm>
            <a:off x="7157880" y="1450800"/>
            <a:ext cx="588996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0"/>
          <p:cNvSpPr/>
          <p:nvPr/>
        </p:nvSpPr>
        <p:spPr>
          <a:xfrm>
            <a:off x="593640" y="4108320"/>
            <a:ext cx="12507840" cy="3844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0"/>
          <p:cNvSpPr/>
          <p:nvPr/>
        </p:nvSpPr>
        <p:spPr>
          <a:xfrm>
            <a:off x="587520" y="4476600"/>
            <a:ext cx="4617720" cy="40968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１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0"/>
          <p:cNvSpPr/>
          <p:nvPr/>
        </p:nvSpPr>
        <p:spPr>
          <a:xfrm>
            <a:off x="5197320" y="4473720"/>
            <a:ext cx="5040360" cy="40932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0"/>
          <p:cNvSpPr/>
          <p:nvPr/>
        </p:nvSpPr>
        <p:spPr>
          <a:xfrm>
            <a:off x="10233000" y="4476600"/>
            <a:ext cx="2868480" cy="59400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３）　学校及び教員が担う業務の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明確化・適正化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0"/>
          <p:cNvSpPr/>
          <p:nvPr/>
        </p:nvSpPr>
        <p:spPr>
          <a:xfrm>
            <a:off x="593640" y="4884840"/>
            <a:ext cx="4591080" cy="14396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　衛生委員会を活用した労働安全衛生体制を整備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イ　産業医による保健指導及びメンタルヘルス相談の活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を促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ウ　各種休暇や特割、振替休日等の取得を促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エ　教職員の働き方や時間外勤務縮減への意識改革を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ります。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5197320" y="4897440"/>
            <a:ext cx="5023080" cy="1212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　学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級規模に適した部活動のあり方（適正な部活動数・顧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問配置等）の検討を継続して行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イ　学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級規模に適した教育課程、学校行事等の見直し及び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業務の合理化に引き続き努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ウ　管理職は、適正な労働環境及び支援体制の構築に努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34440" y="5075280"/>
            <a:ext cx="2868840" cy="1035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学校運営協議会や学校保健委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会等において、業務に係る意見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助言を求める機会を設定します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線コネクタ 2"/>
          <p:cNvSpPr/>
          <p:nvPr/>
        </p:nvSpPr>
        <p:spPr>
          <a:xfrm flipH="1">
            <a:off x="601560" y="3409920"/>
            <a:ext cx="6229440" cy="6969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線コネクタ 9"/>
          <p:cNvSpPr/>
          <p:nvPr/>
        </p:nvSpPr>
        <p:spPr>
          <a:xfrm>
            <a:off x="6821640" y="3409920"/>
            <a:ext cx="6329160" cy="6825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614520" y="1800360"/>
            <a:ext cx="5895720" cy="2030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１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時間外勤務時間は、コロナからの復調の兆しもあり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基準時間超過の職員数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と比べて増加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ケ月で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あった職員は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職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名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超の職員は、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１１人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は７人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職員は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３年度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　　　　　　　　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２）週休日も課外指導・部活動指導に従事している教員が多い。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３）部活動休養日は徹底され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４）留守番電話の設置により、勤務時間外の電話対応は減少（緊急除く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55000" y="1825560"/>
            <a:ext cx="5892840" cy="15778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脱コロナにより、活動の活発化が益々想定される中で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（１）教員一人ひとりがやりがいを感じて、業務に取り組んで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（２）生徒と向き合う時間（面談指導等）が確保され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（３）適正な労働時間が保たれ、健康の保持・増進が図られ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（４）ワーク・ライフ・バランスを意識した働き方がなされ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1"/>
          <p:cNvSpPr/>
          <p:nvPr/>
        </p:nvSpPr>
        <p:spPr>
          <a:xfrm>
            <a:off x="6615000" y="1801800"/>
            <a:ext cx="489240" cy="1646280"/>
          </a:xfrm>
          <a:prstGeom prst="rightArrow">
            <a:avLst>
              <a:gd name="adj1" fmla="val 50000"/>
              <a:gd name="adj2" fmla="val 4672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11"/>
          <p:cNvSpPr/>
          <p:nvPr/>
        </p:nvSpPr>
        <p:spPr>
          <a:xfrm>
            <a:off x="579600" y="6470640"/>
            <a:ext cx="6035400" cy="3370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　</a:t>
            </a:r>
            <a:r>
              <a:rPr b="0" lang="ja-JP" sz="1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　　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　　　　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12"/>
          <p:cNvSpPr/>
          <p:nvPr/>
        </p:nvSpPr>
        <p:spPr>
          <a:xfrm>
            <a:off x="738360" y="8024760"/>
            <a:ext cx="561636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00160" y="8464680"/>
          <a:ext cx="5329080" cy="68076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404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正方形/長方形 8"/>
          <p:cNvSpPr/>
          <p:nvPr/>
        </p:nvSpPr>
        <p:spPr>
          <a:xfrm>
            <a:off x="673200" y="915984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6843600" y="6551640"/>
            <a:ext cx="6289920" cy="39060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　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6843600" y="6942240"/>
            <a:ext cx="6288120" cy="208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１）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時間外在校等時間</a:t>
            </a:r>
            <a:r>
              <a:rPr b="1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縮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　時間外在校等時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時間以上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職員　➡　</a:t>
            </a:r>
            <a:r>
              <a:rPr b="1" lang="ja-JP" sz="1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ゼロ</a:t>
            </a:r>
            <a:r>
              <a:rPr b="1" lang="ja-JP" sz="1800" spc="-1" strike="noStrike">
                <a:solidFill>
                  <a:srgbClr val="ff0000"/>
                </a:solidFill>
                <a:latin typeface="AR Pゴシック体S"/>
                <a:ea typeface="AR Pゴシック体S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イ　時間外在校時間（週休日の部活動時間除く）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時間超、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時間超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職員 　➡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ゼ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２）業務への充実感や健康面での安心感の向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健康で生き生きと働いていると感じている職員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➡　</a:t>
            </a:r>
            <a:r>
              <a:rPr b="1" lang="en-US" sz="1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90</a:t>
            </a:r>
            <a:r>
              <a:rPr b="1" lang="ja-JP" sz="1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2"/>
          <p:cNvSpPr/>
          <p:nvPr/>
        </p:nvSpPr>
        <p:spPr>
          <a:xfrm>
            <a:off x="7704000" y="9136080"/>
            <a:ext cx="4953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令和５年５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　大船渡高等学校長　熊谷　賢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熊谷　賢児</cp:lastModifiedBy>
  <cp:lastPrinted>2023-05-09T01:35:44Z</cp:lastPrinted>
  <dcterms:modified xsi:type="dcterms:W3CDTF">2023-05-09T01:36:38Z</dcterms:modified>
  <cp:revision>1041</cp:revision>
  <dc:subject/>
  <dc:title>スライド 1</dc:title>
</cp:coreProperties>
</file>