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4440" y="744480"/>
            <a:ext cx="505764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66F70-9E4B-4977-8C4C-00F32B5BC458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1A97C-EEE8-4EF7-8883-4E8887D3C53B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874800" y="744480"/>
            <a:ext cx="5057640" cy="37274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FFB7-F8B8-4538-9FE7-CC54AC613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E63A-4026-4687-AAB3-C637117C8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B469-0788-4D56-A16E-5B8480070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1E55-2CE1-41D0-8D51-F85F5B68B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B381-BD7A-436E-8456-04B2A2CA3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6719-AB8D-489A-9C42-E2B5D8850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19BD-605C-4B53-910A-E531D5AD4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67F5-B91B-4A9D-B948-89D7AB9D5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E6B0-E8A8-4AA4-B247-9D043295A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3608-BBFA-4AB6-88D8-2FF6DD03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FA44-7389-44A0-9230-5A817285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E2BC-9314-497B-B657-CD22909E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4C481-3EA0-4799-80A9-52DE700DC1EF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ホームベース 4"/>
          <p:cNvSpPr/>
          <p:nvPr/>
        </p:nvSpPr>
        <p:spPr>
          <a:xfrm rot="16200000">
            <a:off x="6547680" y="-2228400"/>
            <a:ext cx="792360" cy="11728440"/>
          </a:xfrm>
          <a:custGeom>
            <a:avLst/>
            <a:gdLst>
              <a:gd name="textAreaLeft" fmla="*/ 0 w 792360"/>
              <a:gd name="textAreaRight" fmla="*/ 792720 w 792360"/>
              <a:gd name="textAreaTop" fmla="*/ 0 h 11728440"/>
              <a:gd name="textAreaBottom" fmla="*/ 11728800 h 117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654" y="0"/>
                </a:lnTo>
                <a:lnTo>
                  <a:pt x="21600" y="10800"/>
                </a:lnTo>
                <a:lnTo>
                  <a:pt x="116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>
              <a:alpha val="32000"/>
            </a:srgbClr>
          </a:solidFill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５年度　大船渡東高等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　職員間の活発な意思疎通で業務改善　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90440" y="6665760"/>
            <a:ext cx="7118640" cy="11113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時間外在校等時間（週休日の部活動指導従事時間を除く）が月４５時間を超える教職員　→　６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月に１回、１日以上の計画的な年次休暇等を取得する教職員　→　５０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心と体の健康の維持により長期病気休暇教職員　→　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学校評価アンケートの教職員調査で「本校は、仕事の平準化が図られていると感じる教職員　→　５５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0"/>
          <p:cNvSpPr/>
          <p:nvPr/>
        </p:nvSpPr>
        <p:spPr>
          <a:xfrm>
            <a:off x="1079640" y="6259680"/>
            <a:ext cx="7129440" cy="40608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４　目　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457280"/>
            <a:ext cx="5545080" cy="3380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1079640" y="3664080"/>
            <a:ext cx="11728440" cy="379440"/>
          </a:xfrm>
          <a:prstGeom prst="rect">
            <a:avLst/>
          </a:prstGeom>
          <a:solidFill>
            <a:srgbClr val="00b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テキスト ボックス 2"/>
          <p:cNvSpPr/>
          <p:nvPr/>
        </p:nvSpPr>
        <p:spPr>
          <a:xfrm>
            <a:off x="1360440" y="1114560"/>
            <a:ext cx="1191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大船渡東高等学校では、「岩手県教職員働き方改革プラン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0"/>
          <p:cNvSpPr/>
          <p:nvPr/>
        </p:nvSpPr>
        <p:spPr>
          <a:xfrm>
            <a:off x="1079640" y="1806480"/>
            <a:ext cx="5545080" cy="16574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時間割変更が難しいため出張･年次等の課題対応による業務が避けられない。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活発な部活動や特別活動、多様な進路志望への対応に要する指導のため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間外勤務が必要となり業務負担が大きくなっ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４学科独自の行事が多く、その準備のために勤務時間外が常態化し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個々の生徒に対応するクラス担任の負担感が大きくなっ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1079640" y="4032360"/>
            <a:ext cx="402408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5108400" y="4032360"/>
            <a:ext cx="399744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における業務改善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正方形/長方形 2"/>
          <p:cNvSpPr/>
          <p:nvPr/>
        </p:nvSpPr>
        <p:spPr>
          <a:xfrm>
            <a:off x="8064360" y="7604280"/>
            <a:ext cx="4953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５年５月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日　岩手県立大船渡東高等学校長　千葉　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7272360" y="1432080"/>
            <a:ext cx="5535720" cy="3632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２　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0"/>
          <p:cNvSpPr/>
          <p:nvPr/>
        </p:nvSpPr>
        <p:spPr>
          <a:xfrm>
            <a:off x="7272360" y="1795320"/>
            <a:ext cx="5535720" cy="16671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一人一人が、生徒と向き合い、それぞれの特徴を生かし充実感を感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 ながら業務に取り組んで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管理職やベテラン職員が日頃から適切なサポートを行っ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一人の職員に業務が集中しないように、業務を分散する気風があ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計画的に年次休暇、特別休暇等を取得できる環境があ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新しい提案を受け入れる心理的・時間的なゆとりがあ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右矢印 1"/>
          <p:cNvSpPr/>
          <p:nvPr/>
        </p:nvSpPr>
        <p:spPr>
          <a:xfrm>
            <a:off x="6640560" y="1519200"/>
            <a:ext cx="676080" cy="1908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f2f2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0"/>
          <p:cNvSpPr/>
          <p:nvPr/>
        </p:nvSpPr>
        <p:spPr>
          <a:xfrm>
            <a:off x="9072720" y="4032360"/>
            <a:ext cx="3735360" cy="37944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及び教員が担う業務の明確化・適正化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0"/>
          <p:cNvSpPr/>
          <p:nvPr/>
        </p:nvSpPr>
        <p:spPr>
          <a:xfrm>
            <a:off x="5108400" y="4392720"/>
            <a:ext cx="396432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分掌間、職員間の連携を密にし互いの業務を認め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い、業務への充実感のある職場環境づくりに取り組み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簡略化、省略できるところから業務改善を進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教職員数の確保に向け、特増制度の活用、非常勤職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 等の専門スタッフの継続した配置を進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0"/>
          <p:cNvSpPr/>
          <p:nvPr/>
        </p:nvSpPr>
        <p:spPr>
          <a:xfrm>
            <a:off x="9067680" y="4392720"/>
            <a:ext cx="374508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各教職員の担当する分掌業務の明確化により多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  化している業務の見直しを進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外部資源の積極的な活用を呼びかけ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ＩＣＴの活用を促進し授業及び業務の改善を進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日常の職員間のコミュニケーションにより、会議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の短縮、書類を介さず口頭で済む部分を模索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正方形/長方形 11"/>
          <p:cNvSpPr/>
          <p:nvPr/>
        </p:nvSpPr>
        <p:spPr>
          <a:xfrm>
            <a:off x="1079640" y="8058240"/>
            <a:ext cx="11737800" cy="17971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1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3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期間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令和３年度～令和５年度までの３カ年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7711920" y="8510760"/>
          <a:ext cx="4434120" cy="684000"/>
        </p:xfrm>
        <a:graphic>
          <a:graphicData uri="http://schemas.openxmlformats.org/drawingml/2006/table">
            <a:tbl>
              <a:tblPr/>
              <a:tblGrid>
                <a:gridCol w="960480"/>
                <a:gridCol w="1808280"/>
                <a:gridCol w="166536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４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2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５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3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３年度実績の８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４年度実績の８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8" name="正方形/長方形 12"/>
          <p:cNvSpPr/>
          <p:nvPr/>
        </p:nvSpPr>
        <p:spPr>
          <a:xfrm>
            <a:off x="7089840" y="8105760"/>
            <a:ext cx="5614920" cy="438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段階的に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正方形/長方形 8"/>
          <p:cNvSpPr/>
          <p:nvPr/>
        </p:nvSpPr>
        <p:spPr>
          <a:xfrm>
            <a:off x="7089840" y="9194760"/>
            <a:ext cx="567828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令和５年度において、アンケート調査に基づく肯定的実感が令和４年度の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0"/>
          <p:cNvSpPr/>
          <p:nvPr/>
        </p:nvSpPr>
        <p:spPr>
          <a:xfrm>
            <a:off x="1079640" y="4392720"/>
            <a:ext cx="402408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管理職による面談や日常のコミュニケー ションをとるこ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で心身の状況把握に心がけ相談しやすい環境を整え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健康診断・メンタルヘルス相談等の積極活用を促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タイムカードの活用により勤務実態を適切に把握し、過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な時間外勤務の適正化や産業医による保健指導など健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に配慮した声がけを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年次休暇等の活用が計画的に取得しやすい職場環境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くりに取り組み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秋田　美紀男</cp:lastModifiedBy>
  <cp:lastPrinted>2023-05-17T04:27:17Z</cp:lastPrinted>
  <dcterms:modified xsi:type="dcterms:W3CDTF">2023-05-18T05:32:19Z</dcterms:modified>
  <cp:revision>958</cp:revision>
  <dc:subject/>
  <dc:title>スライド 1</dc:title>
</cp:coreProperties>
</file>