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AD55-2915-4248-9C74-8D8429A930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DD89-8D27-42A1-B7CB-7875873D449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7160" y="739800"/>
            <a:ext cx="5021280" cy="3700440"/>
          </a:xfrm>
          <a:prstGeom prst="rect">
            <a:avLst/>
          </a:prstGeom>
          <a:ln w="0">
            <a:noFill/>
          </a:ln>
        </p:spPr>
      </p:sp>
      <p:sp>
        <p:nvSpPr>
          <p:cNvPr id="71"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99F1B-F7E7-412D-A2AB-522A2B6F6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2ED41-30ED-4BE1-A3A1-28CA19C7D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116CC-3B4E-468B-B3B9-A27A3DCCE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61713-D8CF-49FD-A70C-1B2E71FDD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93CA6-CAF0-4156-9F4A-227F86A5C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3C399-5818-450D-A76F-67410DA6B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B7FBC-F399-4885-8CE6-115137BE1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35C89-BDCA-4B64-A836-23D3173C4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E2C4B-445A-49C9-B9E6-153E42292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63913-C5A0-489D-A8E8-3B2717448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D720-1953-4298-8184-DC0F99A69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BB855-1911-4911-AB30-15CA5CCC2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DC30-EE61-407B-BC1B-21CA0E49A3C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盛岡となん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多忙感の軽減を図り、気分良く働ける職場環境づくりと同僚性をめざそう</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岩手県立盛岡となん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８０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一人当たりの時間外勤務が月平均１６時間強と、ここ数年短縮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中で、一部教職員は月により５０時間以上という現状も残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障害や疾病の重度化・重複化、医療的ケアを含む様々な対応が必要な児童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徒の増加により、従来からの専門性を高める研修に加え、医療的知識や関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機関とのネットワーク構築など、指導・支援に係る業務以外の仕事が膨大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その全てに適切な対応が求められることに緊張感が強い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 </a:t>
            </a: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372520" y="7635960"/>
            <a:ext cx="5535720" cy="444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盛岡となん支援学校長　横澤　修</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教職員の多忙感の軽減に努めます。そのために中間反省（半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ごと）や年度末反省よりもきめ細かく、業務の見直しについて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地域との協働によって、教職員の業務が増えることなく、児童生徒の経験の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りが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職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チームとなん」としてそ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解決を図る意識が醸成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旧「よろず相談日」に替わり、管理職が教職員に対し「随時面談」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生き生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行事計画や校内研修等に係る「実施要項」の様式等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また、保護者あて案内文書などについても、統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化を進め、作成作業の軽減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関係機関の名簿について校内で一本化し、各分掌が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れぞれ新規入力や修正する手間を省くことを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時間の短縮のため、あるいは会議記録業務の軽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向け、校長による指示や挨拶の発言要旨を渡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安全衛生委員会や諸会議の際に、必要に応じて学校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おける働き方の取組状況を振り返る場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朝会での連絡や指示は最小限として授業準備の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間を増やすとともに、デスクネッツの掲示板等を活用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とで周知の徹底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大きな学校行事や、児童生徒に係る複数回にわた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支援会議等の担当は、２名体制（複数担当あるいは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副など）とし、特定の教職員が個人が抱えずに、チ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ムとして業務にあたるように進め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との協働については、学校運営協議会委員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助言や支援も積極的に活用しながら、地域の理解・協</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力を得て、教職員の業務負担軽減を図って参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組について、保護者の方に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解いただけるよう、折を見て保護者あて文書にも盛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込んで参ります。また、このアクションプラン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ホームページ等にも掲載し、理解を得られるよ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3276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計画的年次休暇の取得」を奨励し、取得率が低い教職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員に対して積極的に取得を促す声がけを行います。</a:t>
            </a:r>
            <a:r>
              <a:rPr b="0" lang="en-US" sz="1200" spc="-1" strike="noStrike">
                <a:solidFill>
                  <a:srgbClr val="000000"/>
                </a:solidFill>
                <a:latin typeface="Arial"/>
              </a:rPr>
              <a:t>【</a:t>
            </a:r>
            <a:r>
              <a:rPr b="0" lang="ja-JP" sz="1200" spc="-1" strike="noStrike">
                <a:solidFill>
                  <a:srgbClr val="000000"/>
                </a:solidFill>
                <a:latin typeface="Arial"/>
              </a:rPr>
              <a:t>令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４年１月からの１年間で年次休暇取得３日（</a:t>
            </a:r>
            <a:r>
              <a:rPr b="0" lang="en-US" sz="1200" spc="-1" strike="noStrike">
                <a:solidFill>
                  <a:srgbClr val="000000"/>
                </a:solidFill>
                <a:latin typeface="Arial"/>
              </a:rPr>
              <a:t>=</a:t>
            </a:r>
            <a:r>
              <a:rPr b="0" lang="ja-JP" sz="1200" spc="-1" strike="noStrike">
                <a:solidFill>
                  <a:srgbClr val="000000"/>
                </a:solidFill>
                <a:latin typeface="Arial"/>
              </a:rPr>
              <a:t>２４時間）未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教職員は４名⇒全教職員が最低１２日（</a:t>
            </a:r>
            <a:r>
              <a:rPr b="0" lang="en-US" sz="1200" spc="-1" strike="noStrike">
                <a:solidFill>
                  <a:srgbClr val="000000"/>
                </a:solidFill>
                <a:latin typeface="Arial"/>
              </a:rPr>
              <a:t>=</a:t>
            </a:r>
            <a:r>
              <a:rPr b="0" lang="ja-JP" sz="1200" spc="-1" strike="noStrike">
                <a:solidFill>
                  <a:srgbClr val="000000"/>
                </a:solidFill>
                <a:latin typeface="Arial"/>
              </a:rPr>
              <a:t>９６時間）以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取得を奨励</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の途中で月の時間外在校等時間が６０時間超となっ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に対して、当該時間を知らせるとともに、健康確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観点から、校長あるいは副校長面談をします。</a:t>
            </a:r>
            <a:r>
              <a:rPr b="0" lang="en-US" sz="1200" spc="-1" strike="noStrike">
                <a:solidFill>
                  <a:srgbClr val="000000"/>
                </a:solidFill>
                <a:latin typeface="Arial"/>
              </a:rPr>
              <a:t>【</a:t>
            </a:r>
            <a:r>
              <a:rPr b="0" lang="ja-JP" sz="1200" spc="-1" strike="noStrike">
                <a:solidFill>
                  <a:srgbClr val="000000"/>
                </a:solidFill>
                <a:latin typeface="Arial"/>
              </a:rPr>
              <a:t>令和４</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度の記録では、３名の教職員がのべ５回の６０時間超</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ff0000"/>
                </a:solidFill>
                <a:latin typeface="Arial"/>
              </a:rPr>
              <a:t>　</a:t>
            </a:r>
            <a:r>
              <a:rPr b="0" lang="ja-JP" sz="1200" spc="-1" strike="noStrike">
                <a:solidFill>
                  <a:srgbClr val="000000"/>
                </a:solidFill>
                <a:latin typeface="Arial"/>
              </a:rPr>
              <a:t>従来からの「職業人であると同時に家庭人」というキ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ドを学校全体で意識し、健康相談事業や共済保健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についての活用を積極的に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横澤　修</cp:lastModifiedBy>
  <cp:lastPrinted>2023-05-10T04:35:02Z</cp:lastPrinted>
  <dcterms:modified xsi:type="dcterms:W3CDTF">2023-05-16T05:23:29Z</dcterms:modified>
  <cp:revision>967</cp:revision>
  <dc:subject/>
  <dc:title>スライド 1</dc:title>
</cp:coreProperties>
</file>