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42AF-4B8A-42C1-83D6-917E4C0A73F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1061-3B3C-4637-97F0-66593A5EE63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648-0D62-4E0F-B6FA-4ABDA91E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0A3-1846-4EB3-B631-0EE5A78B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615-A469-4990-8A2F-70B87874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932-98D5-4789-A002-3BA19025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F6F-A6AE-4E86-B64C-A87405A3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C7B-949C-42A1-A5B5-D073EEFD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164-A1EF-4F60-A1C1-567AEF71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FB2-E339-4A5D-9917-5ABB6E9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4D1-A0EB-4194-B04A-16860CFA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BF1-C7AA-46D8-B418-7C9EBDB2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D3F-E6CD-4B57-B2A9-2E8AA001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1E2-6F8F-4262-8C57-8574BCE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1CAD-FFEB-4D07-8BC9-40A0C97A9D6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43000"/>
            <a:ext cx="11449080" cy="836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 P宋朝体M"/>
                <a:ea typeface="AR P宋朝体M"/>
              </a:rPr>
              <a:t>令和５年度　久慈高等学校長内校教職員 働き方改革アクションプラ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 P宋朝体M"/>
                <a:ea typeface="AR P宋朝体M"/>
              </a:rPr>
              <a:t>～「勤務したい」「勤務してよかった」と人口に膾炙されるような学校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心身の故障による休職者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下の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週に２回以上定時退庁を行う教職員　→　早期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２回以上年次休暇を取得する教職員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c9cd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4080" y="3611520"/>
            <a:ext cx="11728440" cy="379440"/>
          </a:xfrm>
          <a:prstGeom prst="rect">
            <a:avLst/>
          </a:prstGeom>
          <a:solidFill>
            <a:srgbClr val="ffcc66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P創英ﾌﾟﾚｾﾞﾝｽEB"/>
                <a:ea typeface="HGP創英ﾌﾟﾚｾﾞﾝｽEB"/>
              </a:rPr>
              <a:t>３　　取　組　内　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久慈高等学校長内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▲行事を担当する教員など、一部の教職員に業務が集中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▲発達障害、精神疾患等、支援の必要な生徒が多く在籍しているため、学級担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に多大な負担がかか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▲次年度の校務分掌への引き継ぎに課題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▲勤務時間が夜遅い時間まで及んでおり、生活や健康への影響は避けられない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◎部活動は平日１時間程度であり、多くの生徒がアルバイト就労しているため、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休日・休日のほとんどを休養日と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○過重な時間外労働はあまり無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ff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685360" y="7353360"/>
            <a:ext cx="41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８日　久慈高等学校長　　藤　田　知　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737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教職員一人一人が、学校の役割を理解し、誇りとやりがいを持って職務に従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管理職が日頃から、休暇を取得しやすい環境づくり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校務分掌や担任業務を分担して取り組むことにより、お互いの負担を軽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教職員が、生徒と接する時間が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職員が個人や家庭で過ごしたり、健康を維持するための時間を十分に確保で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負担軽減に向け、校務全般見直し及び「定時出勤・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庁」の取り組みについて導入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引き続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活用を推進し、ペーパーレス化／会議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最小化・最適化による業務の負担軽減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外部委託を検討を不断に検討し、学校全体と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の負担軽減と業務の効率化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業務について、業務の適正化を図るよう関係団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体との連携と協議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に積極的に関わることにより、学校業務・教育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活動への支援・応援を抽き出せるよう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「教職員の負担軽減」の取り組み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現し、教職員の健康を確保・維持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教職員の勤務時間を的確に把握し、セルフケ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アの充実やライフ・ワークバランスの実現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休暇取得促進について積極的に声掛けをし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ストレスや悩みを管理職や同僚に相談しやすい職場を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2"/>
          <p:cNvSpPr/>
          <p:nvPr/>
        </p:nvSpPr>
        <p:spPr>
          <a:xfrm>
            <a:off x="7385040" y="503280"/>
            <a:ext cx="6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かいし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山中　基雅</cp:lastModifiedBy>
  <cp:lastPrinted>2023-05-16T08:24:19Z</cp:lastPrinted>
  <dcterms:modified xsi:type="dcterms:W3CDTF">2023-05-17T02:47:06Z</dcterms:modified>
  <cp:revision>955</cp:revision>
  <dc:subject/>
  <dc:title>スライド 1</dc:title>
</cp:coreProperties>
</file>