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0F76-1D56-454E-B726-18176E377E9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6E3-50AE-48FA-8981-0765F84F358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B6C-D899-4DC3-A6BB-5FF59706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AA5-E729-425E-9386-9914FA38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420-C17C-4E5A-8B04-26FCF345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3CA-272F-4BF7-B0CE-6DA676EA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9AD-BC2D-483F-B0FF-FB20791B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B6E-64DD-435B-8C34-C25F86D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86E-9A28-4267-915E-59F5FF51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3D4-3ED6-4E2E-956D-086EC6B5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16D-86A2-41F7-B72F-8FA6390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953-1ADE-43A0-BE6A-6BAB4AFB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8F2-4F5B-4404-A93C-387E23F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9AB-B8FE-4A68-9ADC-A3C6496F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342F-2570-43A1-AB71-B4A10C990C8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岩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魅力ある職場と健康的な生活をめざして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岩泉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、時間外在校等時間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はゼロを達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週休日の部活動従事時間を除いて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はの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以上の者は教職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中７名だ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大会引率や部活動指導など、特定の部活動顧問に負担が集中しがち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勤務時間終了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以内に退庁する「早く帰る日」の取組は徐々に浸透して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たが、まだ十分では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85672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岩泉高等学校長　岩渕　雅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本校に勤務する先生方の心身の状態を整え、働き方の質を向上させ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やりがいを感じるとともに、チームとして業務に取り組み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魅力ある職場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日頃から話しやすい雰囲気で、互いにコミュニケーションが良くと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計画的な校務運営と業務の平準化により、合理的かつ効率的に仕事を進め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スタイルが確立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資料のペーパーレス化や説明事項の省略等に取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組み、会議時間の短縮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校務分掌の内容を常に見直し、業務の合理化と担当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の適正化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を複数顧問で交代で行い、分掌業務の遂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や教材研究に要する時間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勤務時間終了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以内に退庁する「早く帰る日」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各自が月に３回以上設定し、実行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について、休養日を適切に設けること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メリハリのある活動体制を築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について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総会等で保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護者への理解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今年度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周年記念事業については、同窓会や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係団体との業務分担の調整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53200" y="808524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時退庁や休暇取得の積極的な声掛け、長期休業中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計画的な休暇取得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心身をリフレッシュさせるための小まめな休暇取得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結果等のデータに基づいて面談や声掛けを行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、心身に不安を抱える職員の早期把握と適切な支援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行い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相談事業等、職員の状況に応じ、共済保健事業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活用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岩渕　雅明</cp:lastModifiedBy>
  <cp:lastPrinted>2023-04-25T08:13:52Z</cp:lastPrinted>
  <dcterms:modified xsi:type="dcterms:W3CDTF">2023-05-12T01:32:25Z</dcterms:modified>
  <cp:revision>967</cp:revision>
  <dc:subject/>
  <dc:title>スライド 1</dc:title>
</cp:coreProperties>
</file>