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3C1C-9433-4DD9-AA8A-E3F02B4A388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D5BE-0AF6-4A99-AB19-0468F6595A0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3C2-5ED8-4C9C-84B0-27A8668A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FE9-7571-492D-817E-02C3054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EBF-5181-435C-B112-A33481D0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2EA-65B3-4491-B03F-4D6DC487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9E2-57AA-46BF-9AD1-7249FA4B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AD0-A910-4C24-B562-5670F3EB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873-08A6-4DBD-80E1-EFDC2FD9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D76-A121-4EAD-8A49-7091CB91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1CC-44EC-4DA9-BFAC-EFB95EE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527-2EA4-4688-88F2-EEC6B7A8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4CC-ED2F-46FF-A52D-8671AF6F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FE9-095F-4115-9590-4A9DB3F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8E6-695A-4958-A421-97E97D497D8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99160" y="-2211840"/>
            <a:ext cx="792360" cy="11695320"/>
          </a:xfrm>
          <a:custGeom>
            <a:avLst/>
            <a:gdLst>
              <a:gd name="textAreaLeft" fmla="*/ 0 w 792360"/>
              <a:gd name="textAreaRight" fmla="*/ 792720 w 792360"/>
              <a:gd name="textAreaTop" fmla="*/ 0 h 11695320"/>
              <a:gd name="textAreaBottom" fmla="*/ 11695680 h 116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68280" y="34920"/>
            <a:ext cx="11449080" cy="105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盛岡第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白梅教職員生き生きプランＲ５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3160" y="6681960"/>
            <a:ext cx="8015400" cy="12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の削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①月８０時間以上の教職員の年間割合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％以内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　　　　　 ②月１００時間以上の教職員の人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０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休暇の取得促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①一人当たりの年次有給休暇の年間取得日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７日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②一人当たりの夏季休暇取得日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日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ノー残業デーへの取組の推進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各自月１回以上の実施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32680"/>
            <a:ext cx="8008920" cy="433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106640" y="1498680"/>
            <a:ext cx="5545080" cy="3380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114560" y="376092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073160" y="1130400"/>
            <a:ext cx="11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二高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103400" y="1862280"/>
            <a:ext cx="5545080" cy="15811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年間における月間平均時間外勤務時間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６．０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年間における年次有給休暇取得７日未満の割合　　 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０．３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夏季休暇取得４日未満の割合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７．７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期健康診断における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以下の割合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１．３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98720" y="412740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26040" y="412740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469360" y="7404120"/>
            <a:ext cx="495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日　盛岡第二高等学校長　鈴木広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98680"/>
            <a:ext cx="5535720" cy="36360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836720"/>
            <a:ext cx="5535720" cy="1630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の役割分担が適正になされ、協働体制が確立され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授業の準備や教育環境の整備に十分な時間が確保され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ワーク・ライフ・バランスが図られ、健康で生き生きと業務に従事し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互いに助け合う学校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3324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83520" y="4118040"/>
            <a:ext cx="3735720" cy="4190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6960" y="4491000"/>
            <a:ext cx="3963960" cy="1655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実施の徹底と学校閉庁日の拡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スクラップと各種学校行事の内容の見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正副担任及び正副顧問間での業務分担の見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精選及び簡素化と会議準備の軽減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4160" y="4506840"/>
            <a:ext cx="3745080" cy="16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高教研、高文連、高体連の事務局業務の軽減に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る関係団体との協議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の負担軽減の取組に関する県教委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地域と一体になった検討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同窓会やＰＴＡに関する業務の軽減や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3160" y="8099280"/>
            <a:ext cx="11655360" cy="19400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05840" y="859932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29360" y="812160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113600" y="9356760"/>
            <a:ext cx="560376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468680"/>
            <a:ext cx="402408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有給休暇や特別休暇の積極的な取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土日等の部活動指導に対する振替取得率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メンタルヘルスセミナーへの積極的参加と研修の共有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ノー残業デーへの組織的取組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鈴木　広樹</cp:lastModifiedBy>
  <cp:lastPrinted>2023-04-25T23:40:14Z</cp:lastPrinted>
  <dcterms:modified xsi:type="dcterms:W3CDTF">2023-04-26T03:03:59Z</dcterms:modified>
  <cp:revision>965</cp:revision>
  <dc:subject/>
  <dc:title>スライド 1</dc:title>
</cp:coreProperties>
</file>