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39B2-3287-42AB-9F0C-C4189B1956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4B14-C18C-464A-86B1-8A64D2379D0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4312C-2C52-4C93-9225-F5E16215C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4CC2-4C36-4DDD-9975-DC1F4070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33AE2-86AE-402E-B27E-450230938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98C77-DBC0-4681-80D9-86B1AEDD6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B5253-548E-4EA4-BEC2-AF332FCA3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FBB4-8695-4683-BFD6-B1A29CC2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CE287-8041-4668-908D-DE73A10B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85CAE-60E2-4FC8-BFAB-F445BB2A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6DD2F-2F18-4F86-AEDB-AAC76B801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AAE6-65EB-421F-A802-BC9B9C93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3499-CFD1-4957-AE1C-0E29884C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AE19-EA3C-4CCE-AF1D-BE70B2071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034A-1206-46EC-92B7-8F2FAD4B475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未来のために、教職員一人ひとりがいきいきと働ける職場への改革を推進しよう～</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224000" y="11160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北上翔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０人、</a:t>
            </a:r>
            <a:r>
              <a:rPr b="0" lang="en-US" sz="1200" spc="-1" strike="noStrike">
                <a:solidFill>
                  <a:srgbClr val="000000"/>
                </a:solidFill>
                <a:latin typeface="Arial"/>
              </a:rPr>
              <a:t>R</a:t>
            </a:r>
            <a:r>
              <a:rPr b="0" lang="ja-JP" sz="1200" spc="-1" strike="noStrike">
                <a:solidFill>
                  <a:srgbClr val="000000"/>
                </a:solidFill>
                <a:latin typeface="Arial"/>
              </a:rPr>
              <a:t>４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4.9</a:t>
            </a:r>
            <a:r>
              <a:rPr b="0" lang="ja-JP" sz="1200" spc="-1" strike="noStrike">
                <a:solidFill>
                  <a:srgbClr val="000000"/>
                </a:solidFill>
                <a:latin typeface="Arial"/>
              </a:rPr>
              <a:t>　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3.6</a:t>
            </a:r>
            <a:r>
              <a:rPr b="0" lang="ja-JP" sz="1200" spc="-1" strike="noStrike">
                <a:solidFill>
                  <a:srgbClr val="000000"/>
                </a:solidFill>
                <a:latin typeface="Arial"/>
              </a:rPr>
              <a:t>　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特定の部活動を担当する教職員の長時間勤務が目立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業務において特定の教職員に業務が集中している時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ロナ禍を乗り越え、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06300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〇月●日　●●学校長　●●●●</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76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引き続き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標を達成するよう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分掌・学年・教科毎に業務の偏りの見直しと改善点を見いだし、コミュニケーシ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ンを図りながら効率的に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健康への意識と仕事へのやりがいを感じながら、チームと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業務に取り組んで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と教職員及び教職員同士のコミュニケーションが良好に図られ、話しや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職場の雰囲気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計画的な遂行と偏りの見直しにより、楽しく、効率良く業務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意識があり、生活にゆとりや満足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4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内での会議・諸行事等の実施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時退勤日（か・えるの日）の日数を個々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について、週１日以上（年間平均週２日）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養日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等に業務に従事した際の、代休および振替の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得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内の役割分担を見直し、負担の偏り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支援システムの有効活用により、成績処理業務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classi</a:t>
            </a:r>
            <a:r>
              <a:rPr b="0" lang="ja-JP" sz="1200" spc="-1" strike="noStrike">
                <a:solidFill>
                  <a:srgbClr val="000000"/>
                </a:solidFill>
                <a:latin typeface="Arial"/>
              </a:rPr>
              <a:t>を導入し、授業・課題配信を行い業務軽減を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ます。</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解いただけるよう</a:t>
            </a:r>
            <a:r>
              <a:rPr b="0" lang="en-US" sz="1200" spc="-1" strike="noStrike">
                <a:solidFill>
                  <a:srgbClr val="000000"/>
                </a:solidFill>
                <a:latin typeface="Arial"/>
              </a:rPr>
              <a:t>PTA</a:t>
            </a:r>
            <a:r>
              <a:rPr b="0" lang="ja-JP" sz="1200" spc="-1" strike="noStrike">
                <a:solidFill>
                  <a:srgbClr val="000000"/>
                </a:solidFill>
                <a:latin typeface="Arial"/>
              </a:rPr>
              <a:t>総会などの機会を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については、外部指導者の協力をいただきながら取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や団体から依頼されるイベント等への参加に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いて、再検討と精選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委員の提言を踏まえ、学校現場への地域人材の積極的な導入を進めるとともに、コミュニティ・ス</a:t>
            </a:r>
            <a:r>
              <a:rPr b="0" lang="en-US" sz="1200" spc="-1" strike="noStrike">
                <a:solidFill>
                  <a:srgbClr val="000000"/>
                </a:solidFill>
                <a:latin typeface="Arial"/>
              </a:rPr>
              <a:t> </a:t>
            </a:r>
            <a:r>
              <a:rPr b="0" lang="ja-JP" sz="1200" spc="-1" strike="noStrike">
                <a:solidFill>
                  <a:srgbClr val="000000"/>
                </a:solidFill>
                <a:latin typeface="Arial"/>
              </a:rPr>
              <a:t>クールへの推進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64360" y="8067600"/>
            <a:ext cx="5556240" cy="3682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Rectangle 70"/>
          <p:cNvSpPr/>
          <p:nvPr/>
        </p:nvSpPr>
        <p:spPr>
          <a:xfrm>
            <a:off x="1098720" y="5294160"/>
            <a:ext cx="3929040" cy="2291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心身に不安を抱える教職員の早期把握と支援を</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行い、早期の解決を図り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管理職による定期的な個人面談を実施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タイムカードによる勤務時間の把握と勤務記録簿</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から長時間勤務への予防に向けた声がけを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管理職が、計画的な休暇取得について積極的に</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声掛けを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長期休業中の連続した休暇取得を推進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学校閉庁日の有効活用）。</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3-05-01T08:18:49Z</cp:lastPrinted>
  <dcterms:modified xsi:type="dcterms:W3CDTF">2023-05-08T01:39:45Z</dcterms:modified>
  <cp:revision>963</cp:revision>
  <dc:subject/>
  <dc:title>スライド 1</dc:title>
</cp:coreProperties>
</file>