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D336-9BC2-4B3D-8191-5B8947BDD0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6FCC-2F7E-4CFD-AA20-77A9B01B482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F8213-E98A-4B0A-AEAE-3881B0D23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F844F-05F6-4425-BB67-31732ECF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A5EB6-F0A4-4466-91AB-DA0ECEC20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5446A-31F3-4A45-BE37-6F5733BC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E843-2A28-4832-99DC-84707314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7A3E-87DD-4A06-B48B-83DDC3E7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A55D-33CD-48E7-87CD-9997123DC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C2C53-013C-4696-ADB5-7B12AF7C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C7AB-32AB-473F-9073-FC2F09CD5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4989-A9E5-4BA0-82DB-79DB3176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ABB0-4D94-4BA5-BDB7-462AF39F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B98C-191E-4932-9941-050A33F1C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2F59-5033-4CA8-89F4-8D67F895CFC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986472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杜陵高等学校教職員 働き方改革アクションプラン</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本校・定時制</a:t>
            </a:r>
            <a:r>
              <a:rPr b="0" lang="en-US"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熱意」・「誠意」・「創意」で明るく健康的な職場作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228680" y="1089000"/>
            <a:ext cx="1191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杜陵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の１カ月の全体の平均を</a:t>
            </a:r>
            <a:r>
              <a:rPr b="0" lang="en-US" sz="1200" spc="-1" strike="noStrike">
                <a:solidFill>
                  <a:srgbClr val="000000"/>
                </a:solidFill>
                <a:latin typeface="Arial"/>
              </a:rPr>
              <a:t>45</a:t>
            </a:r>
            <a:r>
              <a:rPr b="0" lang="ja-JP" sz="1200" spc="-1" strike="noStrike">
                <a:solidFill>
                  <a:srgbClr val="000000"/>
                </a:solidFill>
                <a:latin typeface="Arial"/>
              </a:rPr>
              <a:t>時間以内とする。また、年</a:t>
            </a:r>
            <a:r>
              <a:rPr b="0" lang="en-US" sz="1200" spc="-1" strike="noStrike">
                <a:solidFill>
                  <a:srgbClr val="000000"/>
                </a:solidFill>
                <a:latin typeface="Arial"/>
              </a:rPr>
              <a:t>360</a:t>
            </a:r>
            <a:r>
              <a:rPr b="0" lang="ja-JP" sz="1200" spc="-1" strike="noStrike">
                <a:solidFill>
                  <a:srgbClr val="000000"/>
                </a:solidFill>
                <a:latin typeface="Arial"/>
              </a:rPr>
              <a:t>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超える教職員をゼロにする。（</a:t>
            </a:r>
            <a:r>
              <a:rPr b="0" lang="en-US" sz="1200" spc="-1" strike="noStrike">
                <a:solidFill>
                  <a:srgbClr val="000000"/>
                </a:solidFill>
                <a:latin typeface="Arial"/>
              </a:rPr>
              <a:t>R4</a:t>
            </a:r>
            <a:r>
              <a:rPr b="0" lang="ja-JP" sz="1200" spc="-1" strike="noStrike">
                <a:solidFill>
                  <a:srgbClr val="000000"/>
                </a:solidFill>
                <a:latin typeface="Arial"/>
              </a:rPr>
              <a:t>平均４５時間超３人、年次取得平均</a:t>
            </a:r>
            <a:r>
              <a:rPr b="0" lang="en-US" sz="1200" spc="-1" strike="noStrike">
                <a:solidFill>
                  <a:srgbClr val="000000"/>
                </a:solidFill>
                <a:latin typeface="Arial"/>
              </a:rPr>
              <a:t>15.3</a:t>
            </a:r>
            <a:r>
              <a:rPr b="0" lang="ja-JP" sz="1200" spc="-1" strike="noStrike">
                <a:solidFill>
                  <a:srgbClr val="000000"/>
                </a:solidFill>
                <a:latin typeface="Arial"/>
              </a:rPr>
              <a:t>日）</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学校評価アンケートで「職員が自由に発言し、連携協力しながら課題解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取り組み、活気がある。」「授業の内容や指導方法が工夫され、充実した信頼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きるものである。」の回答が</a:t>
            </a:r>
            <a:r>
              <a:rPr b="0" lang="en-US" sz="1200" spc="-1" strike="noStrike">
                <a:solidFill>
                  <a:srgbClr val="000000"/>
                </a:solidFill>
                <a:latin typeface="Arial"/>
              </a:rPr>
              <a:t>4</a:t>
            </a:r>
            <a:r>
              <a:rPr b="0" lang="ja-JP" sz="1200" spc="-1" strike="noStrike">
                <a:solidFill>
                  <a:srgbClr val="000000"/>
                </a:solidFill>
                <a:latin typeface="Arial"/>
              </a:rPr>
              <a:t>点満点中３．２点以上の平均であ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夏季休暇の取得→</a:t>
            </a:r>
            <a:r>
              <a:rPr b="0" lang="en-US" sz="1200" spc="-1" strike="noStrike">
                <a:solidFill>
                  <a:srgbClr val="000000"/>
                </a:solidFill>
                <a:latin typeface="Arial"/>
              </a:rPr>
              <a:t>100</a:t>
            </a:r>
            <a:r>
              <a:rPr b="0" lang="ja-JP" sz="1200" spc="-1" strike="noStrike">
                <a:solidFill>
                  <a:srgbClr val="000000"/>
                </a:solidFill>
                <a:latin typeface="Arial"/>
              </a:rPr>
              <a:t>％　　年次休暇の取得→１日単位で５日以上</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２部担当の教員と３部担当の教員が併存しており多様な働き方となっ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外部機関とも連携しながら、多様な生徒一人一人に合わせたきめ細やかな教育を時間をかけて行っているため、教職員の時間的精神的な負担感が大きい。</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令和４年度、時間外在校等時間の月平均</a:t>
            </a:r>
            <a:r>
              <a:rPr b="0" lang="en-US" sz="1200" spc="-1" strike="noStrike">
                <a:solidFill>
                  <a:srgbClr val="000000"/>
                </a:solidFill>
                <a:latin typeface="Arial"/>
              </a:rPr>
              <a:t>80</a:t>
            </a:r>
            <a:r>
              <a:rPr b="0" lang="ja-JP" sz="1200" spc="-1" strike="noStrike">
                <a:solidFill>
                  <a:srgbClr val="000000"/>
                </a:solidFill>
                <a:latin typeface="Arial"/>
              </a:rPr>
              <a:t>時間を越える教員は年間０名であった。積極的に定時退庁を心がけている教職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85080" y="770724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杜陵高等学校長　三田正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します。</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校に勤務する先生方のモチベーションを高めます。　</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それぞれのライフワークバランスを意識して職務に取り組む一方で、本校の果たすべき役割を自覚し、自らの責務を果たし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目配り、気配りの行き届いたユニバーサル教育の実践によって、生徒個々の能力を引き出し、生徒は明るく学校生活を楽しんで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勤務状況や健康状態を把握して、個に応じて適切に対応することで、良好な職場環境を築い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校に勤務する教職員が、自分の得意分野を活かしながら学び続け、生徒に好影響を与える人間性を育むことによって、学校全体がよい空気に包ま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常的にこまめな情報交換を行うことによって、定例職　員会議等の会議が効率よく行われるように努め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終了時刻を決めてから会議に臨み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教職員が、軽減・廃止できる業務について積極的に提　案し、実現に結びつけ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業務のスクラップについてアイデアを出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業務や教材データの共有化を推進することに　より、業務の負担を減らし効率化を進め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期的に、学校における働き方の取組状況を振り返る　場を設定しています。（安全衛生委員会等）</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ホームページやメールを積極的に活用し、各種連絡事　項の周知をはかり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8208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en-US" sz="1200" spc="-1" strike="noStrike">
                <a:solidFill>
                  <a:srgbClr val="000000"/>
                </a:solidFill>
                <a:latin typeface="Arial"/>
              </a:rPr>
              <a:t>2</a:t>
            </a:r>
            <a:r>
              <a:rPr b="0" lang="ja-JP" sz="1200" spc="-1" strike="noStrike">
                <a:solidFill>
                  <a:srgbClr val="000000"/>
                </a:solidFill>
                <a:latin typeface="Arial"/>
              </a:rPr>
              <a:t>部と</a:t>
            </a:r>
            <a:r>
              <a:rPr b="0" lang="en-US" sz="1200" spc="-1" strike="noStrike">
                <a:solidFill>
                  <a:srgbClr val="000000"/>
                </a:solidFill>
                <a:latin typeface="Arial"/>
              </a:rPr>
              <a:t>3</a:t>
            </a:r>
            <a:r>
              <a:rPr b="0" lang="ja-JP" sz="1200" spc="-1" strike="noStrike">
                <a:solidFill>
                  <a:srgbClr val="000000"/>
                </a:solidFill>
                <a:latin typeface="Arial"/>
              </a:rPr>
              <a:t>部に所属する教職員が協力する業務と独　立する業務とを明確にして負担軽減を図り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t>
            </a:r>
            <a:r>
              <a:rPr b="0" lang="ja-JP" sz="1200" spc="-1" strike="noStrike">
                <a:solidFill>
                  <a:srgbClr val="000000"/>
                </a:solidFill>
                <a:latin typeface="Arial"/>
              </a:rPr>
              <a:t>や</a:t>
            </a:r>
            <a:r>
              <a:rPr b="0" lang="en-US" sz="1200" spc="-1" strike="noStrike">
                <a:solidFill>
                  <a:srgbClr val="000000"/>
                </a:solidFill>
                <a:latin typeface="Arial"/>
              </a:rPr>
              <a:t>SSW</a:t>
            </a:r>
            <a:r>
              <a:rPr b="0" lang="ja-JP" sz="1200" spc="-1" strike="noStrike">
                <a:solidFill>
                  <a:srgbClr val="000000"/>
                </a:solidFill>
                <a:latin typeface="Arial"/>
              </a:rPr>
              <a:t>、児童相談所、福祉施設など外部と連携して生徒を支援する体制を構築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起案文書の簡略化共有化を進め、文書処理業務の　負担を減ら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に向けた取組について、保護者の方に理　解いただけるようホームページ等で適宜周知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員の仕事ではないものを整理し、保護者や外部機　関に任せられる業務は積極的に任せ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教職員が時間を管理し、時間をかけずに効率を上　げる工夫を進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4752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0108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プランの時間外在校等時間縮減の取組みを確実に実施し、教職員の健康を確保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徒対応や保護者対応の仕方について研修し、心の健康が維持できるように改善を継続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健康診断の結果や心身の健康状態を把握し、配慮が必要な場合は積極的に対処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が</a:t>
            </a:r>
            <a:r>
              <a:rPr b="0" lang="en-US" sz="1200" spc="-1" strike="noStrike">
                <a:solidFill>
                  <a:srgbClr val="000000"/>
                </a:solidFill>
                <a:latin typeface="Arial"/>
              </a:rPr>
              <a:t>35</a:t>
            </a:r>
            <a:r>
              <a:rPr b="0" lang="ja-JP" sz="1200" spc="-1" strike="noStrike">
                <a:solidFill>
                  <a:srgbClr val="000000"/>
                </a:solidFill>
                <a:latin typeface="Arial"/>
              </a:rPr>
              <a:t>時間超となった教職員に対して、　当該時間を知らせるともに、健康確保の観点から、面談を実施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をよく観察し、適宜適切に声をかけ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相互の理解と心遣いに基づいた風通しのよい明るい　職員室文化を醸成し、メンタルヘルスを心掛け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pic>
        <p:nvPicPr>
          <p:cNvPr id="69" name="図 22" descr=""/>
          <p:cNvPicPr/>
          <p:nvPr/>
        </p:nvPicPr>
        <p:blipFill>
          <a:blip r:embed="rId1"/>
          <a:stretch/>
        </p:blipFill>
        <p:spPr>
          <a:xfrm>
            <a:off x="12290400" y="-22320"/>
            <a:ext cx="1073160" cy="1467000"/>
          </a:xfrm>
          <a:prstGeom prst="rect">
            <a:avLst/>
          </a:prstGeom>
          <a:ln w="0">
            <a:noFill/>
          </a:ln>
        </p:spPr>
      </p:pic>
      <p:sp>
        <p:nvSpPr>
          <p:cNvPr id="70" name="テキスト ボックス 23"/>
          <p:cNvSpPr/>
          <p:nvPr/>
        </p:nvSpPr>
        <p:spPr>
          <a:xfrm>
            <a:off x="11593440" y="612720"/>
            <a:ext cx="1003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創立</a:t>
            </a:r>
            <a:r>
              <a:rPr b="0" lang="en-US" sz="800" spc="-1" strike="noStrike">
                <a:solidFill>
                  <a:srgbClr val="000000"/>
                </a:solidFill>
                <a:latin typeface="Arial"/>
              </a:rPr>
              <a:t>100</a:t>
            </a:r>
            <a:r>
              <a:rPr b="0" lang="ja-JP" sz="800" spc="-1" strike="noStrike">
                <a:solidFill>
                  <a:srgbClr val="000000"/>
                </a:solidFill>
                <a:latin typeface="Arial"/>
              </a:rPr>
              <a:t>周年</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記念キャラクター</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Arial"/>
              </a:rPr>
              <a:t>とりょんちゃん</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田　正巳</cp:lastModifiedBy>
  <cp:lastPrinted>2021-05-11T05:05:06Z</cp:lastPrinted>
  <dcterms:modified xsi:type="dcterms:W3CDTF">2023-05-15T09:38:05Z</dcterms:modified>
  <cp:revision>967</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