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042F-BB96-47DD-984F-21B5BD41D7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E36C-8D82-4699-996D-F4601C3862E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4800" y="744480"/>
            <a:ext cx="5057640" cy="3727440"/>
          </a:xfrm>
          <a:prstGeom prst="rect">
            <a:avLst/>
          </a:prstGeom>
          <a:ln w="0">
            <a:noFill/>
          </a:ln>
        </p:spPr>
      </p:sp>
      <p:sp>
        <p:nvSpPr>
          <p:cNvPr id="71"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44C00-7406-4E18-B897-662A3FF6D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5338-5382-49D6-B0B8-00A095D2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16699-5D62-468D-8784-58F90A33D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69558-54B7-46CC-B00B-65CA1B20F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0E86-57D3-4BDB-9BA5-AA49E5B7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6B95-C348-412C-B40A-763CAC8FA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2A76-4C6E-44C9-BD14-D00DE54B6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C423-8573-4783-B474-82005C1A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CDF5-EE76-46E5-BE47-F4D0450C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ADD1-B584-4EB4-8624-B16A09636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F98F-57D3-4273-8D74-9909B816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6C96-3AA8-49B6-8FA7-E2FEAA637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C500-384C-46C5-9CF5-846651EC960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盛岡視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持続可能」なアクションを</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視覚支援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定量的現状</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岩手県教職員働き方改革プラン（</a:t>
            </a:r>
            <a:r>
              <a:rPr b="0" lang="en-US" sz="1200" spc="-1" strike="noStrike">
                <a:solidFill>
                  <a:srgbClr val="000000"/>
                </a:solidFill>
                <a:latin typeface="BIZ UDPゴシック"/>
                <a:ea typeface="BIZ UDPゴシック"/>
              </a:rPr>
              <a:t>2021</a:t>
            </a:r>
            <a:r>
              <a:rPr b="0" lang="ja-JP" sz="1200" spc="-1" strike="noStrike">
                <a:solidFill>
                  <a:srgbClr val="000000"/>
                </a:solidFill>
                <a:latin typeface="BIZ UDPゴシック"/>
                <a:ea typeface="BIZ UDPゴシック"/>
              </a:rPr>
              <a:t>～</a:t>
            </a:r>
            <a:r>
              <a:rPr b="0" lang="en-US" sz="1200" spc="-1" strike="noStrike">
                <a:solidFill>
                  <a:srgbClr val="000000"/>
                </a:solidFill>
                <a:latin typeface="BIZ UDPゴシック"/>
                <a:ea typeface="BIZ UDPゴシック"/>
              </a:rPr>
              <a:t>2023</a:t>
            </a:r>
            <a:r>
              <a:rPr b="0" lang="ja-JP" sz="1200" spc="-1" strike="noStrike">
                <a:solidFill>
                  <a:srgbClr val="000000"/>
                </a:solidFill>
                <a:latin typeface="BIZ UDPゴシック"/>
                <a:ea typeface="BIZ UDPゴシック"/>
              </a:rPr>
              <a:t>）」目標達成状況につい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〇</a:t>
            </a:r>
            <a:r>
              <a:rPr b="0" lang="en-US"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　「時間外在校等時間が月４５時間以上の者をゼロ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５名（計５０月）、</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２名（計４７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〇　「第３条第１項、年３６０時間超に該当した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８名、</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１名</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年次休暇の取得状況について（年間一人当たりの平均取得日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５．６日、</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６．５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定性的現状</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の意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施錠時間前に退勤するという意識が全教職員に徹底され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時間外勤務している職員が固定化され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量の偏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分掌、担当によって業務量が異なるという声があがっている。</a:t>
            </a:r>
            <a:endParaRPr b="0" lang="en-US" sz="1200" spc="-1" strike="noStrike">
              <a:solidFill>
                <a:srgbClr val="000000"/>
              </a:solidFill>
              <a:latin typeface="Arial"/>
            </a:endParaRPr>
          </a:p>
        </p:txBody>
      </p:sp>
      <p:sp>
        <p:nvSpPr>
          <p:cNvPr id="54" name="Rectangle 70"/>
          <p:cNvSpPr/>
          <p:nvPr/>
        </p:nvSpPr>
        <p:spPr>
          <a:xfrm>
            <a:off x="1041480" y="4908600"/>
            <a:ext cx="4024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91120" y="4908600"/>
            <a:ext cx="3997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1440" y="7707240"/>
            <a:ext cx="34560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盛岡視覚支援学校長　近藤　健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en-US" sz="1200" spc="-1" strike="noStrike">
                <a:solidFill>
                  <a:srgbClr val="000000"/>
                </a:solidFill>
                <a:latin typeface="BIZ UDPゴシック"/>
                <a:ea typeface="BIZ UDPゴシック"/>
              </a:rPr>
              <a:t>R5</a:t>
            </a:r>
            <a:r>
              <a:rPr b="1" lang="ja-JP" sz="1200" spc="-1" strike="noStrike">
                <a:solidFill>
                  <a:srgbClr val="000000"/>
                </a:solidFill>
                <a:latin typeface="BIZ UDPゴシック"/>
                <a:ea typeface="BIZ UDPゴシック"/>
              </a:rPr>
              <a:t>年度目標</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岩手県教職員働き方改革プラン（</a:t>
            </a:r>
            <a:r>
              <a:rPr b="0" lang="en-US" sz="1200" spc="-1" strike="noStrike">
                <a:solidFill>
                  <a:srgbClr val="000000"/>
                </a:solidFill>
                <a:latin typeface="BIZ UDPゴシック"/>
                <a:ea typeface="BIZ UDPゴシック"/>
              </a:rPr>
              <a:t>2021</a:t>
            </a:r>
            <a:r>
              <a:rPr b="0" lang="ja-JP" sz="1200" spc="-1" strike="noStrike">
                <a:solidFill>
                  <a:srgbClr val="000000"/>
                </a:solidFill>
                <a:latin typeface="BIZ UDPゴシック"/>
                <a:ea typeface="BIZ UDPゴシック"/>
              </a:rPr>
              <a:t>～</a:t>
            </a:r>
            <a:r>
              <a:rPr b="0" lang="en-US" sz="1200" spc="-1" strike="noStrike">
                <a:solidFill>
                  <a:srgbClr val="000000"/>
                </a:solidFill>
                <a:latin typeface="BIZ UDPゴシック"/>
                <a:ea typeface="BIZ UDPゴシック"/>
              </a:rPr>
              <a:t>2023</a:t>
            </a:r>
            <a:r>
              <a:rPr b="0" lang="ja-JP" sz="1200" spc="-1" strike="noStrike">
                <a:solidFill>
                  <a:srgbClr val="000000"/>
                </a:solidFill>
                <a:latin typeface="BIZ UDPゴシック"/>
                <a:ea typeface="BIZ UDPゴシック"/>
              </a:rPr>
              <a:t>）」に掲げる</a:t>
            </a:r>
            <a:r>
              <a:rPr b="0" lang="en-US" sz="1200" spc="-1" strike="noStrike">
                <a:solidFill>
                  <a:srgbClr val="000000"/>
                </a:solidFill>
                <a:latin typeface="BIZ UDPゴシック"/>
                <a:ea typeface="BIZ UDPゴシック"/>
              </a:rPr>
              <a:t>R5</a:t>
            </a:r>
            <a:r>
              <a:rPr b="0" lang="ja-JP" sz="1200" spc="-1" strike="noStrike">
                <a:solidFill>
                  <a:srgbClr val="000000"/>
                </a:solidFill>
                <a:latin typeface="BIZ UDPゴシック"/>
                <a:ea typeface="BIZ UDPゴシック"/>
              </a:rPr>
              <a:t>年度の目標を達成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研修や教材研究等に充てる時間を確保し、視覚障害教育に関する専門性、授業力の向上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目指す姿</a:t>
            </a: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　</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幼児児童生徒への質の高い教育を持続的に提供し得る観点から、働き方の見直しが図られ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改善、業務の平準化についてのアイデアを全職員で出し合っ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管理職が日頃から、教職員の心身の健康状態の把握に努め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が、進んで研修や教材研究に取り組んで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全職員が心身共に健康で、いきいきとやりがいをもって、業務にあた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69480" y="4910040"/>
            <a:ext cx="3735360" cy="37800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35140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オンラインの活用、資料の事前配付、終了時刻の明確化、進行の工夫等により、会議の効率化を進め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職員の意識改革を目的に、週に１度「定時退庁日」を設定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月の時間外在校等時間が４５時間を超えそうな教職員に対して、当該時間を知らせるとともに、業務の負担軽減など、対応を共に考え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行事等について、コロナ禍前に戻す必要があるかを精査し、内容の見直しを進め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材や各種資料等をデータ化し、共有することで業務の効率化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長期休業中に学校閉庁日を設定し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3402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の平準化のために必要となる分掌・組織、業務分担の見直しを行います。（年度末反省など）</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留守番電話を設定し、時間外の電話、来校者対応等を無く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が参加する、または企画する研修や会議について、オンライン等を適切に活用し、移動にかかる時間や身体的負担を軽減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働き方改革に向けた取組について、地域や保護者の方に理解いただけるよう、学校運営協議会等の場で周知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81080" y="8012160"/>
            <a:ext cx="1173816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4" name="正方形/長方形 12"/>
          <p:cNvSpPr/>
          <p:nvPr/>
        </p:nvSpPr>
        <p:spPr>
          <a:xfrm>
            <a:off x="712944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56360" y="9191520"/>
            <a:ext cx="5678640" cy="52884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41480" y="5346720"/>
            <a:ext cx="402408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働き方改革プランの時間外在校時間縮減の取組を確実に実施し、教職員の健康を確保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管理職が、定時退庁及び心身のリフレッシュについて積極的に声掛けを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衛生委員会（拡大衛生委員会）を毎月実施し、職員の健康管理についての情報共有及び、意識化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健康相談事業等、職員の状況に応じ、共済保健事業についての活用を促進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警備会社による施錠時刻を超えた勤務をしないことをこれまでどおり継続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休暇の取りやすい職場環境づくりに努め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graphicFrame>
        <p:nvGraphicFramePr>
          <p:cNvPr id="68"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淵　健</cp:lastModifiedBy>
  <cp:lastPrinted>2023-04-27T02:45:30Z</cp:lastPrinted>
  <dcterms:modified xsi:type="dcterms:W3CDTF">2023-05-06T07:31:59Z</dcterms:modified>
  <cp:revision>972</cp:revision>
  <dc:subject/>
  <dc:title>スライド 1</dc:title>
</cp:coreProperties>
</file>