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2A12-26B2-49F8-B608-FC64C43FB4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66A2-2639-4CF5-8387-B161351ADFC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BE57C-A446-43B3-93B5-C95004069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E68D-DD32-49E8-99F8-482BA7B40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65BCD-0FCC-473C-AC01-82175A4A7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26879-FE95-43E8-87E4-DE3D0BB1E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97CFE-545C-4D5E-B68A-B9EC50D91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FA84F-7F88-4F3B-8F9F-9CE80E4A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8802-ACF5-4CBE-B2D0-EA93AAA98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BD75-6A9A-4D12-A0FA-0F108A72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6BF2-DE5D-4741-A0F6-5F34CE2B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20B9-0F02-402A-A381-1D6E6280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1086-9413-4405-9A98-84D45282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C70C-1B36-4A04-B428-2EBB5DCAD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C0FE-C3E1-499B-93B0-0D6A54D87E4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青松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瞳　明るく　生き生きと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青松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児童生徒の障がいや精神疾患等に起因する言動への対応により、教職員への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負担が大き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児童生徒の障がいの状況から、個別に医療・福祉との連携による組織的対応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が欠かせないため、支援会議等の頻度が高く、精神的にも時間的に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への負担が大き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での超過勤務時間は多くないが、学級や授業の担当教員・主事主任等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部の教職員が他の教職員に比べ恒常的に業務を担っている傾向があ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32920" y="7705800"/>
            <a:ext cx="4484520" cy="349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　日　盛岡青松支援学校長　青栁　禎久</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５年度目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以上の超過勤務を行う教職員→０％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日単位で５日少なくとも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する教職員→</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健康でいきいきと業務を行っている」と実感する教職員→</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指す姿＞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特別支援教育への専門性をもち、「自信」と「やる気」を感じな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がら業務に取り組んでいる学校。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ュニケーションを大切にし、全教職員が一丸となって「チーム盛岡青松」と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協働す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事、会議、打合せ等を「児童生徒のために必要か」と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視点で見直し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については終了時間を明記します。また、会議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のため日頃の情報交換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どのような業務でも基本的に複数担当とすることで、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偏りを見直し、業務分担について改善を心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意識付けのため、週に１度定時退庁日を設け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内における新型コロナウイルス感染症５類移行後の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対応について、児童生徒の安全を確保しながら感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症対策の精選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運営協議会の導入を通じて、関係諸機関との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協力のもと、教職員が児童生徒の教育活動に専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53200" y="809316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定期的に教職員への働きかけを行い、休暇取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しやすい職場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衛生委員会を効果的に活用し、教職員の健康管理に関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情報提供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に積極的に声を掛け、業務についての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や、個人的な悩みなど話を聞き、風通しの良い職場づ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を心掛け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青栁　禎久</cp:lastModifiedBy>
  <cp:lastPrinted>2023-05-16T05:00:20Z</cp:lastPrinted>
  <dcterms:modified xsi:type="dcterms:W3CDTF">2023-05-18T03:09:13Z</dcterms:modified>
  <cp:revision>965</cp:revision>
  <dc:subject/>
  <dc:title>スライド 1</dc:title>
</cp:coreProperties>
</file>