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188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9000"/>
            <a:ext cx="5389560" cy="44434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728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728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A8725-AE48-4CA0-A9E4-9A28A319E9F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16360" y="937728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C5C1D-7A20-4413-A778-2C1532B3435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857160" y="739800"/>
            <a:ext cx="5021280" cy="3701880"/>
          </a:xfrm>
          <a:prstGeom prst="rect">
            <a:avLst/>
          </a:prstGeom>
          <a:ln w="0">
            <a:noFill/>
          </a:ln>
        </p:spPr>
      </p:sp>
      <p:sp>
        <p:nvSpPr>
          <p:cNvPr id="71" name="PlaceHolder 2"/>
          <p:cNvSpPr>
            <a:spLocks noGrp="1"/>
          </p:cNvSpPr>
          <p:nvPr>
            <p:ph type="body"/>
          </p:nvPr>
        </p:nvSpPr>
        <p:spPr>
          <a:xfrm>
            <a:off x="672840" y="4689000"/>
            <a:ext cx="5389560" cy="44434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3A080-FB94-4D15-A301-156F490E0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AD012-6F44-4B74-9EFA-7FAE10FD3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88529-9C46-421C-9698-DA3CF3624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18968-1987-42E3-8D18-5CF4B1E3E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EC67A-D628-4925-A962-AE45D974C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C9EE6-235B-4DD8-9CFC-EF4014B13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67334-A6F0-400C-A8BB-AE1C4B449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F15CC-4A94-4508-9B06-33966BF42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5516B-3A00-4330-8840-CFE4FECFC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BD8E3-7C95-42BE-9DD8-F15124EDA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8A241-8616-4FCF-BF3A-A5609F41E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8B880-E167-4E03-B7F6-9979208B4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9661C-1B1C-4F8F-82DE-010C1CD8B28C}"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54160"/>
            <a:ext cx="11449080" cy="70452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endParaRPr b="0" lang="en-US" sz="2400" spc="-1" strike="noStrike">
              <a:solidFill>
                <a:srgbClr val="000000"/>
              </a:solidFill>
              <a:latin typeface="Arial"/>
            </a:endParaRPr>
          </a:p>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岩手県立水沢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endParaRPr b="0" lang="en-US" sz="24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水沢学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教職員は生徒一人一人の伸長を期して真摯に向き合い指導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部活動は、週１日以上の休養日設定が徹底されているが、平日の場合が多く、他業務により定時に退庁できない場合が多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部活動や学校行事、進学や生徒指導等の業務によって多忙感が増幅したり、十分な教材研究が出来ない場合があ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ロナ対応自体は軽減されたが、制限・縮小されていた行事等が従来の形に戻り、業務が増える見込みであ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9063000" y="770724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１５日　岩手県立水沢高等学校長　寒河江　和広</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5</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月</a:t>
            </a:r>
            <a:r>
              <a:rPr b="0" lang="en-US" sz="1400" spc="-1" strike="noStrike">
                <a:solidFill>
                  <a:srgbClr val="000000"/>
                </a:solidFill>
                <a:latin typeface="Arial"/>
              </a:rPr>
              <a:t>80</a:t>
            </a:r>
            <a:r>
              <a:rPr b="0" lang="ja-JP" sz="1400" spc="-1" strike="noStrike">
                <a:solidFill>
                  <a:srgbClr val="000000"/>
                </a:solidFill>
                <a:latin typeface="Arial"/>
              </a:rPr>
              <a:t>時間以上の時間外勤務に該当する教職員数を前年度より減少させ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月に１回以上の定時退勤を行う教職員の割合を</a:t>
            </a:r>
            <a:r>
              <a:rPr b="0" lang="en-US" sz="1400" spc="-1" strike="noStrike">
                <a:solidFill>
                  <a:srgbClr val="000000"/>
                </a:solidFill>
                <a:latin typeface="Arial"/>
              </a:rPr>
              <a:t>100</a:t>
            </a:r>
            <a:r>
              <a:rPr b="0" lang="ja-JP" sz="1400" spc="-1" strike="noStrike">
                <a:solidFill>
                  <a:srgbClr val="000000"/>
                </a:solidFill>
                <a:latin typeface="Arial"/>
              </a:rPr>
              <a:t>％とす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400" spc="-1" strike="noStrike">
                <a:solidFill>
                  <a:srgbClr val="000000"/>
                </a:solidFill>
                <a:latin typeface="Arial"/>
              </a:rPr>
              <a:t>教職員一人一人が多様な生徒と向き合う十分な時間を確保しながら、健康で生き生きと業務に携わ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教職員は勤務時間を意識した働き方を進め、長時間勤務を縮減して　　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教職員は授業準備の時間を十分に確保でき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管理職が日頃から教職員に対し、メリハリのある勤務形態となるよう喚起を行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804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管理職や各分掌から、業務の平準化について積極的に提案し、個人に過重な負荷がかからないようにし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重複業務の削減や行事の精選等について検討し、業務の効率化を進め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グループウェアの活用や職員会議のペーパーレス化等、ＩＣＴを活用した業務を推進します。</a:t>
            </a:r>
            <a:endParaRPr b="0" lang="en-US" sz="1400" spc="-1" strike="noStrike">
              <a:solidFill>
                <a:srgbClr val="000000"/>
              </a:solidFill>
              <a:latin typeface="Arial"/>
            </a:endParaRPr>
          </a:p>
        </p:txBody>
      </p:sp>
      <p:sp>
        <p:nvSpPr>
          <p:cNvPr id="62" name="Rectangle 70"/>
          <p:cNvSpPr/>
          <p:nvPr/>
        </p:nvSpPr>
        <p:spPr>
          <a:xfrm>
            <a:off x="9059760" y="52880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勤務時間外における外部からの電話について留守番電話対応を継続し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校の「部活動に係る活動方針」に沿った活動を実践し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保護者や地域と一体となって、生徒指導・学習指導・進路指導・安全指導等の取組について検討します。</a:t>
            </a:r>
            <a:endParaRPr b="0" lang="en-US" sz="1400" spc="-1" strike="noStrike">
              <a:solidFill>
                <a:srgbClr val="000000"/>
              </a:solidFill>
              <a:latin typeface="Arial"/>
            </a:endParaRPr>
          </a:p>
        </p:txBody>
      </p:sp>
      <p:sp>
        <p:nvSpPr>
          <p:cNvPr id="63"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7211880" y="8085240"/>
            <a:ext cx="561528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7" name="Rectangle 70"/>
          <p:cNvSpPr/>
          <p:nvPr/>
        </p:nvSpPr>
        <p:spPr>
          <a:xfrm>
            <a:off x="1050840" y="5288040"/>
            <a:ext cx="402444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教職員が自らの時間外勤務時間を正確に把握し、超勤縮減に努め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管理職が、教職員の心と体の健康保持のため積極的に声掛けをし、健康状態の把握に努め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校閉庁日をお盆の時期、及び年末年始に設定します。</a:t>
            </a:r>
            <a:endParaRPr b="0" lang="en-US" sz="1400" spc="-1" strike="noStrike">
              <a:solidFill>
                <a:srgbClr val="000000"/>
              </a:solidFill>
              <a:latin typeface="Arial"/>
            </a:endParaRPr>
          </a:p>
        </p:txBody>
      </p:sp>
      <p:sp>
        <p:nvSpPr>
          <p:cNvPr id="68"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菊地　満</cp:lastModifiedBy>
  <cp:lastPrinted>2023-05-11T07:35:47Z</cp:lastPrinted>
  <dcterms:modified xsi:type="dcterms:W3CDTF">2023-05-15T01:17:21Z</dcterms:modified>
  <cp:revision>960</cp:revision>
  <dc:subject/>
  <dc:title>スライド 1</dc:title>
</cp:coreProperties>
</file>