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5920"/>
            <a:ext cx="5057640" cy="37256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E007-50F2-4103-8053-69B35EA429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395D-552F-4073-B5EE-12FEB6805DE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4800" y="746280"/>
            <a:ext cx="5057640" cy="3725640"/>
          </a:xfrm>
          <a:prstGeom prst="rect">
            <a:avLst/>
          </a:prstGeom>
          <a:ln w="0">
            <a:noFill/>
          </a:ln>
        </p:spPr>
      </p:sp>
      <p:sp>
        <p:nvSpPr>
          <p:cNvPr id="7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BA78B-DE3D-4CA8-9F6D-05653EA00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C6DB9-93CB-4F3B-AD01-32BD94307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7B22C-E9D8-4F3B-A062-EA38BE44C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F5680-3D93-415C-8551-1412E545E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E3194-6D1C-4743-9BDC-EFCDF3F23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8BC80-4F8F-4824-98E6-50AC5381B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B77A7-DADF-43DA-9226-A69893CE9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B723E-19B3-4F25-BACD-D55B42E71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01FB8-8C93-4A37-B4D0-21BCE63D9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9F7DC-A856-493D-BEAD-F29118768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9E43D-4818-4B04-9E9E-D257D6FCE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967CB-E9A2-41C8-A4E4-CB71E2DB5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5E4D-39A4-45EF-8958-D8F0775C4B3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沼宮内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lang="ja-JP" sz="2000" spc="-1" strike="noStrike">
                <a:solidFill>
                  <a:srgbClr val="7f7f7f"/>
                </a:solidFill>
                <a:latin typeface="HGS創英角ｺﾞｼｯｸUB"/>
                <a:ea typeface="HGS創英角ｺﾞｼｯｸUB"/>
              </a:rPr>
              <a:t>働きがいを感じ、ワークライフバランスがとれている職場の実現</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週休日の部活動従事時間を除く）が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を超える教職員→ゼ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勤務が月</a:t>
            </a:r>
            <a:r>
              <a:rPr b="0" lang="en-US" sz="1200" spc="-1" strike="noStrike">
                <a:solidFill>
                  <a:srgbClr val="000000"/>
                </a:solidFill>
                <a:latin typeface="ＭＳ Ｐゴシック"/>
              </a:rPr>
              <a:t>60</a:t>
            </a:r>
            <a:r>
              <a:rPr b="0" lang="ja-JP" sz="1200" spc="-1" strike="noStrike">
                <a:solidFill>
                  <a:srgbClr val="000000"/>
                </a:solidFill>
                <a:latin typeface="ＭＳ Ｐゴシック"/>
              </a:rPr>
              <a:t>時間を超える教職員→できるだけ当該の月に、</a:t>
            </a:r>
            <a:r>
              <a:rPr b="0" lang="en-US" sz="1200" spc="-1" strike="noStrike">
                <a:solidFill>
                  <a:srgbClr val="000000"/>
                </a:solidFill>
                <a:latin typeface="ＭＳ Ｐゴシック"/>
              </a:rPr>
              <a:t>60</a:t>
            </a:r>
            <a:r>
              <a:rPr b="0" lang="ja-JP" sz="1200" spc="-1" strike="noStrike">
                <a:solidFill>
                  <a:srgbClr val="000000"/>
                </a:solidFill>
                <a:latin typeface="ＭＳ Ｐゴシック"/>
              </a:rPr>
              <a:t>時間を超過した時間以上の振替あるいは年次休暇を取得し、休養に努め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１日単位の年次休暇を５日以上取得する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沼宮内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勤務の月平均時間は２４時間程度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大会や学校行事などで、一部教職員に業務が 集中している時期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年次休暇は、比較的取得しやすい環境にある。（他の教職員の理解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の見直しや改善についての取組・改善していると回答した教職員は９４％。</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数が少ないため、教職員の業務内容が多岐にわた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１９日　沼宮内高等学校長　菊池　省治</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8172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本校の生徒１人ひとりがいきいきと学校生活を送り成長するために、教職員が心身ともに健康な状態で生徒に向き合うことができ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に関しての合意形成のプロセスを明確にし、教職員が一体となって遂行することで、多忙感を解消するとともに達成感が得られ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個々の教職員が適切なワークライフバランスを維持することにより、業務を推進し生徒に向き合う活力にあふれる心身の状態を保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や同僚に気軽に相談や提案ができるような職場環境であ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の解消に向け、正確な勤務実態の把握に努めて問題点を明らかにし、解消の方策を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は校内分掌の適切な配置を行い、各主任と緊密に連携し、業務分担を適切に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全体及び分掌内で情報共有や合意形成を丁寧に行い、一致して業務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本来の業務に専念できるよう、</a:t>
            </a:r>
            <a:r>
              <a:rPr b="0" lang="en-US" sz="1200" spc="-1" strike="noStrike">
                <a:solidFill>
                  <a:srgbClr val="000000"/>
                </a:solidFill>
                <a:latin typeface="Arial"/>
              </a:rPr>
              <a:t>PTA</a:t>
            </a:r>
            <a:r>
              <a:rPr b="0" lang="ja-JP" sz="1200" spc="-1" strike="noStrike">
                <a:solidFill>
                  <a:srgbClr val="000000"/>
                </a:solidFill>
                <a:latin typeface="Arial"/>
              </a:rPr>
              <a:t>や連携先（役場）等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員の配置の積極的な活用を進めて顧問の負担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不調を感じた場合は、軽微な段階で適切な対応を取ることを常日頃から推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振替や年次休暇等を活用できる環境を整備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種検診やサポート事業を周知し、活用を勧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個人の健康確保・自己管理が、他の教職員の負担増の防止や生徒指導の充実につながり、最終的に学校運営の成否に関わるという意識を持ち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横坂　さくら</cp:lastModifiedBy>
  <cp:lastPrinted>2023-05-11T05:14:03Z</cp:lastPrinted>
  <dcterms:modified xsi:type="dcterms:W3CDTF">2023-05-11T09:16:22Z</dcterms:modified>
  <cp:revision>957</cp:revision>
  <dc:subject/>
  <dc:title>スライド 1</dc:title>
</cp:coreProperties>
</file>