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B228-C940-4C99-96DD-D37277039B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558E-9C4B-43F2-B344-4BC15C1BFA1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AB3-59F2-4C83-97FC-EA8073C4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C59-49BE-4B42-B7DC-0C09C2D2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A03-A9BB-45C7-8DCA-0D2A8CDB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D22-26BA-4E0C-8CF1-457847DA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195-9CA4-4C5A-A996-0D368A1E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4A7-30D7-467E-951E-FB3035CF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70E-1D95-4B0B-AD5D-F5A9FB62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ADB-1B96-4161-885E-8D5B9B5C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272-77C5-42E2-ABDD-8668210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66A-339A-4FFB-87BA-B825D12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316-9365-49F4-9D78-5DE7257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9F5-844C-4903-8161-D07AC83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BF1-7B50-4C3B-AE4C-485518A2703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120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紫波総合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質の高い教育の持続的提供のために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紫波総合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グループ化 5"/>
          <p:cNvGrpSpPr/>
          <p:nvPr/>
        </p:nvGrpSpPr>
        <p:grpSpPr>
          <a:xfrm>
            <a:off x="1079640" y="1457280"/>
            <a:ext cx="5545080" cy="2901960"/>
            <a:chOff x="1079640" y="1457280"/>
            <a:chExt cx="5545080" cy="2901960"/>
          </a:xfrm>
        </p:grpSpPr>
        <p:sp>
          <p:nvSpPr>
            <p:cNvPr id="52" name="Rectangle 70"/>
            <p:cNvSpPr/>
            <p:nvPr/>
          </p:nvSpPr>
          <p:spPr>
            <a:xfrm>
              <a:off x="1079640" y="1457280"/>
              <a:ext cx="5545080" cy="3999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１　現　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0"/>
            <p:cNvSpPr/>
            <p:nvPr/>
          </p:nvSpPr>
          <p:spPr>
            <a:xfrm>
              <a:off x="1079640" y="1871640"/>
              <a:ext cx="5545080" cy="2487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時間外在校等時間（週休日の部活動指導従事時間を除く。）が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時間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者の割合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2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1.9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2.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6.8%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：３人 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時間外在校等時間（週休日の部活動指導従事時間を除く。）が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6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時間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者の割合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2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4.7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00h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超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6.3%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4.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：２人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健康管理区分がＣ１以下の者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50.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Ｒ４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50.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 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正方形/長方形 2"/>
          <p:cNvSpPr/>
          <p:nvPr/>
        </p:nvSpPr>
        <p:spPr>
          <a:xfrm>
            <a:off x="7888320" y="7426440"/>
            <a:ext cx="491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５年５月１日　紫波総合高等学校長　松田　隆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4"/>
          <p:cNvGrpSpPr/>
          <p:nvPr/>
        </p:nvGrpSpPr>
        <p:grpSpPr>
          <a:xfrm>
            <a:off x="7215120" y="1432080"/>
            <a:ext cx="5616720" cy="2927160"/>
            <a:chOff x="7215120" y="1432080"/>
            <a:chExt cx="5616720" cy="2927160"/>
          </a:xfrm>
        </p:grpSpPr>
        <p:sp>
          <p:nvSpPr>
            <p:cNvPr id="56" name="Rectangle 70"/>
            <p:cNvSpPr/>
            <p:nvPr/>
          </p:nvSpPr>
          <p:spPr>
            <a:xfrm>
              <a:off x="7215120" y="1432080"/>
              <a:ext cx="5616720" cy="36324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２　目標・目指す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0"/>
            <p:cNvSpPr/>
            <p:nvPr/>
          </p:nvSpPr>
          <p:spPr>
            <a:xfrm>
              <a:off x="7215120" y="1795320"/>
              <a:ext cx="5616720" cy="256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〈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Ｒ５年度目標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外在校等時間が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0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以上の者をゼロにする。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外在校等時間（週休日の部活動指導従事時間を除く。）が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超、年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6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超の者ゼロを目指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教職員へのアンケート調査で「肯定的実感」が前年度より向上することを目指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〈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目指す姿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教職員一人一人が、ワークライフバランス（仕事と家庭生活の調和）の実践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意識し、教育活動に取り組んでいる。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生徒指導や教科指導などの在り方について、計画的かつ効率的に仕事が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められるよう、日頃から教職員間で共有している。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主体的・対話的で深い学びの実現を目指し、教材研究を深める時間が教職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に十分に確保されている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グループ化 3"/>
          <p:cNvGrpSpPr/>
          <p:nvPr/>
        </p:nvGrpSpPr>
        <p:grpSpPr>
          <a:xfrm>
            <a:off x="1062000" y="4464000"/>
            <a:ext cx="11733120" cy="2857680"/>
            <a:chOff x="1062000" y="4464000"/>
            <a:chExt cx="11733120" cy="2857680"/>
          </a:xfrm>
        </p:grpSpPr>
        <p:sp>
          <p:nvSpPr>
            <p:cNvPr id="60" name="Rectangle 70"/>
            <p:cNvSpPr/>
            <p:nvPr/>
          </p:nvSpPr>
          <p:spPr>
            <a:xfrm>
              <a:off x="1062000" y="4464000"/>
              <a:ext cx="11728440" cy="4474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３　取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0"/>
            <p:cNvSpPr/>
            <p:nvPr/>
          </p:nvSpPr>
          <p:spPr>
            <a:xfrm>
              <a:off x="1062000" y="4897440"/>
              <a:ext cx="4024080" cy="4572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教職員の健康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0"/>
            <p:cNvSpPr/>
            <p:nvPr/>
          </p:nvSpPr>
          <p:spPr>
            <a:xfrm>
              <a:off x="5091120" y="4897440"/>
              <a:ext cx="3997080" cy="4572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における業務改善の推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0"/>
            <p:cNvSpPr/>
            <p:nvPr/>
          </p:nvSpPr>
          <p:spPr>
            <a:xfrm>
              <a:off x="9055080" y="4897440"/>
              <a:ext cx="3735360" cy="4474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及び教員が担う業務の明確化・適正化の推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0"/>
            <p:cNvSpPr/>
            <p:nvPr/>
          </p:nvSpPr>
          <p:spPr>
            <a:xfrm>
              <a:off x="1062000" y="5322960"/>
              <a:ext cx="4024080" cy="199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働き方改革プランの「心とからだの健康対策の取組」に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る保健指導制度等の周知徹底を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管理職が、計画的な休暇取得等について促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生活習慣病予防を踏まえ、食事、運動等に関する話題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供、早期発見・早期治療を念頭に健康診断等の積極的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受診を勧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グループ化 2"/>
            <p:cNvGrpSpPr/>
            <p:nvPr/>
          </p:nvGrpSpPr>
          <p:grpSpPr>
            <a:xfrm>
              <a:off x="5091120" y="5322960"/>
              <a:ext cx="7704000" cy="1998720"/>
              <a:chOff x="5091120" y="5322960"/>
              <a:chExt cx="7704000" cy="1998720"/>
            </a:xfrm>
          </p:grpSpPr>
          <p:sp>
            <p:nvSpPr>
              <p:cNvPr id="66" name="Rectangle 70"/>
              <p:cNvSpPr/>
              <p:nvPr/>
            </p:nvSpPr>
            <p:spPr>
              <a:xfrm>
                <a:off x="5091120" y="5322960"/>
                <a:ext cx="3963960" cy="1998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6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時間外勤務の縮減に向け、前例踏襲にとらわれること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く、各種見直しや分掌の統廃合などについて検討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労働安全推進モデル校の取組例を参考に、できること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ら業務の効率化を進め、ＰＤＣＡを徹底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70"/>
              <p:cNvSpPr/>
              <p:nvPr/>
            </p:nvSpPr>
            <p:spPr>
              <a:xfrm>
                <a:off x="9050400" y="5322960"/>
                <a:ext cx="3744720" cy="1998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6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部活動指導員の任用・配置を検討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学校閉庁日を設定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留守番電話等による時間外対応を推進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　（保護者への周知・理解促進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5128920" y="6440760"/>
                <a:ext cx="7661160" cy="88092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1080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Ｒ５取組　①月曜日はノー残業デー（か・えるの日）と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 　 ②会議の所要時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(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終了目標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)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を設定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　  ③月途中で時間外勤務時間を知らせ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　　④電話は、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7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時半以降「勤務時間外の留守応答」と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正方形/長方形 11"/>
          <p:cNvSpPr/>
          <p:nvPr/>
        </p:nvSpPr>
        <p:spPr>
          <a:xfrm>
            <a:off x="1109520" y="7819920"/>
            <a:ext cx="11738160" cy="1900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12"/>
          <p:cNvSpPr/>
          <p:nvPr/>
        </p:nvSpPr>
        <p:spPr>
          <a:xfrm>
            <a:off x="7091280" y="7896240"/>
            <a:ext cx="56134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491680" y="8308800"/>
          <a:ext cx="3095640" cy="67968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正方形/長方形 8"/>
          <p:cNvSpPr/>
          <p:nvPr/>
        </p:nvSpPr>
        <p:spPr>
          <a:xfrm>
            <a:off x="7032600" y="903924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松田　隆宏</cp:lastModifiedBy>
  <cp:lastPrinted>2023-04-28T03:28:26Z</cp:lastPrinted>
  <dcterms:modified xsi:type="dcterms:W3CDTF">2023-05-01T01:11:39Z</dcterms:modified>
  <cp:revision>973</cp:revision>
  <dc:subject/>
  <dc:title>スライド 1</dc:title>
</cp:coreProperties>
</file>