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AAA-11C8-42C4-81D5-BA2A1CD183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AB4-4165-4CA4-AE13-32D2AC18011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605-55D1-479A-8EB9-A9AF51C1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D62-1DAD-412B-B5BC-9FE976A7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756-7B25-408E-93A6-7EFCE7FB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930-88A7-439F-965D-6BB8B204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A61-4620-4401-9F12-7241598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978-295E-4518-8DD3-B7C0344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9F6-1DFC-46CA-BD02-42CFA259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F48-B00E-4BD6-B81E-59DA53E3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357-14F4-46CE-BFE7-DD0C7C91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1E4-3E2E-49FF-B2C7-8AE5B53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52E-B3E4-4E37-8F01-0B53172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174-5FE3-4D6C-88B1-F588246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E019-F381-4D08-A894-E771F256170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185840" y="16200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雫石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一人ひとりがやりがいを感じる風通しの良い職場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45464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雫石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12960"/>
            <a:ext cx="550836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   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  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現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新規事業の採択及び事業継続に伴い、業務量が年々増加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学級減に伴う定数減により、個々が担当する分掌業務が多岐にわた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町を含めた外部との連携による事業のため、業務が複雑化・多様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特定の職員に業務が偏重しないよう効率化が求めら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管理職の現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随時業務の効率化を図るための見直し等の対応に追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・退勤時刻を意識した働き方を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745480" y="7697880"/>
            <a:ext cx="4952880" cy="33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４月２７日　雫石高等学校長　佐々木佳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する（時間外在校時間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ゼロ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業務の効率化により、教職員の仕事に対するやりがい、熱量を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計画的に年次休暇を取得し、十分な休養が図られ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専門性を磨き、生き生きと業務に従事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相互が気兼ねなく相談することにより、お互いリスペクトできる明るい職場づ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別支援員やカウンセラーとの協働のもと、きめ細かな生活支援がなされ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余裕をもって生徒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40035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等、業務の適正化を図り、チームとしての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くり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機器を有効活用することにより、業務の効率化を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遂行においてはスクラップアンドビルドを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進め、業務精選に努め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簡素化や各校務分掌内の業務の見直しに取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の連携による業務について、役割分担を明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にし、業務内容の適正化を図るよう関係団体と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種行事については、地域の理解・協力を得て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参加の地域行事等について、学校の実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踏まえて精選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日の部活動については、部活動指導員の協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得ながら適切に活動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・振替休日等の取得を促進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を客観的に把握し、時間外在校縮減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対策等を講じ、勤務時間の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長時間勤務等により、疲労の蓄積やストレ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感じている教職員への面談を通して心と体の健康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態の把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が生き生きと業務に専念できる風通しの良い職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文彦</cp:lastModifiedBy>
  <cp:lastPrinted>2023-04-27T03:34:03Z</cp:lastPrinted>
  <dcterms:modified xsi:type="dcterms:W3CDTF">2023-04-27T06:56:55Z</dcterms:modified>
  <cp:revision>970</cp:revision>
  <dc:subject/>
  <dc:title>スライド 1</dc:title>
</cp:coreProperties>
</file>