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4120"/>
            <a:ext cx="505152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A323-2A21-4751-B9E7-0FB02FD0266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E142-A8D9-4F06-8A5F-BE13551C302C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73000" y="744480"/>
            <a:ext cx="5051520" cy="37213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B419-2861-4DB5-A203-64A5C43E6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97A1-1222-45DA-B081-A765DD71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2A5B-9226-41F3-8BA9-3CE0C8C5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91FC-E444-44F3-8BB5-D5052D5A3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8924-BF16-445C-9F56-FBAEB18F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E0B0-A08F-4F9A-8329-51D12083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4F3B-1890-4885-BA9C-28E6BF8B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4581-B8BC-4A40-BEAD-AE9986FD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9813-188B-4C64-B728-6A6D3154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2FAE-EE0E-4D96-880A-DABB0CD0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C00F-4651-4995-A17B-A46F95EF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4A4B-2EC0-49C9-A1D4-EBD5BC31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29CF-B476-46E5-B85D-5F56D4E47FD1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盛岡峰南高等支援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学年・学科・各部が連携して推進する「チーム峰南」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599160"/>
            <a:ext cx="7118640" cy="111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勤務時間外業務→一人あたり年間平均で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7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超過勤務時間年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上の職員→０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超過勤務時間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上の職員→０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年次休暇の取得日数→一人あたり年間平均取得日数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日以上、１日単位の年次取得５日以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毎週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回の定時退庁日設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192720"/>
            <a:ext cx="7129440" cy="40644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2"/>
          <p:cNvSpPr/>
          <p:nvPr/>
        </p:nvSpPr>
        <p:spPr>
          <a:xfrm>
            <a:off x="1079640" y="1101600"/>
            <a:ext cx="119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盛岡峰南高等支援学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県内唯一の専門学科が設置された高等支援学校であり、県内全域から生徒が集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ま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進路支援業務、課外活動（週休日における大会やそれに向けた練習、専門教科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学習で製作した製品の展示、販売対応等）、県内各圏域におけるＰＴＡ活動対応等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移動距離や対応回数、時間的負担も大き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関係各所の本校教育への関心が高く、学校見学や入学相談の依頼件数が多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本校の教育理念である「生きがいのある豊かな生活の実現」を目指し、各教職員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使命感を持って日常の業務を遂行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402912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5108400" y="402912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正方形/長方形 2"/>
          <p:cNvSpPr/>
          <p:nvPr/>
        </p:nvSpPr>
        <p:spPr>
          <a:xfrm>
            <a:off x="8064360" y="756144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令和５年５月１０日　盛岡峰南高等支援学校長　川﨑広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生徒が、学校に通うことが楽しいと感じることができる学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教職員が、達成感、有用感を感じ、教育の楽しさを実感しながら各学年、学科が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携して、業務を推進するチームとしての学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各教職員が自分のライフプラン、ミッションを意識化し業務を推進する学校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健全（健康・安心・安全）な学校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9072720" y="399240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5108400" y="4352760"/>
            <a:ext cx="3954600" cy="1695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業務が円滑に進むように、資料データの整理と見直し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行い、作成の簡略化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現状の校内業務のスクラップ＆ビルド等について随時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討し、より効果的な業務運営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業務の効率化につながるように、組織のあり方を検証しな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ら、必要な改変を視野に入れて業務を推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様々な事案の未然防止、適切な初期対応ができるよう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告・連絡・相談の徹底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9063000" y="4352760"/>
            <a:ext cx="3749760" cy="1695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本校が事務局を担当する他の支援学校が関わる諸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議等において、連絡調整等の効率化を図るために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学校間における連携協力の一層の充実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支援学校のセンター的機能に係る取組について、依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校や関係機関等のニーズを把握し、組織としての適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な対応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1079640" y="4352760"/>
            <a:ext cx="4019400" cy="1695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・勤務時間の正確な把握の取組を確実に実施し、業務の優先順位を見極めながら、長時間勤務の軽減に努め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・毎月の時間外在校等時間を各人に知らせ、時間外勤務状況を意識し、縮減に努め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・年間を通じた計画的な業務推進により、繁忙期の時間外勤務時間の縮減と、多忙感の低減に努め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・管理職が、教職員の健康管理について　積極的に面談や声掛けをするなど、メンタルヘルスを含めた健康状態の把握に努め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・衛生委員会等において、職場環境の在り方や健康保持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つ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いて意見交換を行い、職場環境の整備を図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7848720"/>
            <a:ext cx="11737800" cy="2016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正方形/長方形 12"/>
          <p:cNvSpPr/>
          <p:nvPr/>
        </p:nvSpPr>
        <p:spPr>
          <a:xfrm>
            <a:off x="7089840" y="791532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正方形/長方形 8"/>
          <p:cNvSpPr/>
          <p:nvPr/>
        </p:nvSpPr>
        <p:spPr>
          <a:xfrm>
            <a:off x="7089840" y="914400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0"/>
          <p:cNvSpPr/>
          <p:nvPr/>
        </p:nvSpPr>
        <p:spPr>
          <a:xfrm>
            <a:off x="1079640" y="366084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8348760" y="8404200"/>
          <a:ext cx="3095640" cy="681120"/>
        </p:xfrm>
        <a:graphic>
          <a:graphicData uri="http://schemas.openxmlformats.org/drawingml/2006/table">
            <a:tbl>
              <a:tblPr/>
              <a:tblGrid>
                <a:gridCol w="1066680"/>
                <a:gridCol w="20289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髙橋　奈津子</cp:lastModifiedBy>
  <cp:lastPrinted>2023-05-10T01:57:38Z</cp:lastPrinted>
  <dcterms:modified xsi:type="dcterms:W3CDTF">2023-05-11T00:43:08Z</dcterms:modified>
  <cp:revision>964</cp:revision>
  <dc:subject/>
  <dc:title>スライド 1</dc:title>
</cp:coreProperties>
</file>