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FAFC-BD5F-445B-9EF3-022BF7D2D1E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8358-220B-40E9-8D39-75F561D8A4A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1E6-BFBD-46FF-B5DF-AF8833E5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653-53A3-42D5-A6A0-7A28771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1CD-1FF4-45BF-A0C3-CD2425D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FAD-0188-41D1-814B-F7DA1A4E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008-4A73-4087-BE13-5C9DA924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254-98B4-484F-9519-AE7C931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097-6532-45C6-9ADB-F2A5597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39C-4564-4834-B1A1-6F89378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621-3CBE-4A27-A547-7EA358B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CE3-639E-4C4B-A892-1A7768F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B64-0876-4ED6-9B4E-7345DB0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0C7-D3EB-471D-ABC8-9A854F3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E77-F611-4950-A96B-8C05575D88F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15236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一関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で活き活きとした集団（組織）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一関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週休日等の部活動指導従事時間を除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主任や一部の担当者に業務が集中しないよう意識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新たな業務が発生した際、スクラップアンドビルドの視点を持って業務見直し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〇月●日　●●学校長　●●●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振替、代休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明るい気持ちで、やりがいを感じながら業務に取り組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意見交換（情報交換）しやすい組織作りと時間確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チームとして業務に当たる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家庭で過ごす時間やプライベートな時間を持つことができ、心身と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健康な日々を送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・効率化を図ります。資料の要約化や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明の短縮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効果に優先順位を付け、業務の削減や組織体制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net’s NE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及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36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業務の合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･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をはじめ、現場の職員からの業務改善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要望や取組を積極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等における、学校と家庭の役割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の理解と協力を得ながら分担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関係機関や学校運営協議会を含め、教員の負担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減に向けた業務の明確化･適正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健康診断の結果を把握し、受診が必要な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互いに休暇取得や振替しやすい組織・環境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（お盆・年末年始）の実施と連続した休暇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取得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はノー残業デーとし定時退庁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専門医への相談やメンタルヘルス研修への参加を促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秀明</cp:lastModifiedBy>
  <cp:lastPrinted>2023-05-07T01:48:55Z</cp:lastPrinted>
  <dcterms:modified xsi:type="dcterms:W3CDTF">2023-05-07T01:51:35Z</dcterms:modified>
  <cp:revision>955</cp:revision>
  <dc:subject/>
  <dc:title>スライド 1</dc:title>
</cp:coreProperties>
</file>