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7B8-BF26-47BE-8B3D-9F750D90BB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C51-3618-4DFA-A13F-FD589D79226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008-E8AF-404D-9925-A1524535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9D4-5A97-4F12-BC85-AB4B911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56A-E2D6-4CE9-802B-13F6840C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B0-2A50-4C06-89D9-50C71753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978-83D4-4F1E-AA0C-06BFCF5B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3A1-CBBC-4325-B786-B362C5A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4A7-E6CC-4AEB-9978-FFC1AD4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C22-F5B5-4566-AFEB-7F63438D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58A-B558-4B34-A311-6B29A88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200-6BAC-4D7B-8E8B-7C1B7FA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1C3-0ED2-4A7B-9251-2F5998C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3E2-5E89-455D-B318-44D2F1B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867D-44D4-44B4-A8E5-071BC66DC3F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盛岡みたけ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明るく・仲よく・たくましく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54080" y="453708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盛岡みたけ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本校２校舎、二戸分教室３校舎、奥中山校という他校舎間での情報共有を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う意識が教職員に周知されているが、連携の難しさと業務の複雑化が負担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業務の効率的な遂行の視点を持ち、各校舎間の連携がスムーズになるよ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業務見直し等 の対応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６月１日　盛岡みたけ支援学校長　工藤弘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教職員の専門性を高め、資質を向上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実情を適切に把握し、必要な業務・活動は何かという視点で積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に改善に取り組んで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改善について、教員から積極的に提案がな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ワーク・ライフ・バランスを確保し、健康でいきいきとや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がいをもって達成感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教職員に対し目を配り、声掛けや面談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同士がコミュニケーションをとりながら専門性を高め、互いに学び合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489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スクラップアンドビルドについて随時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各種計画の合理的遂行を積極的に提案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組織の在り方を検証しながら必要な改変を実施する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とにより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期的に、学校における働き方の取組状況を振り返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場を設定しています。（衛生委員会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行事や会議等については、安易にコロナ禍前に戻す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となく、教育において真に必要な観点から業務の見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他校舎間で学校フォルダ及びデスクネッツ等を活用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た情報共有と、ＩＣＴを活用しての効率的な業務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優先順位を明確にし、計画的に業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チームで協力・連携しながら業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間のコミュニケーションを図り、互いの考え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への取り組み方の相互理解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参加の地域行事等について、学校の実情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踏まえて精選等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489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の縮減への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組を確実に実施し、ワーク・ライフ・バランスの改善が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きるよう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閉庁日の設定、年次休暇や子育てと仕事の両立支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の制度を活用する等、各種休暇の取得について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員に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、教職員の状況に応じ、共済保健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業についての活用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真子</cp:lastModifiedBy>
  <cp:lastPrinted>2023-05-18T10:38:11Z</cp:lastPrinted>
  <dcterms:modified xsi:type="dcterms:W3CDTF">2023-05-22T23:11:15Z</dcterms:modified>
  <cp:revision>978</cp:revision>
  <dc:subject/>
  <dc:title>スライド 1</dc:title>
</cp:coreProperties>
</file>