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9D2D-7646-4559-93C6-D36023E9E49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4930-5805-44F7-A0E4-F27B681536A1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393C-4488-4F60-96E4-A9334310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1AA1-C338-481A-81C3-A9140A01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7A5E-9D3B-4E1E-BE5D-7CD5E783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31F8-7AA2-4CF6-9EDA-504AD497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7928-53A7-4E6E-B4F5-23AECA4A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8B5E-8FF0-40D9-BA17-3858ECB0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D4EC-223B-430B-9859-C57668E4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E2FF-7A19-417B-B8F8-96E3BB75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D36-4D90-42FC-A50D-DB078E1A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9180-9203-4239-B0A1-82E3E09E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1B9-A533-4AE1-87A0-D92A701B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1BF-8860-43D6-A404-088DD980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46D1-2EBB-4269-8AAA-75E42CCB6767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前沢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ワークライフバランスで働きがいと生きがいを！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46160" y="4529160"/>
            <a:ext cx="11728440" cy="37944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前沢高等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545080" cy="2617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量的現状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◆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、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者は０名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◆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４年度、教職員の時間外勤務時間の平均が２９時間を超え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一部職員は全体平均を大きく超え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◆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次休暇の取得状況について（年間一人当たりの平均取得日数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年度：１４．６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性的現状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時間外勤務をしている職員が固定化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遠距離通勤者がいて、時間外勤務時間だけで負担の状況を判断でき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場合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0840" y="4865760"/>
            <a:ext cx="4024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5081760" y="4870440"/>
            <a:ext cx="399708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8450280" y="770580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日　岩手県立前沢高等学校長　佐藤　文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440000"/>
            <a:ext cx="553572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795320"/>
            <a:ext cx="5535720" cy="2602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目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○　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者０名を継続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教職員の時間外勤務時間の年平均時間を昨年より最低１時間減ら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○　教職員の年次休暇取得平均日数を昨年より平均１日分増や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年度：１４．６日→１５．６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ひとりが、働きがいを感じながら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突然休暇を申請しても周りの職員が業務をカバーできる体制に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業務に関連して意見、アイデアを表明しやすい職場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学校組織がチームとしてまとまりがあり、進むべき方向性については共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した認識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657840" y="2236680"/>
            <a:ext cx="676440" cy="1908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59760" y="4878360"/>
            <a:ext cx="3735360" cy="37944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5075280" y="5288040"/>
            <a:ext cx="396396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改善を常に意識し、スクラップアンドビルドの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え方で臨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意味のない「前例踏襲」はや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に「効率」という観点を追求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59760" y="5288040"/>
            <a:ext cx="3745080" cy="23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運営協議会委員や外部の方の意見を取り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れて業務の適正化を図るよう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に関わることで、地域の協力を得られる可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性について模索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に向けた取組について、保護者や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域の方に理解いただけるよう情報発信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３年度実績　　　　　　　　　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7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2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53440" y="8510760"/>
          <a:ext cx="3095640" cy="68076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139160" y="8082000"/>
            <a:ext cx="5614920" cy="34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50840" y="5288040"/>
            <a:ext cx="402444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の勤務状況を常に注視し、健康を害すること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いよう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のメンタルヘルスにも注視していき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は、適切なところで声が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かっこ 2"/>
          <p:cNvSpPr/>
          <p:nvPr/>
        </p:nvSpPr>
        <p:spPr>
          <a:xfrm>
            <a:off x="1584360" y="9442440"/>
            <a:ext cx="4103640" cy="384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佐藤　文子</cp:lastModifiedBy>
  <cp:lastPrinted>2023-05-15T04:53:15Z</cp:lastPrinted>
  <dcterms:modified xsi:type="dcterms:W3CDTF">2023-05-15T04:53:22Z</dcterms:modified>
  <cp:revision>963</cp:revision>
  <dc:subject/>
  <dc:title>スライド 1</dc:title>
</cp:coreProperties>
</file>