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48040" cy="4986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7760" y="-360"/>
            <a:ext cx="2947680" cy="4986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7680" y="745920"/>
            <a:ext cx="5051160" cy="372420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38840"/>
            <a:ext cx="2948040" cy="4986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7760" y="9438840"/>
            <a:ext cx="2947680" cy="4986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2B39-C09F-4E4A-8B64-FDB2D509FD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7760" y="9439200"/>
            <a:ext cx="2947680" cy="4986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7AAE-E662-43D4-A240-FD48654451D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8040" y="746280"/>
            <a:ext cx="5051160" cy="372420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C572-6707-4979-8D2E-A392F7043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0F7A-84C7-4296-B586-A07F651E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59BD8-FEE7-4492-8C65-CC117CE09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88FC-5FE5-4841-84D4-F72DFCDCC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BE87-43A3-4B8F-9E3B-480E0D45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ED14-0EFE-4DDE-BF55-B28F7BD1D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4FD2C-ABA8-4EE5-8D08-3ECD768A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13D0-1D97-47BD-96A4-B743E883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8103-310A-4E16-ABC4-4A472226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678F-E203-4782-BB2A-C497196E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0DE9-8864-4B5C-B517-DEC0F42B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9474-D360-4199-A807-8264016BB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00AC-9265-4BBB-90D5-44FEDB849AA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55680" y="219240"/>
            <a:ext cx="11449080" cy="7110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花北青雲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　月１００時間以上の教職員　→　</a:t>
            </a:r>
            <a:r>
              <a:rPr b="0" lang="en-US" sz="1200" spc="-1" strike="noStrike">
                <a:solidFill>
                  <a:srgbClr val="000000"/>
                </a:solidFill>
                <a:latin typeface="ＭＳ Ｐゴシック"/>
              </a:rPr>
              <a:t>0</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に１回以上定時退庁を行う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８ｈ）以上の休暇取得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週休日又は休日に休養日を設定している部活動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閉庁日（夏季６日　冬季６日）→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38924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05408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花北青雲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41320"/>
            <a:ext cx="5545080" cy="172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よるが、月当たりの時間外勤務</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a:t>
            </a:r>
            <a:r>
              <a:rPr b="0" lang="ja-JP" sz="1200" spc="-1" strike="noStrike">
                <a:solidFill>
                  <a:srgbClr val="000000"/>
                </a:solidFill>
                <a:latin typeface="Arial"/>
              </a:rPr>
              <a:t>が複数名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退庁時間後も業務を続けている。仕事量の均一化は容易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に意欲的に取り組む生徒・職員が多いため、週休日及び休日の部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指導の時間が多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１回以上、週休日又は休日に部活動休養日を設定することが全教職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過去のデータや共有すべきデータの活用が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岩手県立花北青雲高等学校長　小松　了</a:t>
            </a:r>
            <a:endParaRPr b="0" lang="en-US" sz="1100" spc="-1" strike="noStrike">
              <a:solidFill>
                <a:srgbClr val="000000"/>
              </a:solidFill>
              <a:latin typeface="Arial"/>
            </a:endParaRPr>
          </a:p>
        </p:txBody>
      </p:sp>
      <p:sp>
        <p:nvSpPr>
          <p:cNvPr id="60" name="Rectangle 70"/>
          <p:cNvSpPr/>
          <p:nvPr/>
        </p:nvSpPr>
        <p:spPr>
          <a:xfrm>
            <a:off x="7272360" y="1403280"/>
            <a:ext cx="5535720" cy="36360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41320"/>
            <a:ext cx="5535720" cy="1721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R5</a:t>
            </a:r>
            <a:r>
              <a:rPr b="0" lang="ja-JP" sz="1200" spc="-1" strike="noStrike">
                <a:solidFill>
                  <a:srgbClr val="000000"/>
                </a:solidFill>
                <a:latin typeface="Arial"/>
              </a:rPr>
              <a:t>年度目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指す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や授業準備、部活動指導等に取り組み、心身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やりがいをもって生徒と向き合うことができる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休暇取得や定時退庁の声がけを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健康で業務にやりがいを感じ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プライベートな時間を意識し、教職員の長時間勤務が解消され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99040" y="4402080"/>
            <a:ext cx="39639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フォルダを活用し、考査問題や大会結果記録を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休養日を、月に１回以上は週休日に設定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また、活動結果を一覧表にまとめて見える化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外部人材の活用について積極的に提案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勤務時間内に終了するように運営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わ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活動及び同窓会活動の業務について、構成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ともに、その役割分担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り組みについて、保護者の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理解いただけるよう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1" lang="ja-JP" sz="1200" spc="-1" strike="noStrike">
                <a:solidFill>
                  <a:srgbClr val="000000"/>
                </a:solidFill>
                <a:latin typeface="ＭＳ ゴシック"/>
                <a:ea typeface="ＭＳ ゴシック"/>
              </a:rPr>
              <a:t>月</a:t>
            </a:r>
            <a:r>
              <a:rPr b="1" lang="en-US" sz="1200" spc="-1" strike="noStrike">
                <a:solidFill>
                  <a:srgbClr val="000000"/>
                </a:solidFill>
                <a:latin typeface="ＭＳ ゴシック"/>
                <a:ea typeface="ＭＳ ゴシック"/>
              </a:rPr>
              <a:t>100</a:t>
            </a:r>
            <a:r>
              <a:rPr b="1"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8064360" y="8551800"/>
          <a:ext cx="3313080" cy="642960"/>
        </p:xfrm>
        <a:graphic>
          <a:graphicData uri="http://schemas.openxmlformats.org/drawingml/2006/table">
            <a:tbl>
              <a:tblPr/>
              <a:tblGrid>
                <a:gridCol w="1008360"/>
                <a:gridCol w="230472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90440" y="4402080"/>
            <a:ext cx="402444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時間の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データに基づ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該当の教職員へ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分掌や学年の状況を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主任とともに仕事量の軽減を調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自が週１回以上の定時退庁日（ノー残業デー）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原　桂</cp:lastModifiedBy>
  <cp:lastPrinted>2023-05-09T03:51:04Z</cp:lastPrinted>
  <dcterms:modified xsi:type="dcterms:W3CDTF">2023-05-09T03:52:07Z</dcterms:modified>
  <cp:revision>964</cp:revision>
  <dc:subject/>
  <dc:title>スライド 1</dc:title>
</cp:coreProperties>
</file>