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A59B-4B3F-47E0-B233-E9E44F91C17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32D5-A3C1-4AB4-AA7A-C06B906EE21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F39-0415-4C41-9BFD-1F67A998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317-2BAF-40E7-901D-0F1C9D5C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D32-D035-4F1F-9562-9538F446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695-90E8-4350-8D11-19078829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306-B478-4300-A9D5-85268AF6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114-59A9-45EE-BFEE-04A35A09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3A6-D1A4-41E8-BFC9-0C823F09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391-6069-4CA4-9A8E-5733C7FB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F52-ECED-4965-A7CB-6CC4A2D6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1CE-7D0A-403F-AAF2-1B5E0F1D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08E-83F8-4274-91F3-8DB25A1C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6C5-500E-46B6-801C-635E5364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E720-7A97-4D31-BC81-311AAE96B09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○○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キャッチフレーズ又は通称（任意）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遠野緑峰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112760" y="1789200"/>
            <a:ext cx="5545080" cy="26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目標達成状況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をゼロに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年度：ゼロ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次休暇の取得状況について（一人当たりの平均取得日数 ⁄ １日単位の取得 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日数が５日以上の職員数）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年度：１４．０日  ⁄  ２６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２９人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１４．４日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２９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１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時間外勤務している教職員が固定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農場管理のため、休日・学校閉庁日にも日直業務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「生徒にとって必要な活動か否か」の観点から、スクラップアンドビルドの視点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って業務見直し等の対応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8640720" y="7707240"/>
            <a:ext cx="537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８日　遠野緑峰高等学校長　髙橋　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本校に勤務する先生方のワーク・ライフ・バランスを向上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一人一人が、やりがいと充実感を持って教育活動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充実した地域連携により、地域と共にある学校として評価され、地域住民から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待され応援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全職員での協働体制が確立しており、ワーク・ライフ・バランスが保た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休みたい時に、遠慮なく休暇を取れる風通しの良い雰囲気が職場にあ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働きやすい職場作りに向けて、教職員に積極的に声がけを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副担任２人制を実施し、教育活動の協働体制を推進しま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。 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適切なスクラップ＆ビルドに向けて、教職員の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耳を傾け検討し、実施に向けて柔軟に対応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育活動におけるＩＣＴ化を推進し、職員会議等のペ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ーレス化等、業務の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留守番電話導による電話対応時間の縮減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電話対応時間７時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～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（留守番電話対応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～翌日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行事については、安易にコロナ禍前に戻すのではなく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生徒にとって有意義なものになるよう業務の見直しを進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す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遠野市教育委員会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､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関係機関と連携して業務の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確化・適正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運営協議会制度を活用し、地域とビジョンを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有し、協働して業務にあた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総会の開催時間の変更等、働き方改革に向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た取組について、保護者に理解いただけるよう協議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211880" y="8085240"/>
            <a:ext cx="56152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々の教育活動を、明るく、笑顔で実践できるように、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教職員が健康増進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やすい職場を目指して、お互い声を掛け合い、心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力を合わせ、助け合って、教育活動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頃から、休暇を取得しやすい風通しの良い職場環境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確立に努め、全職員の１日単位の年次休暇取得５日以上を  　　  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の健康について配慮できるように、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常のコミュニケーションを大切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3"/>
          <p:cNvSpPr/>
          <p:nvPr/>
        </p:nvSpPr>
        <p:spPr>
          <a:xfrm>
            <a:off x="11233080" y="349200"/>
            <a:ext cx="1295640" cy="54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策定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1224000" y="2192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○○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キャッチフレーズ又は通称（任意）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1224000" y="208080"/>
            <a:ext cx="11449080" cy="87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遠野緑峰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～チーム緑峰プロジェクト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髙橋　堅</cp:lastModifiedBy>
  <cp:lastPrinted>2023-05-08T02:04:09Z</cp:lastPrinted>
  <dcterms:modified xsi:type="dcterms:W3CDTF">2023-05-08T04:47:51Z</dcterms:modified>
  <cp:revision>961</cp:revision>
  <dc:subject/>
  <dc:title>スライド 1</dc:title>
</cp:coreProperties>
</file>