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1D9D-74CE-441C-B2D4-3E26CC3F85B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4FBB-57D4-46C9-B424-60EF45FB69C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901-9DED-470F-B947-93721336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468-8DF6-481D-9BD7-9F322CFD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6F1-835F-480C-9811-A554481D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080-BA3E-476C-B439-B4C41A17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0B9-38A0-4B7E-B866-59EBBE92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B3A-C515-40D5-A6F1-D0C79556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1D6-1E80-4393-AC6F-16781165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238-28BB-4E23-AACE-FE63A11F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4DB-EBC7-4118-B5F4-E1404CAF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8B5-27E7-49E6-A0EE-CF0FF180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693-7481-4CE9-997F-8A5BC77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8B6-CDA3-4BA1-92FB-F99B26EB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1E2B-1C71-4111-AB13-2CC2B58270D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黒沢尻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黒沢尻工業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Ｒ４年度月当たり時間外在校等時間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超の職員の割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平均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2.9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Ｒ３比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.4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％増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Ｒ４年度時間外在校等時間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職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延べ２名（Ｒ３比 ４名減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週休日の部活動指導時間を除けばゼ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時間外在校等時間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超の職員の主な業務は部活動指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分掌業務分担の偏りや時期集中など、バランスが不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3764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４月２０日　黒沢尻工業高等学校長　村上智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一人ひとりが、生徒を第一に考えた教育活動を実践し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やり甲斐を感じながら限られた時間の中で最大限の効果を上げ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が、生徒と向き合う時間を十分に確保でき、授業力・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級及び部活動経営力を磨き、生徒を支え学力の向上と進路目標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達成ができる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が「一枚岩」となり、お互いの業務負担を確認しなが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「チーム」として「協働」の意識を持って業務に取り組む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1452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業務に優先順位を設け、スクラップアン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ビルドを行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校内ネットワークを活用し、情報の共有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や文書の電子データ化等を進め、業務効率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高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留守番電話を設置し、時間外の電話連絡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の対応を軽減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学校閉庁日を設定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全職員の理解のもと、振替休日が取得で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る環境づくりを進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関係機関との連携をさらに進めると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に、業務担当の適正化に向けて、協議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進めます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外部コーチを配置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就職支援相談補助員、私費会計担当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配置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が面談等を通じ、職員の心身の状態の把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握に努め、アドバイスし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健康診断やメンタルヘルス相談等の紹介や利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し易い環境づくりをし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個々のワーク･ライフ・バランスを考えた、計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画的で積極的な年次等の休暇の取得を勧め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前月の学校の時間外勤務状況を教職員に知らせ、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時間を意識した勤務の在り方に努め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週休日等の大会引率では振替休日の取得を推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進め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上　智芳</cp:lastModifiedBy>
  <cp:lastPrinted>2023-04-20T08:46:52Z</cp:lastPrinted>
  <dcterms:modified xsi:type="dcterms:W3CDTF">2023-04-24T00:38:50Z</dcterms:modified>
  <cp:revision>957</cp:revision>
  <dc:subject/>
  <dc:title>スライド 1</dc:title>
</cp:coreProperties>
</file>