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0E90-A37C-4B05-A016-B97DD87FC19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8B1C-F2C6-45E7-AFBE-9AC32D4152C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02B-CC9E-414E-959E-13884C60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85C-EE3B-426A-8950-DE1DA946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8D0-F12D-490F-80B0-3DC521FE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BF7-FD2F-467D-B9BA-4B79ED1D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80E-8B76-4A44-9C8A-F73D99DB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D87-D9BB-4A95-B4D2-FAA4C516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427-00A1-4A58-AF26-0A77AF30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4B4-AF89-4B86-A69E-7F479A7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BC6-0296-45FE-A8EF-58DD434F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6DF-4EBE-4223-9B97-0396A71D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626-355F-406B-9348-BA30C63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254-B7AD-40A8-B26C-0EF195D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4070-30AC-4A72-95AD-41ACA45D0003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気仙光陵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「明るく　楽しく　元気よく」を実践する気仙光陵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6360" y="611964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219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気仙光陵支援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ゼロにする。」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９人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ゼロにする。」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８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状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よりよい授業づくりへの努力を惜しまないが、他業務のために時間が限られ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し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時期により、業務が集中し、多忙となる教職員が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対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時間外在校等時間が多い者を中心に、業務量の把握を行っているが、具体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な業務削減までの提案に至ってい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化による業務の軽減について検討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９日　学校長　石川　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成を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働き方改革の取組に対する教職員の肯定的評価９割を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児童生徒、授業に向き合う時間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児童生徒の充実した学びが実現し、保護者も教育活動に満足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健康で生き生きとした生活を送っ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育の充実のために、教職員一人一人が業務改善を意識し、できるところから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改善を図ってい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内容を吟味し、開催が必要であるかの検討及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回数削減などの精選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衛生委員会において、教職員の勤務状況を振り返る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をもち、学校全体の業務状況の見直し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デスクネッツ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ファイル等の活用によ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業務軽減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閉庁時の児童生徒の対応について、保護者、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係機関と連携、協力体制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36800" y="8042400"/>
            <a:ext cx="11737800" cy="1796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093080" y="808524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全員で月に一度のノー残業デーを確実に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（各職員室ご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時間外在校等時間が４５時間を超える教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声掛けをするとともに、業務量の把握をし、業務の平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心身の健康状況を把握の上、必要に応じて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療機関、相談機関につなげ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石川　則子</cp:lastModifiedBy>
  <cp:lastPrinted>2023-05-08T09:12:53Z</cp:lastPrinted>
  <dcterms:modified xsi:type="dcterms:W3CDTF">2023-05-14T02:52:23Z</dcterms:modified>
  <cp:revision>971</cp:revision>
  <dc:subject/>
  <dc:title>スライド 1</dc:title>
</cp:coreProperties>
</file>