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311E-6D78-4789-835B-9D64C77C10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C5DA-CF2E-4C35-9F0C-156D6E6C23D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4800" y="744480"/>
            <a:ext cx="5057640" cy="3727440"/>
          </a:xfrm>
          <a:prstGeom prst="rect">
            <a:avLst/>
          </a:prstGeom>
          <a:ln w="0">
            <a:noFill/>
          </a:ln>
        </p:spPr>
      </p:sp>
      <p:sp>
        <p:nvSpPr>
          <p:cNvPr id="71"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40FED-F41A-4ADF-9801-66726B5B4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E8A8A-A1E5-4B30-B104-CEE6EDD8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BC2AF-2C22-4E55-B96A-FCC6FC625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6AECB-3CE6-4CA6-B3CD-2EA156745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D58C3-3850-4E88-B7DE-AA7074D9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0DD55-6427-4A7E-86B9-649FF32D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927C4-1F9C-4282-ABC7-96874BA76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04A3B-83A3-4AA9-A761-E6551EB2D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7C442-2ED7-4681-84D7-AAA93FA4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AD9C-E69A-40F6-ABC8-BF56CBDB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3A936-930D-49AB-A9D2-C16515A8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CA62-93B8-4E80-A44E-99C96F07B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F534-8ACC-44C7-AE2B-20940F96C07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久慈拓陽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明るく　強く　生き生きと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123920" y="1138320"/>
            <a:ext cx="1191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久慈拓陽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教職員数</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教職員数、年間延べ人数</a:t>
            </a:r>
            <a:r>
              <a:rPr b="0" lang="en-US" sz="1200" spc="-1" strike="noStrike">
                <a:solidFill>
                  <a:srgbClr val="000000"/>
                </a:solidFill>
                <a:latin typeface="Arial"/>
              </a:rPr>
              <a:t>98</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5</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以上の教職員数</a:t>
            </a:r>
            <a:r>
              <a:rPr b="0" lang="en-US" sz="1200" spc="-1" strike="noStrike">
                <a:solidFill>
                  <a:srgbClr val="000000"/>
                </a:solidFill>
                <a:latin typeface="Arial"/>
              </a:rPr>
              <a:t>24</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1</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19</a:t>
            </a:r>
            <a:r>
              <a:rPr b="0" lang="ja-JP" sz="1200" spc="-1" strike="noStrike">
                <a:solidFill>
                  <a:srgbClr val="000000"/>
                </a:solidFill>
                <a:latin typeface="Arial"/>
              </a:rPr>
              <a:t>時を超える時間外在校教職員</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を含めた全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から木曜までの完全閉庁時間の</a:t>
            </a:r>
            <a:r>
              <a:rPr b="0" lang="en-US" sz="1200" spc="-1" strike="noStrike">
                <a:solidFill>
                  <a:srgbClr val="000000"/>
                </a:solidFill>
                <a:latin typeface="Arial"/>
              </a:rPr>
              <a:t>19</a:t>
            </a:r>
            <a:r>
              <a:rPr b="0" lang="ja-JP" sz="1200" spc="-1" strike="noStrike">
                <a:solidFill>
                  <a:srgbClr val="000000"/>
                </a:solidFill>
                <a:latin typeface="Arial"/>
              </a:rPr>
              <a:t>時が全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個々に、タイムマネジメントしながら業務する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96360" y="7713720"/>
            <a:ext cx="51847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０日　久慈拓陽支援学校長　村上　嘉郎</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全員で、「明るく　強く　生き生きと」働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一人が教育にやりがいを感じ、児童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情報を共有し、助け合い支え合って業務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仕事とプライベートを大切にしてタイムマネジメント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声をかけ、コミュニケーションをと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と学部会は</a:t>
            </a:r>
            <a:r>
              <a:rPr b="0" lang="en-US" sz="1200" spc="-1" strike="noStrike">
                <a:solidFill>
                  <a:srgbClr val="000000"/>
                </a:solidFill>
                <a:latin typeface="Arial"/>
              </a:rPr>
              <a:t>Teams</a:t>
            </a:r>
            <a:r>
              <a:rPr b="0" lang="ja-JP" sz="1200" spc="-1" strike="noStrike">
                <a:solidFill>
                  <a:srgbClr val="000000"/>
                </a:solidFill>
                <a:latin typeface="Arial"/>
              </a:rPr>
              <a:t>を活用しペーパーレス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部会は部長が不要と判断した月は実施なし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行事は終了後の反省と同時に次年度の骨子案を作成して確実に引き継ぎ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文書フォルダを作成し、各種文書の雛形等を全職員が活用できる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教具フォルダを作成し、学習プリントや教材の作り方など、共有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学校評価と年度末反省までの過程で業務改善の絞り込みを進め、次年度改善案を明確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や校外学習、各種スポーツ大会、技能認定会等の教育活動において、登録サポーターの活用を積極的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通学指導・支援業務において、外部委託バス運転士及び添乗員と分担しながら、児童生徒の安全な通学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等部生徒の自立と社会参加に向けて、企業との連携協議会や嘱託非常勤講師など、地域企業の指導を仰ぎ、キャリア教育を充実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59680" y="806940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4</a:t>
            </a:r>
            <a:r>
              <a:rPr b="0" lang="ja-JP" sz="1200" spc="-1" strike="noStrike">
                <a:solidFill>
                  <a:srgbClr val="000000"/>
                </a:solidFill>
                <a:latin typeface="Arial"/>
              </a:rPr>
              <a:t>日（月～木）の完全退庁時間を</a:t>
            </a:r>
            <a:r>
              <a:rPr b="0" lang="en-US" sz="1200" spc="-1" strike="noStrike">
                <a:solidFill>
                  <a:srgbClr val="000000"/>
                </a:solidFill>
                <a:latin typeface="Arial"/>
              </a:rPr>
              <a:t>19</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1</a:t>
            </a:r>
            <a:r>
              <a:rPr b="0" lang="ja-JP" sz="1200" spc="-1" strike="noStrike">
                <a:solidFill>
                  <a:srgbClr val="000000"/>
                </a:solidFill>
                <a:latin typeface="Arial"/>
              </a:rPr>
              <a:t>回（金）の完全退庁時間を</a:t>
            </a:r>
            <a:r>
              <a:rPr b="0" lang="en-US" sz="1200" spc="-1" strike="noStrike">
                <a:solidFill>
                  <a:srgbClr val="000000"/>
                </a:solidFill>
                <a:latin typeface="Arial"/>
              </a:rPr>
              <a:t>18</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特割の適正な実施と有給休暇等の積極的な取得について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年度の時間外在校等時間のデータを個々に開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状況に応じ、健康相談事業等の活用を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嘉郎</cp:lastModifiedBy>
  <cp:lastPrinted>2023-05-10T04:46:36Z</cp:lastPrinted>
  <dcterms:modified xsi:type="dcterms:W3CDTF">2023-05-11T06:42:19Z</dcterms:modified>
  <cp:revision>975</cp:revision>
  <dc:subject/>
  <dc:title>スライド 1</dc:title>
</cp:coreProperties>
</file>