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AC26-EB30-4FC5-B7AF-9884D366C40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ACEB-55D6-48C4-9861-EA22CD52940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DF2-8F8A-44AE-B121-FC9E8A54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8CE-EC7B-4FBA-9B32-D4E80289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147-65B0-4A0B-B1F2-4B36DB48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860-7DA6-4C4F-BCE3-F2195B17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59E-83E7-4DED-8675-DB979347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268-325C-4210-B8E3-509C7E81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C99-5F95-419D-B480-A269DC91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0AE-C443-4FF5-8702-1C8CD1F8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F48-227E-4675-93FC-CFAA1049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C26-A8A1-45FB-A4C3-2DDE1DAF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EBC-2AB9-4965-BDCB-B7BE3519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72F-D49C-4F94-8651-21D3E9F2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5847-1D2B-4852-AFD7-592D9864912B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49200" y="20016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高田高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自分の時間を作ることも立派な仕事です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911160" y="3960720"/>
            <a:ext cx="588492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やりがいを感じながらゆとりをもって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、教職員とのコミュニケーションを密にとり、風通しの良い明るい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 場作りに努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生徒一人一人と接する時間を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学習指導の充実のため、数多くの研修の機会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6937200" y="7416720"/>
            <a:ext cx="5954760" cy="1152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時間外在校等時間の教職員→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「職員の業務は適切に分担されている」と答えた教職員の割合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に１回以上年次休暇を取得する教職員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9848880" y="2255760"/>
            <a:ext cx="3024000" cy="4699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教職員個々に毎月の時間外在校等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をまとめたものを配付し、縮減への意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付けを図るとともに、時間外在校等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が長い教職員には管理職が積極的に声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が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週に１日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ノー残業デーを各自が設定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し、時間外在校時間の短縮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特定の職員に業務が集中しないよう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チームで取り組む体制作りに努め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人間ドック等、健康診断受診について積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極的に情報提供と声掛けをし、受診しや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すい雰囲気作り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月に１回以上、休暇を取得するよう積極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的に教職員を促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盆、年末年始の学校閉庁日を適切に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定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カウンセラー来校日には、教員もカウ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セリングを受けられるよう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6945480" y="7058160"/>
            <a:ext cx="5984640" cy="3585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895320" y="1432080"/>
            <a:ext cx="5889600" cy="37440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（令和４年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909720" y="3600360"/>
            <a:ext cx="588960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6973920" y="1432080"/>
            <a:ext cx="5929200" cy="79200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（今年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2"/>
          <p:cNvSpPr/>
          <p:nvPr/>
        </p:nvSpPr>
        <p:spPr>
          <a:xfrm>
            <a:off x="1108080" y="1092240"/>
            <a:ext cx="117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高田高校では、「岩手県教職員働き方改革プラン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890640" y="1806480"/>
            <a:ext cx="5894280" cy="1720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のうち、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が年間を通し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 のべ０名であった。また、週休日の部活動従事時間を除いた数値で、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を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えた者はの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、１ヶ月平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.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を超えた者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.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同時にいくつもの業務を抱えてしまう職員が多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健康管理区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職員が、定期健康診断を受診し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.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にのぼ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6948360" y="2236680"/>
            <a:ext cx="2881440" cy="4718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退勤時間までに業務を終了させるよう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　常に見通しを持って業務に当た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「学校の部活動に係る活動方針」に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づき、効率的な指導に取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管理職が、教職員の負担軽減策に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いて積極的に提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会議資料の事前配付、様式の統一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等により会議時間を短縮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分掌組織や部活動の見直しを図り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業務の効率化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度途中においても分掌内の役割分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担を見直し、負担の分散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校務におけるＯＪＴを推進し、教職員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成長できる学校を目指し、業務の偏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をなく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学校行事等のスリム化を図り、ゆと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 ある学校運営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横巻き 4"/>
          <p:cNvSpPr/>
          <p:nvPr/>
        </p:nvSpPr>
        <p:spPr>
          <a:xfrm>
            <a:off x="836640" y="5330880"/>
            <a:ext cx="5905440" cy="4537080"/>
          </a:xfrm>
          <a:prstGeom prst="horizontalScroll">
            <a:avLst>
              <a:gd name="adj" fmla="val 8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　「岩手県教職員働き方改革プラン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２０２１～２０２３）</a:t>
            </a:r>
            <a:r>
              <a:rPr b="0" lang="ja-JP" sz="12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」 （抜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働き方改革の実現により、岩手の未来を担う大切な子どもたちに、質の高い教育の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時間外在校等時間が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Arial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超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　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令和５年度において、アンケート調査に基づく肯定的実感が令和３年度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実施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6961320" y="1806480"/>
            <a:ext cx="2881080" cy="40968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１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負担軽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871200" y="1806480"/>
            <a:ext cx="3024000" cy="43020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確保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84360" y="7905600"/>
          <a:ext cx="4680000" cy="984240"/>
        </p:xfrm>
        <a:graphic>
          <a:graphicData uri="http://schemas.openxmlformats.org/drawingml/2006/table">
            <a:tbl>
              <a:tblPr/>
              <a:tblGrid>
                <a:gridCol w="922320"/>
                <a:gridCol w="1289160"/>
                <a:gridCol w="1388880"/>
                <a:gridCol w="107964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Ｒ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Ｒ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(2022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Ｒ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3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　　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" name="正方形/長方形 2"/>
          <p:cNvSpPr/>
          <p:nvPr/>
        </p:nvSpPr>
        <p:spPr>
          <a:xfrm>
            <a:off x="6923160" y="8850240"/>
            <a:ext cx="5538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令和５年５月１日　　　　　　岩手県立高田高等学校長　菅野　幸貴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田村　崇司</cp:lastModifiedBy>
  <cp:lastPrinted>2023-05-14T23:38:20Z</cp:lastPrinted>
  <dcterms:modified xsi:type="dcterms:W3CDTF">2023-05-16T08:01:32Z</dcterms:modified>
  <cp:revision>997</cp:revision>
  <dc:subject/>
  <dc:title>スライド 1</dc:title>
</cp:coreProperties>
</file>