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73BF-C22B-43B9-A3AF-F460C5CCB8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2515-3AD3-46A8-8733-464F4396A0F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1CE-19B5-44FC-A659-578C9E1A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77B-0DF1-40AA-82E6-E4F67FE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8D8-6F1C-426E-9BF7-8AA262C1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EFD-8AEC-437D-8390-07B99799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C69-333F-4B83-8A25-08C260E0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129-03BF-4A80-84D7-766D81E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EE5-0A49-44C0-B86C-D0F87055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05E-56FC-4517-BE10-D797854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21D-D628-4B56-A14C-5A7459E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BBF-ABF9-480A-8EF3-66849B2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17E-141C-47F1-AD20-F94F4B8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BD4-09B4-49CC-87B5-BADAFDB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8A7D-830F-43A4-9D6E-E42914B647B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079640" y="360360"/>
            <a:ext cx="11737800" cy="635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52280" rIns="152280" tIns="108000" bIns="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宮古恵風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4968720" cy="3492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1295280" y="1101600"/>
            <a:ext cx="119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宮古恵風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5249880"/>
            <a:ext cx="4030560" cy="438120"/>
          </a:xfrm>
          <a:prstGeom prst="rect">
            <a:avLst/>
          </a:prstGeom>
          <a:solidFill>
            <a:srgbClr val="ffcc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5108400" y="5249880"/>
            <a:ext cx="3997440" cy="438120"/>
          </a:xfrm>
          <a:prstGeom prst="rect">
            <a:avLst/>
          </a:prstGeom>
          <a:solidFill>
            <a:srgbClr val="ffcc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496360" y="7661160"/>
            <a:ext cx="4321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令和５年５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　宮古恵風支援学校長　藤原淳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6681960" y="1432080"/>
            <a:ext cx="6135480" cy="441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6683400" y="1795320"/>
            <a:ext cx="6134040" cy="29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目標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一人あたりの年間時間外勤務時数を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以内、月間時間外勤務時数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以内と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施錠時刻前の退庁を全職員が一人あたり月に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回以上実施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計画的な定時退庁日を設定し実施する（年間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回以上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学校評価における職員の「学校教育力の向上に繋がる業務の効率化、適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化」の満足度の割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以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目指す姿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部や分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が連携してチームとして業務を推進する学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教職員がメリハリをつけながら計画的に業務を推進し、自身の心身の健康を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識している健全（健康・安心・安全）な学校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矢印 1"/>
          <p:cNvSpPr/>
          <p:nvPr/>
        </p:nvSpPr>
        <p:spPr>
          <a:xfrm>
            <a:off x="6006960" y="216360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9072720" y="5234040"/>
            <a:ext cx="3735360" cy="430200"/>
          </a:xfrm>
          <a:prstGeom prst="rect">
            <a:avLst/>
          </a:prstGeom>
          <a:solidFill>
            <a:srgbClr val="ffcc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5111640" y="5624640"/>
            <a:ext cx="3990960" cy="2008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これまで改善に向けて取り組んできたことを継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、引き続き学校行事等の見直しや会議の効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化等に取り組んでい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資料作成等の業務が円滑に進むように、デー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整理と見直しを行い、可能な範囲での簡略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るよう報告・連絡・相談の徹底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67680" y="5624640"/>
            <a:ext cx="3735360" cy="2008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学校経営計画の推進に向け、管理職間の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思疎通を高め、明確な方向性を教職員に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てい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主事・主任を中心に職員と連携しながらチー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意識の浸透を図り、一体感のある職場風土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醸成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関係機関等と連携を要する取組について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ニーズや内容を十分に把握し、組織として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適切な対応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1079640" y="5624640"/>
            <a:ext cx="4019400" cy="2008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長時間勤務者の要因分析を行い、必要に応じ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面談等を実施するなど、一人ひとりの現状把握に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努めながら心身の健康管理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勤務時間の縮減と、多忙感の低減に努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各自の業務を客観的に把握するように、様々な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会をとおして職員に働きかけ、よりよい働き方に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いて意識の向上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1079640" y="4824360"/>
            <a:ext cx="11737800" cy="405000"/>
          </a:xfrm>
          <a:prstGeom prst="rect">
            <a:avLst/>
          </a:prstGeom>
          <a:solidFill>
            <a:srgbClr val="9966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7923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75760" y="838368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51760" y="795816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112160" y="906768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79640" y="1806480"/>
            <a:ext cx="4968720" cy="2941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各教職員は、使命感をもって日常の業務を遂行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昨年度の取り組みを通して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度は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超の時間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勤務職員が全職員中延べ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人、年間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超の時間外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務職員が全職員中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人となっており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度から減少した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のの更に改善を進める必要が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計画的な定時退庁日の設定や計画的な業務の進め方を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びかけることで、施錠時間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前の退庁意識が見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ようにな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藤原　淳一</cp:lastModifiedBy>
  <cp:lastPrinted>2023-05-15T08:08:26Z</cp:lastPrinted>
  <dcterms:modified xsi:type="dcterms:W3CDTF">2023-05-17T00:23:13Z</dcterms:modified>
  <cp:revision>977</cp:revision>
  <dc:subject/>
  <dc:title>スライド 1</dc:title>
</cp:coreProperties>
</file>