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5F9C-14D8-4818-9C54-AF6D9CB813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31D6-4561-49B7-8E33-DCCF0DC785F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D807A-9BE8-428F-8B5F-DD4071A74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A4FD1-7C62-4B65-B03C-1155E9198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2CAA5-F37F-475E-A407-A28FFEFC4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9F125-17D5-4588-BBCE-D7F6E21B8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6960-3551-43C2-BEE8-E2B181B4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342F-9164-4E1E-8A77-8CF5C63E9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5A1F-76E7-4253-BEA7-7234FF87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FC92-A69D-4B68-BCDC-D992E9AD1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5C06-8036-4B2C-AC51-D997C1DD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8311D-6AD2-46D0-8C2D-2761AFEF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F9E9-4389-459D-A76E-45A1E75ED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4C86-B8F0-4FD9-A5E2-D9E7B9C02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6EBF-14A3-4B15-8990-6F49DDA5D14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山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心にゆとりを持って働ける職場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山田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ゼロ</a:t>
            </a:r>
            <a:r>
              <a:rPr b="0" lang="en-US" sz="1200" spc="-1" strike="noStrike">
                <a:solidFill>
                  <a:srgbClr val="000000"/>
                </a:solidFill>
                <a:latin typeface="Arial"/>
              </a:rPr>
              <a:t>(</a:t>
            </a:r>
            <a:r>
              <a:rPr b="0" lang="ja-JP" sz="1200" spc="-1" strike="noStrike">
                <a:solidFill>
                  <a:srgbClr val="000000"/>
                </a:solidFill>
                <a:latin typeface="Arial"/>
              </a:rPr>
              <a:t>人</a:t>
            </a:r>
            <a:r>
              <a:rPr b="0" lang="en-US" sz="12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ゼロ</a:t>
            </a:r>
            <a:r>
              <a:rPr b="0" lang="en-US" sz="1200" spc="-1" strike="noStrike">
                <a:solidFill>
                  <a:srgbClr val="000000"/>
                </a:solidFill>
                <a:latin typeface="Arial"/>
              </a:rPr>
              <a:t>(</a:t>
            </a:r>
            <a:r>
              <a:rPr b="0" lang="ja-JP" sz="1200" spc="-1" strike="noStrike">
                <a:solidFill>
                  <a:srgbClr val="000000"/>
                </a:solidFill>
                <a:latin typeface="Arial"/>
              </a:rPr>
              <a:t>人</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時間外在校等時間</a:t>
            </a:r>
            <a:r>
              <a:rPr b="0" lang="ja-JP" sz="1000" spc="-1" strike="noStrike">
                <a:solidFill>
                  <a:srgbClr val="000000"/>
                </a:solidFill>
                <a:latin typeface="Arial"/>
              </a:rPr>
              <a:t>（週休日の部活動指導従事時間を除く。）</a:t>
            </a:r>
            <a:r>
              <a:rPr b="0" lang="ja-JP" sz="1200" spc="-1" strike="noStrike">
                <a:solidFill>
                  <a:srgbClr val="000000"/>
                </a:solidFill>
                <a:latin typeface="Arial"/>
              </a:rPr>
              <a:t>」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45</a:t>
            </a:r>
            <a:r>
              <a:rPr b="0" lang="ja-JP" sz="1200" spc="-1" strike="noStrike">
                <a:solidFill>
                  <a:srgbClr val="000000"/>
                </a:solidFill>
                <a:latin typeface="Arial"/>
              </a:rPr>
              <a:t>時間超の者を縮減する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0%</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a:t>
            </a:r>
            <a:r>
              <a:rPr b="0" lang="en-US" sz="1200" spc="-1" strike="noStrike">
                <a:solidFill>
                  <a:srgbClr val="000000"/>
                </a:solidFill>
                <a:latin typeface="Arial"/>
              </a:rPr>
              <a:t>360</a:t>
            </a:r>
            <a:r>
              <a:rPr b="0" lang="ja-JP" sz="1200" spc="-1" strike="noStrike">
                <a:solidFill>
                  <a:srgbClr val="000000"/>
                </a:solidFill>
                <a:latin typeface="Arial"/>
              </a:rPr>
              <a:t>時間超の者を縮減する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5</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2.4</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3.7</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全教職員で本プランを十分に理解し、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内容を本校の実情に合わせるよう</a:t>
            </a:r>
            <a:r>
              <a:rPr b="0" lang="en-US" sz="1200" spc="-1" strike="noStrike">
                <a:solidFill>
                  <a:srgbClr val="000000"/>
                </a:solidFill>
                <a:latin typeface="Arial"/>
              </a:rPr>
              <a:t>(</a:t>
            </a:r>
            <a:r>
              <a:rPr b="0" lang="ja-JP" sz="1200" spc="-1" strike="noStrike">
                <a:solidFill>
                  <a:srgbClr val="000000"/>
                </a:solidFill>
                <a:latin typeface="Arial"/>
              </a:rPr>
              <a:t>山高サイズに</a:t>
            </a:r>
            <a:r>
              <a:rPr b="0" lang="en-US" sz="1200" spc="-1" strike="noStrike">
                <a:solidFill>
                  <a:srgbClr val="000000"/>
                </a:solidFill>
                <a:latin typeface="Arial"/>
              </a:rPr>
              <a:t>)</a:t>
            </a:r>
            <a:r>
              <a:rPr b="0" lang="ja-JP" sz="1200" spc="-1" strike="noStrike">
                <a:solidFill>
                  <a:srgbClr val="000000"/>
                </a:solidFill>
                <a:latin typeface="Arial"/>
              </a:rPr>
              <a:t>精査してい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5344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２８日　岩手県立山田高等学校長　伊東　理俊</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ライフワークバランス意識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子どもたちへの質の高い教育を持続的に提供し得る観点から働き方の見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面談・助言等のサポート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心身のゆとり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慣例等にとらわれず、業務の縮減や業務交換を検討し、教員の負担軽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については、安易にコロナ禍前に戻すことなく、生徒への教育効果の観点で、見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進め方について、説明項目や説明内容の見直しにより、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状況について、教職員間で振り返る機会を設けています。（職員会議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332320"/>
            <a:ext cx="3745080" cy="2319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や同窓会の事務局業務について、学校及び教員が担う業務の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参加の地域行事等について、学校の実情を踏まえて精選等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解いただけるよう情報発信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保護者の理解と協力をいただきながら、適切な活動時間を計画・実践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等時間の縮減の取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年次休暇や振替の取得について積極的に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の途中で月の時間外在校等時間が</a:t>
            </a:r>
            <a:r>
              <a:rPr b="0" lang="en-US" sz="1200" spc="-1" strike="noStrike">
                <a:solidFill>
                  <a:srgbClr val="000000"/>
                </a:solidFill>
                <a:latin typeface="Arial"/>
              </a:rPr>
              <a:t>25</a:t>
            </a:r>
            <a:r>
              <a:rPr b="0" lang="ja-JP" sz="1200" spc="-1" strike="noStrike">
                <a:solidFill>
                  <a:srgbClr val="000000"/>
                </a:solidFill>
                <a:latin typeface="Arial"/>
              </a:rPr>
              <a:t>時間超とな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教職員に対して、当該時間を知らせるとともに、勤務実態の把握し、業務改善に向けての取組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　</a:t>
            </a:r>
            <a:r>
              <a:rPr b="0" lang="ja-JP" sz="1200" spc="-1" strike="noStrike">
                <a:solidFill>
                  <a:srgbClr val="000000"/>
                </a:solidFill>
                <a:latin typeface="Arial"/>
              </a:rPr>
              <a:t>健康相談事業等、職員の状況に応じ、共済保健事業につ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伊東　理俊</cp:lastModifiedBy>
  <cp:lastPrinted>2023-04-27T01:55:49Z</cp:lastPrinted>
  <dcterms:modified xsi:type="dcterms:W3CDTF">2023-04-28T04:17:11Z</dcterms:modified>
  <cp:revision>966</cp:revision>
  <dc:subject/>
  <dc:title>スライド 1</dc:title>
</cp:coreProperties>
</file>