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C25-6AE5-4CC5-8526-1A44A6F4F5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C85-D7CE-4EB6-A937-EBCA8615AEC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8B9-3982-401E-95D0-77305610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C37-CAD3-4C66-B492-E13C793D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640-70C6-4802-AFC6-2B76A385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25C-735C-4095-9508-A2E7B2F6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498-0D67-4759-8C7B-80DFF60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FE8-3A87-445B-923B-9AB5DAE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8CF-A430-4BE8-AC11-815E4F35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650-355E-4755-B62E-176D5685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8DD-56F7-4784-A5E7-7ADB24C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9E5-1C79-4AD4-904B-903B424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F27-A72A-4BA1-A746-AA2D54C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824-D2E9-4AB1-8607-918E564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B53-4314-4C3E-87C0-F37CDE55CDA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</a:t>
            </a:r>
            <a:r>
              <a:rPr b="0" lang="en-US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度　遠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スマートな働き方を生活様式として定着させよう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に達した教職員　→　年間を通して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になったのが年通算で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の教職員→　前年度比５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以降の居残り（但し、緊急の場合を除く）　→　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24080" y="1133640"/>
            <a:ext cx="111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遠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・　長時間の時間外勤務は概ね部活動指導に限ら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・　教職員全体で時間管理の意識が浸透してき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６日　遠野高等学校長　伊藤　正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5156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一人一人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充実感を味わいながら業務にあたっ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健康で溌剌とした態度で、生徒一人一人に向き合っ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勤務時間内に仕事を片付けてしまう雰囲気に溢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ワークライフバランスを意識した環境づくりに取り組んで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形式的に押印を求めていた書類を見直し、適正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電話自動応答装置を活用し、緊急時を除き時間外の対応を抑制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から、積極的に業務の簡略化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7400" y="4392720"/>
            <a:ext cx="37447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で定めた閉庁日を確実に施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毎月の時間外勤務総時間を職員個々にフィードバックし、勤務時間の適正管理の取組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機関や外部人材の活用と効果的な連携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6934320" y="91965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の健康診断の結果を真摯に受け止め、健康回復の増進を支援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個々が気兼ねなく、休暇、振替や代休等を取得できる雰囲気の醸成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を積極的に周知し、職員間で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2"/>
          <p:cNvSpPr/>
          <p:nvPr/>
        </p:nvSpPr>
        <p:spPr>
          <a:xfrm>
            <a:off x="7089840" y="8105760"/>
            <a:ext cx="5583240" cy="45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488360" y="8561520"/>
          <a:ext cx="5027400" cy="631800"/>
        </p:xfrm>
        <a:graphic>
          <a:graphicData uri="http://schemas.openxmlformats.org/drawingml/2006/table">
            <a:tbl>
              <a:tblPr/>
              <a:tblGrid>
                <a:gridCol w="1089000"/>
                <a:gridCol w="2049480"/>
                <a:gridCol w="1888920"/>
              </a:tblGrid>
              <a:tr h="126000"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2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三浦　立</dc:creator>
  <dc:description/>
  <dc:language>en-US</dc:language>
  <cp:lastModifiedBy>安藤　智彩保</cp:lastModifiedBy>
  <cp:lastPrinted>2023-05-15T01:13:21Z</cp:lastPrinted>
  <dcterms:modified xsi:type="dcterms:W3CDTF">2023-05-15T01:18:52Z</dcterms:modified>
  <cp:revision>955</cp:revision>
  <dc:subject/>
  <dc:title>スライド 1</dc:title>
</cp:coreProperties>
</file>