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5320" y="750600"/>
            <a:ext cx="5097600" cy="375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F05D-988C-4B86-ACD6-F451CDDC5BC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2F06-7C41-407D-AD06-007530322C3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95320" y="750960"/>
            <a:ext cx="5097600" cy="3755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90C-F83F-4648-A4FB-918EA9E7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384-CC31-4043-8B53-6AE3DB29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65C-BC96-4CCE-809A-BC1C5AAE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18A-D33A-4F08-9AB0-E0355B4C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529-5E20-4115-8F96-BF4F687A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18E5-BBF9-4ED4-B448-9C1897CB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152-BA19-44CD-91C0-57665708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E98-7ADD-4365-9480-764CE27C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E09-286F-4C8A-9BF1-92BD4599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722-2460-48D1-88F5-2D419833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584-9A61-43D2-BD19-2392EBFF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E8A-0E68-4E70-BA66-3F99237D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55CC-E51D-4E34-B47D-C9FC6773A8A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久慈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教職員の協働により、ワーク・ライフ・バランスのとれた職場に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教員をゼロ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教員を、ゼロ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の連続取得を奨励し、１年間の年次休暇取得率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に向上させ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見直を進め、各分掌等の１業務以上を削減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久慈工業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教員の月平均時間外勤務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時間外勤務を行った教員は１年間で延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、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時間外勤務を行った教員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間で延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年次休暇取得率は、時間に換算し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.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健康管理区分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教職員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級担任・分掌・部顧問等の業務分担に偏りが見られるとともに、進路指導や資格取得指導が一部の教員に偏る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５日　久慈工業高等学校長　水野扶佐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一人一人が、仕事にやりがいを感じるとともに、「チーム久慈工業」として、教職員が協働し、支え合いながら業務を遂行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ワーク・ライフ・バランスがとれ、家庭やプライベートの時間が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日頃から、教職員に対し面談を行い、業務に対する適切なサポート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学校全体の業務量の軽減、負担感の緩和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が優先順位を考えながら、効率的に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チーム久慈工業として教職員の協働体制を構築し、担任３人制、複数部顧問制により業務の平準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効率的遂行への意識を高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見直しを進め、形骸化した業務・効果の薄い業務を削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休養日を徹底するとともに、部顧問間の連携を強化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会議と職員朝会について、所要時間を短縮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の将来を担うものづくり人材を育成するため、 「いわて高校魅力化・ふるさと創生推進事業」における地域の自治体や関係機関との連携・協働をより深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「コミュニティ・スクール」の導入に向けて、地域とともにある学校づくり推進フォーラムにおける取組事例の発表等を参考にし、「高校魅力化推進コンソーシアム」からの移行も踏まえて、主体的に準備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長時間勤務者に対する面談を行うとともに、必要に応じて業務の在り方を検討・改善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ワーク・ライフ・バランスシートを活用するなどして、教職員の状況を把握し、サポー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診断やメンタルヘルス相談等の積極的利用を推奨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・特別休暇等の積極的な取得を推奨します。また、学校閉庁日を設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711920" y="85503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水野　扶佐史</cp:lastModifiedBy>
  <cp:lastPrinted>2023-04-28T05:23:48Z</cp:lastPrinted>
  <dcterms:modified xsi:type="dcterms:W3CDTF">2023-05-15T04:23:43Z</dcterms:modified>
  <cp:revision>1017</cp:revision>
  <dc:subject/>
  <dc:title>スライド 1</dc:title>
</cp:coreProperties>
</file>