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8A28-CE6F-4DA4-A02E-30F31D73832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0ACF-C61F-44D5-BACF-EFA486B857A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366-8D8E-43CD-A8D4-DB0A350D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B61-3426-4325-A19A-D27D5801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751-073C-4EAE-B55C-F2E05EFE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D04-6122-4D2D-85E4-3EA555C8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3A8-CA9D-429C-97D7-6ABC5DE1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078-104A-484C-AA5B-D356C51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A95-9BD5-4176-A694-359767BB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265-19BD-491F-A96B-59C9B6B1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00A-96DC-4D77-8064-7DAF9AEE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DCE-FE78-42B3-B643-B106CEA3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198-5583-40E5-911E-0917B877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EC3-9C7B-4D43-B9DA-4BDD846D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7F2A-DB9E-49A5-B882-1E0E955133EE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花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 やりがいと希望のもてる職場づくり 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泉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1806480"/>
            <a:ext cx="5560920" cy="2583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４年度において、時間外在校等時間（週休日の部活動指導従事時間を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く）が月４５時間を超える教職員数は延べ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.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である。また、年間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は５人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3.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４年度において、年次休暇の平均取得日数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定性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数が少ないため、一人あたりの担当業務の種類が多くなり、多忙感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つな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2"/>
          <p:cNvSpPr/>
          <p:nvPr/>
        </p:nvSpPr>
        <p:spPr>
          <a:xfrm>
            <a:off x="7875720" y="768348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花泉高等学校長　　橋本　ゆか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272360" y="1795320"/>
            <a:ext cx="5535720" cy="2594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」に掲げる時間外在校等時間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縮減について、目標を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次休暇の計画的取得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心身の健康に不安を抱くことなく、業務に集中できる環境で、やり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いを感じながら生徒に向き合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仕事と生活を充実させて、希望のもてる働き方を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仕事量が偏ることなく平準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、日頃から教職員の働きやすい環境づくり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640560" y="2009880"/>
            <a:ext cx="647640" cy="19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３年度実績　　　　　　　　　　県立学校計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71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1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グループ化 2"/>
          <p:cNvGrpSpPr/>
          <p:nvPr/>
        </p:nvGrpSpPr>
        <p:grpSpPr>
          <a:xfrm>
            <a:off x="1079640" y="4495680"/>
            <a:ext cx="11737800" cy="3108600"/>
            <a:chOff x="1079640" y="4495680"/>
            <a:chExt cx="11737800" cy="3108600"/>
          </a:xfrm>
        </p:grpSpPr>
        <p:sp>
          <p:nvSpPr>
            <p:cNvPr id="61" name="Rectangle 70"/>
            <p:cNvSpPr/>
            <p:nvPr/>
          </p:nvSpPr>
          <p:spPr>
            <a:xfrm>
              <a:off x="1079640" y="4495680"/>
              <a:ext cx="11728440" cy="48564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３　（２を達成していくための）具体的取組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0"/>
            <p:cNvSpPr/>
            <p:nvPr/>
          </p:nvSpPr>
          <p:spPr>
            <a:xfrm>
              <a:off x="1079640" y="4966920"/>
              <a:ext cx="4024080" cy="496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教職員の健康管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0"/>
            <p:cNvSpPr/>
            <p:nvPr/>
          </p:nvSpPr>
          <p:spPr>
            <a:xfrm>
              <a:off x="5108760" y="4966920"/>
              <a:ext cx="3997080" cy="496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学校における業務改善の推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0"/>
            <p:cNvSpPr/>
            <p:nvPr/>
          </p:nvSpPr>
          <p:spPr>
            <a:xfrm>
              <a:off x="9072720" y="4966920"/>
              <a:ext cx="3735360" cy="48744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学校及び教員が担う業務の明確化・適正化の推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0"/>
            <p:cNvSpPr/>
            <p:nvPr/>
          </p:nvSpPr>
          <p:spPr>
            <a:xfrm>
              <a:off x="5108760" y="5430600"/>
              <a:ext cx="3963960" cy="2173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管理職は、教職員の改善要望等を真摯に受け止め、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きることから積極的に改善するよう努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仕事量について、特定の教職員に多くの仕事が偏るこ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がないよう、一人一人の平準化を図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日曜日を原則として学校閉庁日とします。また、盆や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末年始も学校閉庁日と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水曜日を「Ｎｏ残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業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D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ａ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ｙ」とし、定時退庁日と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部活動休養日を徹底するとともに、より効率的・効果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な部活動の実施を推進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0"/>
            <p:cNvSpPr/>
            <p:nvPr/>
          </p:nvSpPr>
          <p:spPr>
            <a:xfrm>
              <a:off x="9072720" y="5430600"/>
              <a:ext cx="3744720" cy="2173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地域やＰＴＡ、同窓会等との連携・協力を図りながら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教職員が過度に様々な業務を負担しないよう改善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進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働き方改革に向けた取組について、保護者の方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地域の方に理解いただけるよう学校通信などを通し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周知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0"/>
            <p:cNvSpPr/>
            <p:nvPr/>
          </p:nvSpPr>
          <p:spPr>
            <a:xfrm>
              <a:off x="1079640" y="5430600"/>
              <a:ext cx="4024080" cy="2173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管理職は、職員の健康状態等の把握に努めるとともに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必要に応じて産業医の保健指導やメンタルヘルス相談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の有効活用を勧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時間外在校等時間（週休日の部活動指導従事時間を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く）を１日２時間以内となるよう職員に心がけさせることに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より、月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時間を超える職員がゼロになるよう努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年次休暇等の取得を推進し、心身のリフレッシュ促進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図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"/>
          <p:cNvGraphicFramePr/>
          <p:nvPr/>
        </p:nvGraphicFramePr>
        <p:xfrm>
          <a:off x="8551800" y="8526600"/>
          <a:ext cx="2968560" cy="685800"/>
        </p:xfrm>
        <a:graphic>
          <a:graphicData uri="http://schemas.openxmlformats.org/drawingml/2006/table">
            <a:tbl>
              <a:tblPr/>
              <a:tblGrid>
                <a:gridCol w="982800"/>
                <a:gridCol w="19857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総司</cp:lastModifiedBy>
  <cp:lastPrinted>2023-05-15T22:32:47Z</cp:lastPrinted>
  <dcterms:modified xsi:type="dcterms:W3CDTF">2023-05-15T22:36:05Z</dcterms:modified>
  <cp:revision>996</cp:revision>
  <dc:subject/>
  <dc:title>スライド 1</dc:title>
</cp:coreProperties>
</file>