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1200" y="744120"/>
            <a:ext cx="504972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420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660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2660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0EDB-10E6-4B51-A0D5-5F6F4FBC8FD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48040" y="942660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E414-4558-4497-A048-CD3E3751BDAB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5049720" cy="37213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420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2556-795D-44B6-8770-FF468F9EE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CD6D-E416-4810-9771-50BFD601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4DA3-61DC-428F-880B-EA5114CEA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21FC-A639-4CF5-9EE1-873E62191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FA29-5589-4938-8748-DE66384F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F52B-4C86-45E1-8DE9-60D95340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9996-3B9F-4D8B-A9E5-EA1B6A7F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1740-F260-4710-85CD-252352E0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E4A3-C1CE-44BB-B5C8-41600FA7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9C04-E853-422D-A564-B9D26D4D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D29E-53AF-42A2-BEEC-46AD8825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B901-4DF3-4714-B23D-8BBA04F3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6DB4-E117-4BC3-BEFA-06148EFEAB28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５年度　岩手県立大野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r>
              <a:rPr b="0" i="1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「持続可能」な働き方を目指して</a:t>
            </a: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79640" y="1538280"/>
            <a:ext cx="5545080" cy="40644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47600" y="4284720"/>
            <a:ext cx="11769840" cy="393480"/>
          </a:xfrm>
          <a:prstGeom prst="rect">
            <a:avLst/>
          </a:prstGeom>
          <a:solidFill>
            <a:srgbClr val="00b0f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2"/>
          <p:cNvSpPr/>
          <p:nvPr/>
        </p:nvSpPr>
        <p:spPr>
          <a:xfrm>
            <a:off x="1076400" y="1146240"/>
            <a:ext cx="117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大野高等学校では、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967040"/>
            <a:ext cx="5545080" cy="22129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少ない教職員数で分担し、各自が多様な業務に取り組んでおり、負担を感じ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いる教職員が少なくな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特定の時期に複数の業務が重なり、個人に負担が向かう傾向が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時間外在校時感が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以上の者はゼロであるが、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越（週休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の部活動指導従事を除く）は２名で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前年度年次休暇取得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50840" y="4687920"/>
            <a:ext cx="4024440" cy="38736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5091120" y="4692600"/>
            <a:ext cx="3997440" cy="38736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2"/>
          <p:cNvSpPr/>
          <p:nvPr/>
        </p:nvSpPr>
        <p:spPr>
          <a:xfrm>
            <a:off x="8569440" y="7734240"/>
            <a:ext cx="4952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５年５月１９日　岩手県立大野高等学校長　千葉美春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7272360" y="1550880"/>
            <a:ext cx="5535720" cy="366840"/>
          </a:xfrm>
          <a:prstGeom prst="rect">
            <a:avLst/>
          </a:prstGeom>
          <a:solidFill>
            <a:srgbClr val="bbe0e3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２　目標・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7272360" y="1941480"/>
            <a:ext cx="5535720" cy="22384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目　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〇　時間外勤務が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以上に該当する教職員→ゼロ継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〇　時間外勤務（週休日の部活動従事時間を除く）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超の教職員→ゼ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○　年次休暇取得率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以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目指す姿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お互いの業務を理解し、ゆとりと思いやりを持って同僚や生徒に接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お互いの業務をサポートし合い、気軽に休暇を取得できる雰囲気が作られ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ワークライフバランスをとりながら、教職員本来の業務に専念でき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右矢印 1"/>
          <p:cNvSpPr/>
          <p:nvPr/>
        </p:nvSpPr>
        <p:spPr>
          <a:xfrm>
            <a:off x="6622920" y="1959120"/>
            <a:ext cx="676440" cy="19080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9059760" y="4686480"/>
            <a:ext cx="3735360" cy="40788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5075280" y="5089680"/>
            <a:ext cx="4003560" cy="25509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費用対効果、時間対効果を考えた業務のスクラップ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ビルドに取り組みます。安易にコロナ禍前に戻さな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ＩＣＴを活用し、ペーパーレス化や会議等における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形式の見直しを行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部活動指導方針に基づき、適正な部活動時間を徹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するなど、部活動指導の負担軽減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外部講師、総探コーディネーター等を積極的に活用し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生徒への指導等への負担軽減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0"/>
          <p:cNvSpPr/>
          <p:nvPr/>
        </p:nvSpPr>
        <p:spPr>
          <a:xfrm>
            <a:off x="9059760" y="5087880"/>
            <a:ext cx="3745080" cy="25639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、主任間で業務内容、進捗状況を確認し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お互いに業務の「見える化」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各業務に複数の担当者を配置できるよう、校務分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の見直し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少ない職員数では手が回りにくい公舎外の環境整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等を、ＰＴＡや同窓会に協力を求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・令和３年度実績　　　　　　　　　　県立学校計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71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・令和４年度実績（第３四半期まで）　県立学校計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21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8353440" y="8510760"/>
          <a:ext cx="3095640" cy="680760"/>
        </p:xfrm>
        <a:graphic>
          <a:graphicData uri="http://schemas.openxmlformats.org/drawingml/2006/table">
            <a:tbl>
              <a:tblPr/>
              <a:tblGrid>
                <a:gridCol w="1066680"/>
                <a:gridCol w="20289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正方形/長方形 12"/>
          <p:cNvSpPr/>
          <p:nvPr/>
        </p:nvSpPr>
        <p:spPr>
          <a:xfrm>
            <a:off x="7156440" y="8082000"/>
            <a:ext cx="5614920" cy="349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0"/>
          <p:cNvSpPr/>
          <p:nvPr/>
        </p:nvSpPr>
        <p:spPr>
          <a:xfrm>
            <a:off x="1050840" y="5094360"/>
            <a:ext cx="4024440" cy="25462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休暇を取りやすくするために、部活動顧問を複数配置し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校務分掌の見直し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早期退庁及び積極的な年次休暇等の取得をしやすい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う、管理職は会議設定や運営の効率化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開催規定人数に関わらず、衛生委員会を実施し、健康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持への意識を高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大かっこ 2"/>
          <p:cNvSpPr/>
          <p:nvPr/>
        </p:nvSpPr>
        <p:spPr>
          <a:xfrm>
            <a:off x="1584360" y="9442440"/>
            <a:ext cx="4103640" cy="3841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千葉　美春</cp:lastModifiedBy>
  <cp:lastPrinted>2023-05-19T00:44:34Z</cp:lastPrinted>
  <dcterms:modified xsi:type="dcterms:W3CDTF">2023-05-19T00:46:22Z</dcterms:modified>
  <cp:revision>958</cp:revision>
  <dc:subject/>
  <dc:title>スライド 1</dc:title>
</cp:coreProperties>
</file>