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4440" y="744480"/>
            <a:ext cx="505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BFF6-9219-4126-9894-41D3E178B1A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633F-FFBF-43E4-A872-C065E8E7636E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74800" y="744480"/>
            <a:ext cx="5057640" cy="3727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7C95-295B-4AB4-BF16-2A84A9A56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E5EC-EEE5-49FD-8066-7DD1C169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7D95-0524-4473-A153-58AAEB7FA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48F3-7596-4DF0-B592-CCCD9BFC1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79D6-A0A7-49E2-8626-95309AF1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BC69-6D9F-45A3-A3D4-E6735E85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A16D-0C6F-441C-9379-7FB116C0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5DAF-880E-4439-85E0-F0CE59BC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3ED5-1494-4A2F-8256-1122E1F5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625A-A1B0-44CF-BEB7-BC8D94A5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FA63-88E0-4C65-9B95-DA10F5CC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8D04-3CFC-4113-99A2-883048E8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5734-452F-44F3-8F53-A6FC72F384FB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花巻清風支援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55520" y="6418440"/>
            <a:ext cx="7118640" cy="17078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①　長時間勤務者の削減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・　月当たりの時間外勤務４５時間以上、年間３６０時間以上の職員　→　３０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・　月当たりの時間外勤務８０時間以上の職員　→　　０人の継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②　業務への充実感や安心感の向上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・　教職員の満足度　→　９５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・　働き方改革の実現度　→　８５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③年次休暇の取得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・　年次休暇の取得５日以上　→　１００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・　１日単位での取得日数５日未満　→　３人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55520" y="6002280"/>
            <a:ext cx="7129800" cy="40644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92240" y="3503520"/>
            <a:ext cx="11728440" cy="33660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905040" y="1101600"/>
            <a:ext cx="119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花巻清風支援学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760720" cy="16210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昨年度（１３０名中）、月当たりの時間外勤務４５時間以上の教職員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（延べ人数は１５８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人）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。　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３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人　延べ人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6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人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昨年度、月当たりの時間外勤務８０時間以上の教職員は０人。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３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人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昨年度、年間の時間外勤務３６０時間以上の教職員は３８人。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３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人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昨年度の学校評価の結果、教職員の満足度（働きがいのある職場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4.9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働き方改革推進の実現度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8.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３＝満足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5.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　働き方改革推進実現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.5%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昨年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日単位の年次休暇取得が５日未満の教職員は４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1720" y="385920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10200" y="384480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69464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５年５月１９日　花巻清風支援学校長　　小澤　千殖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86760" y="1803240"/>
            <a:ext cx="5535360" cy="16178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一人ひとりが、健康でいきいきと働きがいとやりがいを感じながら、授 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 づくりや業務に意欲的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管理職が日頃から、教職員の業務の実態を把握し、役割分担や業務の進め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などを見直し、よりよ い働き方改革への意識改革を進め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840360" y="1519200"/>
            <a:ext cx="4762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80640" y="385272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095800" y="4219560"/>
            <a:ext cx="4149720" cy="17193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会議等では終了時間を提示したり、協議題ごとに協議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ポイント設定したりすることで会議の効率化と時間短縮に取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決裁の簡略化、業務の平準化に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定時退庁日の設定と実行の声掛けにより意識改革の情勢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107640" y="4227480"/>
            <a:ext cx="3714480" cy="1711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コミュニティー・スクールの取組推進に当たって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保護者や地域住民に、働き方改革についての理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も得られるように進め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55520" y="8205840"/>
            <a:ext cx="1173816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令和３年度から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408800" y="8675640"/>
          <a:ext cx="5329440" cy="681120"/>
        </p:xfrm>
        <a:graphic>
          <a:graphicData uri="http://schemas.openxmlformats.org/drawingml/2006/table">
            <a:tbl>
              <a:tblPr/>
              <a:tblGrid>
                <a:gridCol w="1214640"/>
                <a:gridCol w="1371600"/>
                <a:gridCol w="1371600"/>
                <a:gridCol w="137160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2021)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５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102440" y="8238960"/>
            <a:ext cx="5614920" cy="438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094520" y="9356760"/>
            <a:ext cx="567864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68480" y="4238640"/>
            <a:ext cx="4041720" cy="1695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長時間労働に関する意識啓発や勤務時間の適正管理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年次休暇、夏季休暇の取得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学校閉庁日の設定、定時退庁日の設定（週１回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労働安全衛生体制の確立のため、衛生委員会を定期開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催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心と体の健康対策に取り組みます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保健師との連携、メンタル相談窓口の利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長時間勤務者との面談、産業医による指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星野　英樹</cp:lastModifiedBy>
  <cp:lastPrinted>2022-05-25T22:05:36Z</cp:lastPrinted>
  <dcterms:modified xsi:type="dcterms:W3CDTF">2023-05-16T04:45:05Z</dcterms:modified>
  <cp:revision>979</cp:revision>
  <dc:subject/>
  <dc:title>スライド 1</dc:title>
</cp:coreProperties>
</file>