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584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00000" y="746280"/>
            <a:ext cx="5058000" cy="3727440"/>
          </a:xfrm>
          <a:prstGeom prst="rect">
            <a:avLst/>
          </a:prstGeom>
          <a:noFill/>
          <a:ln w="9360">
            <a:solidFill>
              <a:srgbClr val="000000"/>
            </a:solidFill>
            <a:miter/>
          </a:ln>
        </p:spPr>
        <p:txBody>
          <a:bodyPr lIns="95760" rIns="9576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5320"/>
            <a:ext cx="2970360" cy="49860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5840" y="9445320"/>
            <a:ext cx="2970360" cy="49860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583F-F112-46C0-948F-778B2AE0BB2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6200" y="9445680"/>
            <a:ext cx="2970360" cy="4986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CAB4-5207-4CE5-B1F2-6FF48185F9E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9" name="PlaceHolder 1"/>
          <p:cNvSpPr>
            <a:spLocks noGrp="1"/>
          </p:cNvSpPr>
          <p:nvPr>
            <p:ph type="sldImg"/>
          </p:nvPr>
        </p:nvSpPr>
        <p:spPr>
          <a:xfrm>
            <a:off x="900000" y="746280"/>
            <a:ext cx="5058000" cy="3727440"/>
          </a:xfrm>
          <a:prstGeom prst="rect">
            <a:avLst/>
          </a:prstGeom>
          <a:ln w="0">
            <a:noFill/>
          </a:ln>
        </p:spPr>
      </p:sp>
      <p:sp>
        <p:nvSpPr>
          <p:cNvPr id="7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C2E65-1295-419B-A1F2-92FB4839C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7EB5A-FBC7-4892-A682-A2A7ECD98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258B3-D459-4BC4-B3FF-430A1D0A3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12E99-1D94-4DDB-9AEE-2739542C3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43099-0C26-44C0-8992-931017CD7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32BDF-5FC8-4F30-AB1D-C06B21E44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22886-0ADB-4620-8B14-78DBFB46F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B607F-83B2-4D97-AACF-C7928526F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DFAE8-17DF-4DFC-98AD-57F0FB0A8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E3A7A-21DE-4350-AD7E-F1C1EEEBC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C93E9-49B9-43A8-9276-308F12973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31C30-C5E1-425F-89EE-4628096D3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7584-5C39-47BC-B1D1-76F4FC1CD8A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一関第二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関二・スマイルプラン～</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一関二高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2" name="Rectangle 70"/>
          <p:cNvSpPr/>
          <p:nvPr/>
        </p:nvSpPr>
        <p:spPr>
          <a:xfrm>
            <a:off x="1079640" y="1806480"/>
            <a:ext cx="5545080" cy="2397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の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時間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Ｒ４年度：０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Ｒ４年度：４．８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定性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総合学科教育の特徴を生かした魅力づくり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員定数減による授業担当時間や分掌業務の負担が増加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管理職のマネジメント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ラップビルドの視点を持って業務見直し等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3" name="正方形/長方形 2"/>
          <p:cNvSpPr/>
          <p:nvPr/>
        </p:nvSpPr>
        <p:spPr>
          <a:xfrm>
            <a:off x="8210520" y="748980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日　一関第二高等学校長　石井　美樹子</a:t>
            </a:r>
            <a:endParaRPr b="0" lang="en-US" sz="1100" spc="-1" strike="noStrike">
              <a:solidFill>
                <a:srgbClr val="000000"/>
              </a:solidFill>
              <a:latin typeface="Arial"/>
            </a:endParaRPr>
          </a:p>
        </p:txBody>
      </p:sp>
      <p:sp>
        <p:nvSpPr>
          <p:cNvPr id="54"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70"/>
          <p:cNvSpPr/>
          <p:nvPr/>
        </p:nvSpPr>
        <p:spPr>
          <a:xfrm>
            <a:off x="7272360" y="1795320"/>
            <a:ext cx="5535720" cy="2405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Ｒ５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Ｒ５年度の目標を達</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成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本校に勤務する先生方の最適な取組が実践できる環境を向上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教職員一人一人が、共育のやりがいを感じながら業務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教職員が、教材研究や生徒との面談の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教職員が、学校の魅力づくりに積極的かつ組織的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管理職が日頃から、教職員の時間外在校等時間を確認し、心身の健康に配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6"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5065560" y="5302080"/>
            <a:ext cx="3964320" cy="2036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効率的なスクラップアンドビルドについて検討し、校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合理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学校行事等の規模や内容の見直し、各種会議の時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短縮及びペーパーレス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管理職が、教職員の業務量や負担感を把握し、軽減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ついて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ＩＣＴの効果的な活用環境を構築することにより、リモ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ト授業や集会に対応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70"/>
          <p:cNvSpPr/>
          <p:nvPr/>
        </p:nvSpPr>
        <p:spPr>
          <a:xfrm>
            <a:off x="9047160" y="5311800"/>
            <a:ext cx="3745080" cy="202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学校関係団体の業務について、担当者の負担軽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を図るよう関係団体と連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部活動指導について、部活動指導員の配置を確保</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るとともに、地域部活動を研究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コミュニティ・スクール導入を進め、地域と一体と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なって学校運営のサポート体制の構築について検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正方形/長方形 11"/>
          <p:cNvSpPr/>
          <p:nvPr/>
        </p:nvSpPr>
        <p:spPr>
          <a:xfrm>
            <a:off x="1063800" y="7896240"/>
            <a:ext cx="11737800" cy="185724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1"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1)</a:t>
            </a:r>
            <a:r>
              <a:rPr b="0" lang="ja-JP" sz="1200" spc="-1" strike="noStrike">
                <a:solidFill>
                  <a:srgbClr val="000000"/>
                </a:solidFill>
                <a:latin typeface="ＭＳ ゴシック"/>
                <a:ea typeface="ＭＳ ゴシック"/>
              </a:rPr>
              <a:t>　時間外在校等時間が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を</a:t>
            </a:r>
            <a:r>
              <a:rPr b="0"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ゴシック"/>
                <a:ea typeface="ＭＳ ゴシック"/>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令和３年度実績　　　　　　　　　　県立学校計　</a:t>
            </a:r>
            <a:r>
              <a:rPr b="0" lang="en-US" sz="1200" spc="-1" strike="noStrike" u="sng">
                <a:solidFill>
                  <a:srgbClr val="000000"/>
                </a:solidFill>
                <a:uFillTx/>
                <a:latin typeface="ＭＳ ゴシック"/>
                <a:ea typeface="ＭＳ ゴシック"/>
              </a:rPr>
              <a:t>71</a:t>
            </a:r>
            <a:r>
              <a:rPr b="0" lang="ja-JP" sz="1200" spc="-1" strike="noStrike" u="sng">
                <a:solidFill>
                  <a:srgbClr val="000000"/>
                </a:solidFill>
                <a:uFillTx/>
                <a:latin typeface="ＭＳ ゴシック"/>
                <a:ea typeface="ＭＳ ゴシック"/>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令和４年度実績（第３四半期まで）　県立学校計　</a:t>
            </a:r>
            <a:r>
              <a:rPr b="0" lang="en-US" sz="1200" spc="-1" strike="noStrike" u="sng">
                <a:solidFill>
                  <a:srgbClr val="000000"/>
                </a:solidFill>
                <a:uFillTx/>
                <a:latin typeface="ＭＳ ゴシック"/>
                <a:ea typeface="ＭＳ ゴシック"/>
              </a:rPr>
              <a:t>21</a:t>
            </a:r>
            <a:r>
              <a:rPr b="0" lang="ja-JP" sz="1200" spc="-1" strike="noStrike" u="sng">
                <a:solidFill>
                  <a:srgbClr val="000000"/>
                </a:solidFill>
                <a:uFillTx/>
                <a:latin typeface="ＭＳ ゴシック"/>
                <a:ea typeface="ＭＳ ゴシック"/>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sp>
        <p:nvSpPr>
          <p:cNvPr id="60" name="正方形/長方形 12"/>
          <p:cNvSpPr/>
          <p:nvPr/>
        </p:nvSpPr>
        <p:spPr>
          <a:xfrm>
            <a:off x="7058160" y="796140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1" name="Rectangle 70"/>
          <p:cNvSpPr/>
          <p:nvPr/>
        </p:nvSpPr>
        <p:spPr>
          <a:xfrm>
            <a:off x="1041480" y="5326200"/>
            <a:ext cx="4024080" cy="2012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働き方改革プランの時間外在校等時間縮減の取組を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管理職は、長時間勤務者に対し、面談等により改善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促し、教職員のメンタルヘルスを保つため、休暇の取得や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リフレッシュを呼び掛け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健康確保の観点から、部活動休養日の設定、振替や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休の完全取得により、多忙、疲労を解消させ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健康相談事業等、職員の状況に応じ、共済保険事業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ついての活用を促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62" name=""/>
          <p:cNvGraphicFramePr/>
          <p:nvPr/>
        </p:nvGraphicFramePr>
        <p:xfrm>
          <a:off x="8210520" y="8426520"/>
          <a:ext cx="3095640" cy="68112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3" name="正方形/長方形 8"/>
          <p:cNvSpPr/>
          <p:nvPr/>
        </p:nvSpPr>
        <p:spPr>
          <a:xfrm>
            <a:off x="7108920" y="910764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Arial"/>
              </a:rPr>
              <a:t>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4"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65" name="Rectangle 70"/>
          <p:cNvSpPr/>
          <p:nvPr/>
        </p:nvSpPr>
        <p:spPr>
          <a:xfrm>
            <a:off x="1041480" y="4916520"/>
            <a:ext cx="4024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66" name="Rectangle 70"/>
          <p:cNvSpPr/>
          <p:nvPr/>
        </p:nvSpPr>
        <p:spPr>
          <a:xfrm>
            <a:off x="5065560" y="4908600"/>
            <a:ext cx="3997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67" name="Rectangle 70"/>
          <p:cNvSpPr/>
          <p:nvPr/>
        </p:nvSpPr>
        <p:spPr>
          <a:xfrm>
            <a:off x="9050400" y="4915080"/>
            <a:ext cx="3735360" cy="37908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石井　美樹子</cp:lastModifiedBy>
  <cp:lastPrinted>2023-05-17T02:52:18Z</cp:lastPrinted>
  <dcterms:modified xsi:type="dcterms:W3CDTF">2023-05-18T10:38:02Z</dcterms:modified>
  <cp:revision>966</cp:revision>
  <dc:subject/>
  <dc:title>スライド 1</dc:title>
</cp:coreProperties>
</file>