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D38E-9076-420A-A701-CC94BA66A94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9FFC-56E0-4932-B755-BCB500F1509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9068-3464-4BA1-A990-5FC1E733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348-0646-498B-84D6-6C2844CD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AD6-D5C2-44C0-9079-4084498C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7CE2-172F-4AC1-AA84-19489918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5DB-CA04-4D71-8014-C78F5AAC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1F0-0301-4BAF-B376-70B67315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90C-73B2-4AC0-87BD-CEDD2055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7A1-6A3A-4144-A36C-9A15B539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1EDA-2A25-42EA-9AA5-840BF6CC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D5C-BDE2-4B28-8B69-1E962140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C14-4588-4239-8D8C-7EA6A574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543-AF88-4E96-B3B9-EDA475A8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06B1-F06B-4450-BB61-BBA4967B2CEB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大東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教職員のやりがいと健康を大切に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368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を超える教職員 → 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外在校等時間（週休日の部活動指導従事時間を除く）が年間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を超える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教職員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→ 令和３年度比で３割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年間の年次休暇平均取得日数 → １７日以上、　最低１０日以上取得　→　１０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大東高等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時間外在校等時間（週休日の部活動指導従事時間を除く）について、月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均は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6.5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である。また、年間平均で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を超える教職員数は２名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年間合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を超える教職員数は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名である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2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名中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年間の年次休暇平均取得日数は、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6.2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教職員は熱心に生徒の指導を行っているが、思うような業務の軽減が図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れているとは言いにく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毎週水曜日の「かえる日（ノー残業デー）」はよく意識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０日　大東高等学校長　佐々木　信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教職員一人一人が心身共に健康で、やりがいを感じながら業務に取り組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でい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管理職が、日頃から教職員の様子に目を配り、働きやすい職場環境づく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に努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教職員が、自己の生活を充実させる時間、教材研究や生徒と向き合う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を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教職員は、勤務時間を意識した働き方を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3180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管理職は、教職員の意見を真摯に受け止めて、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能なことから積極的に対応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ＩＣＴの積極的な活用により、業務の効率化を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前例踏襲を改め、コロナ禍を機に行った業務の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直しをさらに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部活動の休養日を徹底し、２月及び３月は全て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部で日曜日を休養日と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部活動支援員の委嘱や教員業務等支援職員の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用により、教員の負担軽減を継続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勤務時間外の留守番電話対応を継続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ＰＴＡや同窓会、地域の活動が教職員の大幅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負担増にならないよう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管理職が、教員一人一人に毎月の時間外在校等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間を知らせ、客観的に状況を把握させ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管理職は、常に教職員の健康状態の把握に努め、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要に応じて医療機関の受診や外部機関への相談等を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管理職が率先して年次休暇を取得することで教職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の取得も促し、心身のリフレッシュ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教職員に「振替」、「特割」等を有効に活用させ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特休等について周知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々木　信明</cp:lastModifiedBy>
  <cp:lastPrinted>2022-05-26T07:26:05Z</cp:lastPrinted>
  <dcterms:modified xsi:type="dcterms:W3CDTF">2022-05-27T05:11:58Z</dcterms:modified>
  <cp:revision>969</cp:revision>
  <dc:subject/>
  <dc:title>スライド 1</dc:title>
</cp:coreProperties>
</file>