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B5A9-7A79-43E1-9C04-34EDBA0D09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BCDA-7293-4E2F-8D4A-52A0C51EF2C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C56-7B51-470E-946D-D94E0060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458-4323-4E1F-B78E-5A7594E3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84E-16C8-496A-8B84-2D2C2A60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FB7-3306-4DA9-B991-7F5B3902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30E-FF6B-4EB2-9230-CA555D5D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0FE-0679-4A64-B9F7-1EA53399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F7F-6F2C-43D6-B1A6-4A69C49A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026-1E42-4CCD-8CF7-2486CE6B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DA2-B85B-4A9B-A9D7-1F5B3932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BCC-17A9-47D2-9BEF-03DDF37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274-8ECE-4108-B874-9F5707C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C16E-8D50-42AE-ADD1-5265EA40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483C-CA23-4C8A-91DF-B2B878EC576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巻農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生徒の幸福は教職員全体の幸福から</a:t>
            </a:r>
            <a:r>
              <a:rPr b="0" lang="en-US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Ⅱ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65240" y="6929280"/>
            <a:ext cx="7118280" cy="10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月に１回以上、計画的な年次休暇を取得する教職員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時間外在校等時間月平均４５時間超職員→　　３％（１人また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）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学校評価「花農に勤務できて良かった」→肯定的回答が８５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54080" y="656424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647640" y="1101600"/>
            <a:ext cx="126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巻農業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4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を取得する職員が少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月当たりの時間外在校等時間が月平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８時間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は教職員全体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年平均３．２ヶ月（Ｒ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績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部活動繁忙期と特定の職員に時間外勤務８０時間以上が集中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遅くても校舎の施錠時刻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9: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に退勤するという意識が浸透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外部の専門的なスタッフを活用して、教職員の負担を軽減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自己研鑽の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充実感や安心感を感じながら、教育活動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生徒一人一人と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の業務や健康面において助言や支援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11640" y="4376880"/>
            <a:ext cx="3963960" cy="21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を取得しやすい環境づくりに向け、定期考査期間の研修会や会議の実施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適切なＩＣＴ活用について積極的に提案し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事務について管理職が必要に応じて助言や支援を行い、教職員の負担軽減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間で意見を出しながら業務の効率化に取り組み、教職員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7680" y="4392720"/>
            <a:ext cx="3745080" cy="3014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分掌の割当について、業務量の適正化を図るよう関係主任との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においては、一人の教職員に過度の負担が掛からないよう、顧問間で交代で休める環境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状況により休める場合には、１時間単位でも年次休暇の取得を励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本校の「学校の部活動に係る活動方針」に基いた部活動を展開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と一体となったコミュニティスクールの取組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11"/>
          <p:cNvSpPr/>
          <p:nvPr/>
        </p:nvSpPr>
        <p:spPr>
          <a:xfrm>
            <a:off x="1109520" y="808020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87560" y="4392720"/>
            <a:ext cx="4024080" cy="2138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在校時間の縮減の取組を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取得について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時間勤務者に対しては管理職による面談を実施し、教職員の心と体の健康状態の把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少しでも健康状態に変化が認められた場合は、体調を優先し、医療機関を受診するよう指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正方形/長方形 2"/>
          <p:cNvSpPr/>
          <p:nvPr/>
        </p:nvSpPr>
        <p:spPr>
          <a:xfrm>
            <a:off x="8462880" y="7650000"/>
            <a:ext cx="49532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花巻農業高等学校長　小船光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大木　由里</cp:lastModifiedBy>
  <cp:lastPrinted>2022-06-02T03:40:32Z</cp:lastPrinted>
  <dcterms:modified xsi:type="dcterms:W3CDTF">2022-06-02T03:40:34Z</dcterms:modified>
  <cp:revision>951</cp:revision>
  <dc:subject/>
  <dc:title>スライド 1</dc:title>
</cp:coreProperties>
</file>