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0400" y="739440"/>
            <a:ext cx="502128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EC13-6B49-4371-813A-D87944393ED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B8E7-40A3-401F-A12D-834645F6D3B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60400" y="739800"/>
            <a:ext cx="5021280" cy="37018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3200" y="4689000"/>
            <a:ext cx="53956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BCC-0CB8-47BA-874E-6B5C6B60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566-A07D-4168-B054-525980C9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C58-2A6E-4033-B5C5-59170015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EC56-C455-4D0F-9547-14A3126F9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B9C-4D70-42D9-848B-8DE9EE03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971-215E-468C-8479-CA88A473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F57-87A0-4CE7-A486-29C15AE2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D9FF-3E8E-4FDA-B4D6-27BA0F61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859-EF86-4F83-97B5-DE452D37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BF7-2BE7-4C69-9BBC-6EDDD17D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1EB-0FD5-4F5F-B4B6-B2D5ACB3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DB0F-885C-46C1-B550-91A30666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27AF-7DFD-4BC0-BCED-20F5FB5A883C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1200" rIns="152280" tIns="14400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紫波総合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「質の高い教育の持続的提供のために」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260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者を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外在校等時間（週休日の部活動指導従事時間を除く。）が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、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の者を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和２年度実績の８割減（Ｒ５はゼロ）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教職員へのアンケート調査で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「肯定的実感」が、前年度より向上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Ｐゴシック"/>
              </a:rPr>
              <a:t>紫波総合高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ＭＳ Ｐゴシック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・　時間外在校等時間（週休日の部活動指導従事時間を除く。）が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者の割合（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度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1.9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％、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3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度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2.4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％、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4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目標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9.5%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人 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・　時間外在校等時間（週休日の部活動指導従事時間を除く。）が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者の割合（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度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34.7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％、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3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度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％ 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300h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超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6.3%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4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目標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27.8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％年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3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人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・　健康管理区分がＣ１以下の者（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度は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34.5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％、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R3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度は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50.0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％ 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令和４年５月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日　紫波総合高等学校長　谷　藤　節　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教職員一人一人が、ワークライフバランス（仕事と家庭生活の調和）の実践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意識し、教育活動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・　生徒指導や教科指導などのあり方について、計画的かつ効率的に仕事が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められるよう、日頃から教職員間で共有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・　主体的・対話的で深い学びの実現を目指し、教材研究を深める時間が教職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に十分に確保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時間外勤務の縮減に向け、前例踏襲にとらわれること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く、各種見直しや分掌の統廃合などにつ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労働安全推進モデル校の取組例を参考に、できること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ら業務の効率化を進めＰＤＣＡを徹底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部活動指導員の任用・配置を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学校閉庁日を設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留守番電話等による時間外対応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（保護者への周知・理解促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ＭＳ Ｐ明朝"/>
                <a:ea typeface="ＭＳ Ｐ明朝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ＭＳ Ｐ明朝"/>
                <a:ea typeface="ＭＳ Ｐ明朝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ＭＳ Ｐ明朝"/>
                <a:ea typeface="ＭＳ Ｐ明朝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ＭＳ Ｐ明朝"/>
                <a:ea typeface="ＭＳ Ｐ明朝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ＭＳ Ｐ明朝"/>
                <a:ea typeface="ＭＳ Ｐ明朝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策定趣旨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○　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プランの期間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プランの目標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時間以上の者を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Ｐ明朝"/>
                <a:ea typeface="ＭＳ Ｐ明朝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時間超の者を下記のとおり段階的に縮減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　令和５年度において、アンケート調査に基づく肯定的実感が令和３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の実施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働き方改革プランの「心とからだの健康対策の取組」に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る保健指導制度等の周知徹底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管理職が、計画的な休暇取得等について促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・　生活習慣病予防を踏まえ、食事、運動等に関する話題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供、早期発見・早期治療を念頭に健康診断等の積極的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受診を勧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0"/>
          <p:cNvSpPr/>
          <p:nvPr/>
        </p:nvSpPr>
        <p:spPr>
          <a:xfrm>
            <a:off x="5146560" y="5184720"/>
            <a:ext cx="7661520" cy="9032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Ｒ４取組　①月曜日はノー残業デー（か・え・るの日）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 　　②会議の所要時間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終了目標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設定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 　　③月途中で時間外勤務時間を知らせ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　　 ④電話は、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以降「勤務時間外の留守応答」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谷藤　節雄</cp:lastModifiedBy>
  <cp:lastPrinted>2022-05-24T02:16:47Z</cp:lastPrinted>
  <dcterms:modified xsi:type="dcterms:W3CDTF">2022-05-24T02:16:47Z</dcterms:modified>
  <cp:revision>961</cp:revision>
  <dc:subject/>
  <dc:title>スライド 1</dc:title>
</cp:coreProperties>
</file>