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A8BD-9337-44ED-BAB8-E84312C5438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AEE6-84D8-44A9-BB8D-27F7D41B844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208-B356-4E07-991E-42C42A1C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788-490A-44FF-B773-FE0E021A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763-6BAA-4837-8799-E9844820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39C-DB28-4F6F-839D-C3FB1769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C8A-3260-450B-9C07-BF98A3D4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550-3ADC-49BB-8033-62F514FE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A0E-6131-4E33-A062-E2C6D8A7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1815-8DA5-4A85-8FC1-1B20FDAE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3D5-191C-4EB7-8640-38BDA94F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00EF-117C-4BC2-9DDB-C3A2B431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5DC-40A5-4B43-86B8-BD80F56D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66F-189D-4C65-A560-D69D46FF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8616-0F16-4454-9D22-929699A9367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岩手県立気仙光陵支援学校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「明るく楽しく元気よく」を実現する気仙光陵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、月４５時間を超えるケース→１０回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、年３６０時間を超える教職員→３名以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学校評価の「働き方改革」に関する項目について、「達成されている」と回答した教職員→９０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気仙光陵支援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水・金曜日のノー残業デーを意識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時間が「月４５時間以上」のケースが２０回みられた。（令和３年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時間が年３６０時間を超えた職員が５名（全体の約７％）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（令和３年度）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の偏りによる負担感や業務の精選の必要性を感じ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気仙光陵支援学校長　石川　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健康で生き生きとした生活を送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児童生徒と向き合う時間、授業準備の時間を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の偏りを軽減し、教職員間の協力体制が構築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多忙化の現状等について把握し、業務の効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率化や精選について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において、学校の現状についてお知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らせし、改善に向けてのご意見をいただ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の縮減に向けての取組を実施し、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石川　則子</cp:lastModifiedBy>
  <cp:lastPrinted>2022-05-27T10:08:56Z</cp:lastPrinted>
  <dcterms:modified xsi:type="dcterms:W3CDTF">2022-05-27T10:11:04Z</dcterms:modified>
  <cp:revision>945</cp:revision>
  <dc:subject/>
  <dc:title>スライド 1</dc:title>
</cp:coreProperties>
</file>