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316-C011-4F5B-B264-88F71000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115-B95A-436B-AD59-86E1A53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BE0-B810-4FD5-89F9-0C41D73B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F94-E982-4873-8CBE-DB758B52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575-140B-446F-A04F-8CB2462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71F4-D294-431E-85C1-ECE8B77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45C-8762-46CC-BB34-B577A56B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2EA-27C7-4FFB-B54B-989128D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421-025A-458D-9EC7-D496C0F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1A2-2FC1-47FC-AB23-93CD1FA4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212-D933-441E-A5B6-9DEBE511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84FD-AB02-49F2-82B5-928D33F4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3A78-65FC-4AC2-B4CF-9CD7C2B9BF4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フッター プレースホルダー 1"/>
          <p:cNvSpPr/>
          <p:nvPr/>
        </p:nvSpPr>
        <p:spPr>
          <a:xfrm>
            <a:off x="4673520" y="9180360"/>
            <a:ext cx="4334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3"/>
          <p:cNvSpPr/>
          <p:nvPr/>
        </p:nvSpPr>
        <p:spPr>
          <a:xfrm>
            <a:off x="905040" y="90360"/>
            <a:ext cx="12015720" cy="1055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農業高等学校　教職員　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c00000"/>
                </a:solidFill>
                <a:latin typeface="HGS創英角ｺﾞｼｯｸUB"/>
                <a:ea typeface="HGS創英角ｺﾞｼｯｸUB"/>
              </a:rPr>
              <a:t>～働き方改革はもう常識、「チーム盛農」で取り組むワーク・ライフ・バランス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2"/>
          <p:cNvSpPr/>
          <p:nvPr/>
        </p:nvSpPr>
        <p:spPr>
          <a:xfrm>
            <a:off x="808200" y="1224000"/>
            <a:ext cx="124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農業高校では、「岩手県教職員働き方改革プラン（２０２１～２０２３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885960" y="1584360"/>
            <a:ext cx="590868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885960" y="1952640"/>
            <a:ext cx="5908680" cy="1792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　時間外勤務　　　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ｈ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月平均）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6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 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、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年次休暇等取得状況（平均日数）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年次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、夏季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3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、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：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.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寄宿舎及び農場当直担当日数（毎月）　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　寄宿舎：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、農場：約２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　　　　　　　　　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：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、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〃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 ：約２回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　指導管理票交付者数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２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５　一部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６　働き方改革の具体的取組に係る周知・推進の徹底不足、意識不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6794640" y="1951200"/>
            <a:ext cx="333360" cy="160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c9c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7128000" y="1590840"/>
            <a:ext cx="590868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7128000" y="1940040"/>
            <a:ext cx="5908680" cy="1805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　教職員が心身の健康を保ち、生徒のために生き生きと教育活動に励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　教職員が自己研鑽の時間を確保し、互いに授業力を高め合う雰囲気に満ち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　「チーム盛農」として、教職員一人一人が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　管理職が日頃から、教職員に対し話しやすい雰囲気をつ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５　教職員間で常に前向きなコミュニケーションが取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６　先を見据えた業務確認により、効率的かつ効果的な業務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　業務の平準化が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８　教職員が余暇を十分に活用し、家族とともに人生を豊かに送ること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時退庁しやすい雰囲気が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885960" y="3817800"/>
            <a:ext cx="121554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892080" y="4216320"/>
            <a:ext cx="3913200" cy="1946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１１１１１１１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4797360" y="4191120"/>
            <a:ext cx="4116600" cy="19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8912160" y="4191120"/>
            <a:ext cx="4121280" cy="197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879480" y="6242040"/>
            <a:ext cx="6078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85960" y="6607080"/>
            <a:ext cx="6080040" cy="1457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　時間外勤務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月８０ｈ以上の者　０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２　休暇取得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年次休暇　年間で一人１５日以上取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３　夏季休暇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００％取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４　新たな長期病休者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０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５　ノー残業デー（毎週月曜日）の確実な実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６　年間週平均２日以上の部活動休養日（オフシーズンは土日のどちらかを入れる）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…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１００％実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７　全職員が一体となった働き方改革の推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８　明るい職場風土づくりの推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8"/>
          <p:cNvSpPr/>
          <p:nvPr/>
        </p:nvSpPr>
        <p:spPr>
          <a:xfrm>
            <a:off x="885960" y="4178160"/>
            <a:ext cx="39416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9"/>
          <p:cNvSpPr/>
          <p:nvPr/>
        </p:nvSpPr>
        <p:spPr>
          <a:xfrm>
            <a:off x="4800600" y="4178160"/>
            <a:ext cx="412740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20"/>
          <p:cNvSpPr/>
          <p:nvPr/>
        </p:nvSpPr>
        <p:spPr>
          <a:xfrm>
            <a:off x="8908920" y="4178160"/>
            <a:ext cx="413244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学校及び教員が担う業務の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テキスト ボックス 21"/>
          <p:cNvSpPr/>
          <p:nvPr/>
        </p:nvSpPr>
        <p:spPr>
          <a:xfrm>
            <a:off x="922320" y="4522680"/>
            <a:ext cx="375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 週１回ノー残業デーを設定し、定時退庁を呼びかけ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テキスト ボックス 22"/>
          <p:cNvSpPr/>
          <p:nvPr/>
        </p:nvSpPr>
        <p:spPr>
          <a:xfrm>
            <a:off x="920880" y="4724280"/>
            <a:ext cx="3886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 管理職による職員面談を実施し、職員の健康観察をおこない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23"/>
          <p:cNvSpPr/>
          <p:nvPr/>
        </p:nvSpPr>
        <p:spPr>
          <a:xfrm>
            <a:off x="909720" y="5305320"/>
            <a:ext cx="393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４ 年次休暇の取得推進を呼びかけます（振替取得推進）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24"/>
          <p:cNvSpPr/>
          <p:nvPr/>
        </p:nvSpPr>
        <p:spPr>
          <a:xfrm>
            <a:off x="7937640" y="7748640"/>
            <a:ext cx="514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令和４年６月１日　岩手県立盛岡農業高等学校長　畠　山　一　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25"/>
          <p:cNvSpPr/>
          <p:nvPr/>
        </p:nvSpPr>
        <p:spPr>
          <a:xfrm>
            <a:off x="905040" y="5518080"/>
            <a:ext cx="3848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５ 職員同士が相談しやすい職場の雰囲作りをおこな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1"/>
          <p:cNvSpPr/>
          <p:nvPr/>
        </p:nvSpPr>
        <p:spPr>
          <a:xfrm>
            <a:off x="4838760" y="4599000"/>
            <a:ext cx="4075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 各種文書の簡素化、ペーパーレス化により業務の効率化をはか　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1"/>
          <p:cNvSpPr/>
          <p:nvPr/>
        </p:nvSpPr>
        <p:spPr>
          <a:xfrm>
            <a:off x="4838760" y="5006880"/>
            <a:ext cx="408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 部活動指導員の活用により教職員の負担軽減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1"/>
          <p:cNvSpPr/>
          <p:nvPr/>
        </p:nvSpPr>
        <p:spPr>
          <a:xfrm>
            <a:off x="4844880" y="5305320"/>
            <a:ext cx="407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３ ＰＣ共通フォルダの活用による各種様式の共有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1"/>
          <p:cNvSpPr/>
          <p:nvPr/>
        </p:nvSpPr>
        <p:spPr>
          <a:xfrm>
            <a:off x="919080" y="5073480"/>
            <a:ext cx="4075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３ 部活動休養日を設定し、職員の健康保持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21"/>
          <p:cNvSpPr/>
          <p:nvPr/>
        </p:nvSpPr>
        <p:spPr>
          <a:xfrm>
            <a:off x="4844880" y="5603760"/>
            <a:ext cx="4227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４ 生徒情報の共有を事務室とはかり会計業務を推進し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テキスト ボックス 21"/>
          <p:cNvSpPr/>
          <p:nvPr/>
        </p:nvSpPr>
        <p:spPr>
          <a:xfrm>
            <a:off x="8940960" y="4581360"/>
            <a:ext cx="4074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１　地域からの農業関係イベントへの参加依頼について、農業関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団体、関係機関と連携し調整をはか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テキスト ボックス 21"/>
          <p:cNvSpPr/>
          <p:nvPr/>
        </p:nvSpPr>
        <p:spPr>
          <a:xfrm>
            <a:off x="8935920" y="5045040"/>
            <a:ext cx="4081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２　学校や教員が担う業務の明確化について、保護者との共通認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　識をはかり推進します 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5"/>
          <p:cNvSpPr/>
          <p:nvPr/>
        </p:nvSpPr>
        <p:spPr>
          <a:xfrm>
            <a:off x="906480" y="5732640"/>
            <a:ext cx="3848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６ 「時間外勤務状況票（盛農版）」の配付により、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『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見える化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』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を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　図り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正方形/長方形 11"/>
          <p:cNvSpPr/>
          <p:nvPr/>
        </p:nvSpPr>
        <p:spPr>
          <a:xfrm>
            <a:off x="930240" y="8169120"/>
            <a:ext cx="1214748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正方形/長方形 12"/>
          <p:cNvSpPr/>
          <p:nvPr/>
        </p:nvSpPr>
        <p:spPr>
          <a:xfrm>
            <a:off x="7128000" y="8209080"/>
            <a:ext cx="5614920" cy="419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559640" y="8647200"/>
          <a:ext cx="443376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0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正方形/長方形 8"/>
          <p:cNvSpPr/>
          <p:nvPr/>
        </p:nvSpPr>
        <p:spPr>
          <a:xfrm>
            <a:off x="7156440" y="9340920"/>
            <a:ext cx="5678640" cy="59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植木　淳</cp:lastModifiedBy>
  <cp:lastPrinted>2022-05-16T09:39:55Z</cp:lastPrinted>
  <dcterms:modified xsi:type="dcterms:W3CDTF">2022-05-16T09:39:56Z</dcterms:modified>
  <cp:revision>1026</cp:revision>
  <dc:subject/>
  <dc:title>スライド 1</dc:title>
</cp:coreProperties>
</file>