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A8BF-D7C2-4993-B2E9-3D1C6CABFC2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2886-8E1B-4E95-B73A-A5CB269CC09A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244E-616A-487A-96E9-5785CD56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6530-9445-43FF-B691-C58B7BEC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42E-6C33-419E-A33C-E27D3ED6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AEA2-1275-4826-B58C-B2FAFAF8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71D2-A129-4D82-8D1E-724D36B4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CE4-057B-4AC8-971B-D95594B9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3708-307C-4110-9818-2360F969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5C2D-E7AF-45C9-955D-53FFE4E3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B0B-374E-4361-AF88-A08B5094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B0C-D741-43CF-8EF2-4A9EA49B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45C-BE32-40AF-AA7D-EABB6BB6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413-1790-4991-A101-686A1545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B85D-491D-4248-9CAF-0F35B6E5A70B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90440" y="6665760"/>
            <a:ext cx="7118640" cy="12607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仕事にメリハリ（児童生徒について話し合う時間、各々の業務に向かう時間）をつけることを意識し、お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いに限られた時間を有効に使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業務の見直しで多忙間の縮減、年次有給休暇を有効に取得して、ワークライフバランスを確保し、職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がいきいきと活気のある職場環境を作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月に２回の定時退庁日（ノー残業デイ）を意識し業務を進めます。また、週に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度、個々に定時退庁日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申告し警備終了時間には業務を終了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2"/>
          <p:cNvSpPr/>
          <p:nvPr/>
        </p:nvSpPr>
        <p:spPr>
          <a:xfrm>
            <a:off x="90504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905040" y="1805040"/>
            <a:ext cx="573552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私は多忙化の解消や健康管理の取り組みをしている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からのアンケートの推移①「そう思う」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②「だいたいそう思う」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①と②を合計すると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が意識して取り組み前年度よ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程増え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４月の超過勤務が月平均４５時間以上の教職員が全体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（前年比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コロナ対応等により不規則、例外的な業務が一人一人の負担とな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業務内容、時期により時間外勤務をおこなう職員が偏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教職員が、児童生徒の指導について考え、授業の準備を行う時間を十分に確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教職員一人一人が、いきいきとやりがいを感じながら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管理職が日頃から、教職員とコミュニケーションをとり健康や業務について相談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きる体制に気を配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「前例」を見直す意識を持ち、計画的に業務を進め合理化や改善を進め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日々の業務、コロナ対応等「おかげさま、お互いさま、ありがとう」の心でお互い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気遣う明峰のお手伝い文化を促進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5075280" y="4379760"/>
            <a:ext cx="396396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業務内容に優先順位をつけ時間内で無理なく進める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うに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ワークシェアを実施することにより、業務の効率化を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ペーパーレス化を更に進め、書類等の整理や処理を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まめに行い効率的な職場の環境を作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管理職が、定時退庁に向け積極的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全職員が前例にとらわれず、業務削減の意識を持ち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務改善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会議の終わり時間をあらかじめ設定します。資料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事前配布、議題の精選につとめ会議の効率化を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勤務時間は７時間４５分であることを意識し、退勤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間に向けて時間、業務、様々な資源の効率化を図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ます。　（こまめに節約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「おかげさま、お互いさま、ありがとう」の気持ちで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互いに手伝う文化のさらなる定着を図ります（こま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に気遣う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711920" y="85107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働き方改革プランの業務改善の取組を確実に実施し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教職員の健康を確保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学校医（産業医）のアドバイスをいただきながら、全職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で健康維持に関する助言を共有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子育て、介護、家事、地域の行事への参加等、職員相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にプライベートでの負担を理解し、協力し合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月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回茶論（サロン）デイを開催し、教職員の円滑なコ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ュニケーションを促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811080" y="47520"/>
            <a:ext cx="12098520" cy="96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前沢明峰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16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快適な職場環境の整備「こまめに働き、こまめに経費・時間を節約し、こまめに気遣い、こまめにリフレッシュ」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正方形/長方形 2"/>
          <p:cNvSpPr/>
          <p:nvPr/>
        </p:nvSpPr>
        <p:spPr>
          <a:xfrm>
            <a:off x="7967520" y="754056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３１日　前沢明峰支援学校長　中野真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中村　和弘</cp:lastModifiedBy>
  <cp:lastPrinted>2021-05-11T05:05:06Z</cp:lastPrinted>
  <dcterms:modified xsi:type="dcterms:W3CDTF">2022-05-31T05:51:34Z</dcterms:modified>
  <cp:revision>939</cp:revision>
  <dc:subject/>
  <dc:title>スライド 1</dc:title>
</cp:coreProperties>
</file>