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CBA4-675C-43C5-B7B2-479BD062E34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31B1-E9F2-40A4-A39E-44B3AFD8350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7E64-41FC-4A5D-9E0A-4D99C56F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E07-B170-4230-BE57-097693D8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12B-64AD-43B5-859B-A7AB1C03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CE6-B4C2-4E4F-9040-77795F0B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B5F-3635-4D46-988C-C226E06D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46DA-F630-4248-B3E0-9303C51D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C13-C637-4E84-B6A3-1E29D6E9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C84-C179-4E16-807A-C93E3E78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1EB8-3DF7-4501-9AC9-01232739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2FA-05B8-464F-8603-366B8FFF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3960-AAB8-4BC7-9553-A632F3D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535-CB09-4D9D-AD7E-4E34BE50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8591-DE63-4749-8E8A-EB07AA684EBD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久慈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教職員の協働により、ワーク・ライフ・バランスのとれた職場に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員をゼロ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教員を、令和２年度実績の８割減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連続取得を奨励し、１年間の年次休暇取得率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に向上させ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見直を進め、各分掌等の１業務以上を削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久慈工業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３年度の教員の月平均時間外勤務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勤務を行った教員は１年間で延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勤務を行った教員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間で延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３年度の年次休暇取得率は、時間に換算し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.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３年度の健康管理区分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教職員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級担任・分掌・部顧問等の業務分担に偏りが見られるとともに、進路指導や資格取得指導が一部の教員に偏る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０日　久慈工業高等学校長　藤原徳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一人が、仕事にやりがいを感じるとともに、「チーム久慈工業」として、教職員が協働し、支え合いながら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ワーク・ライフ・バランスがとれ、家庭やプライベートの時間が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日頃から、教職員に対し面談を行い、業務に対する適切なサポート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学校全体の業務量の軽減、負担感の緩和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が優先順位を考えながら、効率的に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チーム久慈工業として教職員の協働体制を構築し、担任３人制、複数部顧問制により業務の平準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効率的遂行への意識を高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見直しを進め、形骸化した業務・効果の薄い業務を削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を徹底するとともに、部顧問間の連携を強化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会議と職員朝会について、所要時間を短縮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の将来を担うものづくり人材を育成するため、 「三つの方針（スクール・ポリシー）策定」及び「いわて高校魅力化・ふるさと創生推進事業」における地域の自治体や関係機関との連携・協働をより深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「コミュニティ・スクール」の導入に向けて、地域とともにある学校づくり推進フォーラムにおける取組事例の発表等を参考にし、「高校魅力化推進コンソーシアム」からの移行も踏まえて、主体的に準備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時間勤務者に対する面談を行うとともに、必要に応じて業務の在り方を検討・改善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ワーク・ライフ・バランスシートを活用するなどして、教職員の状況を把握し、サポー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やメンタルヘルス相談等の積極的利用を推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・特別休暇等の積極的な取得を推奨します。また、学校閉庁日を設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711920" y="85503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藤原　徳久</cp:lastModifiedBy>
  <cp:lastPrinted>2021-06-29T07:07:26Z</cp:lastPrinted>
  <dcterms:modified xsi:type="dcterms:W3CDTF">2022-05-30T05:02:19Z</dcterms:modified>
  <cp:revision>1011</cp:revision>
  <dc:subject/>
  <dc:title>スライド 1</dc:title>
</cp:coreProperties>
</file>