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46280"/>
            <a:ext cx="505800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532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5320"/>
            <a:ext cx="2970360" cy="498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419-B6B9-49B3-A158-A6409FEAC1A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944568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B41-0B76-4BD9-A074-DB60389F901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0000" y="746280"/>
            <a:ext cx="505800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778-FD44-44AC-8B0E-83B105FB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CAB-CEC8-45AC-8FBC-6B0316AE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1C1-FB16-46E6-87CF-65ED2B75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8A4-43AF-49AB-9EAE-0504444E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EAA-36DC-4792-BF8C-5012549F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A86-DF56-4F74-9136-91D1D8D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8BE-30B8-4D7E-A34C-515E3D15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E2F5-4B94-4619-890A-FC2B6EA9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006-F169-4834-8441-98ACBAAE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980-7E49-4CD8-8456-E0A603CC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485-A9E0-482A-9BB8-B3B8B64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10CD-F77B-4AB5-9FD1-83DB2C3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EC42-CDD2-456F-B973-19989818341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宮古北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206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職場の雰囲気がよく、働きやすいと感じて教育活動を行う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勤務を行う教職員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の時間外在校等時間勤務する教職員→令和３年度比で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割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以上定時退庁する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間の有給休暇５日以上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単位）と夏期休暇５日を取得している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824040" y="1103400"/>
            <a:ext cx="1244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宮古北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206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３年度における職員の時間外勤務時間は少ない傾向に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職員の割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職員の割合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職員数が少ないため、赴任して初めて業務を担当するケース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業務に専門性が求められる分野の担当の負担が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部活動方針に則り、適切に休養日及び活動時間を設定し、実施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０日　宮古北高等学校長　佐藤　禎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206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一人が、創造性を持って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、教職員の勤務状況を把握し、適切な支援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組織的に業務が行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いきいきとやりがいをもって、生徒に向き合うことが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協議により業務・行事の適切なスクラップ＆ビルド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留守番電話機能の活用により、職員の時間外勤務を軽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保護者メールや学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ページの活用により対外的な情報共有の効率化を推進します。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J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促進と意識改革を目的に、週に１度職員朝会時に職員によ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J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発表会を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生徒指導や教育相談について、積極的に外部との連携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コミュニティ・スクール導入の検討を進め、対外行事等への参加の精選など、持続可能な連携方法について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例年実施している行事、会議について、その目的を改めて確認し、内容の検討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年次休暇及び振替等の取得を奨励し、ライフとワークの両方の充実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頃から、休暇を取得しやすい職場環境の醸成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について配慮できるように、日常の会話を大切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藤　禎信</cp:lastModifiedBy>
  <cp:lastPrinted>2022-05-30T00:46:57Z</cp:lastPrinted>
  <dcterms:modified xsi:type="dcterms:W3CDTF">2022-05-30T00:50:23Z</dcterms:modified>
  <cp:revision>952</cp:revision>
  <dc:subject/>
  <dc:title>スライド 1</dc:title>
</cp:coreProperties>
</file>