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5920"/>
            <a:ext cx="5057640" cy="37256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886C-F395-4C5A-A535-A758216F18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CEC9-857A-417F-8077-78BFB4DB384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6280"/>
            <a:ext cx="5057640" cy="3725640"/>
          </a:xfrm>
          <a:prstGeom prst="rect">
            <a:avLst/>
          </a:prstGeom>
          <a:ln w="0">
            <a:noFill/>
          </a:ln>
        </p:spPr>
      </p:sp>
      <p:sp>
        <p:nvSpPr>
          <p:cNvPr id="7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F1F34-4248-4A2D-A369-D1264D832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531B-4A3F-410B-A80F-06AAB5CD5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0E214-DB10-4F69-A476-706E5655C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03D03-1D2B-4807-B85F-7F17B0845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34DE5-961E-40A4-B1DF-C5E47C9A6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1FAC8-1FB3-46C2-BD96-B684FDE58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C428-94A9-4031-B003-C69EF94BA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2957D-9A13-4A29-B317-EF7A23239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FF8F8-2470-4CE2-9E23-A5B827707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4058-9CC3-49A1-85E0-EE726200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5C049-FF71-406B-A423-03D67BB42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D030-24E7-4453-95A6-FA1A19B81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CF92-B30F-4F7D-ACD3-E4CF51732AA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沼宮内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ja-JP" sz="2000" spc="-1" strike="noStrike">
                <a:solidFill>
                  <a:srgbClr val="7f7f7f"/>
                </a:solidFill>
                <a:latin typeface="HGS創英角ｺﾞｼｯｸUB"/>
                <a:ea typeface="HGS創英角ｺﾞｼｯｸUB"/>
              </a:rPr>
              <a:t>働きがいを感じ、ワークライフバランスがとれている職場の実現</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従事時間を除く）が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を超える教職員→ゼ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が月</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える教職員→できるだけ当該の月に、</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過した時間以上の振替あるいは年次休暇を取得し、休養に努め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１日単位の年次休暇を５日以上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沼宮内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の月平均時間は１７時間程度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大会や学校行事などで、一部教職員に業務が 集中している時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は、比較的取得しやすい環境にある。（他の教職員の理解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の見直しや改善についての取組・改善していると回答した教職員は</a:t>
            </a:r>
            <a:r>
              <a:rPr b="0" lang="en-US" sz="1200" spc="-1" strike="noStrike">
                <a:solidFill>
                  <a:srgbClr val="000000"/>
                </a:solidFill>
                <a:latin typeface="Arial"/>
              </a:rPr>
              <a:t>100</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数が少ないため、教職員の業務内容が多岐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１９日　沼宮内高等学校長　菊池　省治</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8172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本校の生徒１人ひとりがいきいきと学校生活を送り成長するために、教職員が心身ともに健康な状態で生徒に向き合うことができ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に関しての合意形成のプロセスを明確にし、教職員が一体となって遂行することで、多忙感を解消するとともに達成感が得ら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個々の教職員が適切なワークライフバランスを維持することにより、業務を推進し生徒に向き合う活力にあふれる心身の状態を保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や同僚に気軽に相談や提案ができるような職場環境であ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の解消に向け、正確な勤務実態の把握に努めて問題点を明らかにし、解消の方策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校内分掌の適切な配置を行い、各主任と緊密に連携し、業務分担を適切に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全体及び分掌内で情報共有や合意形成を丁寧に行い、一致して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本来の業務に専念できるよう、</a:t>
            </a:r>
            <a:r>
              <a:rPr b="0" lang="en-US" sz="1200" spc="-1" strike="noStrike">
                <a:solidFill>
                  <a:srgbClr val="000000"/>
                </a:solidFill>
                <a:latin typeface="Arial"/>
              </a:rPr>
              <a:t>PTA</a:t>
            </a:r>
            <a:r>
              <a:rPr b="0" lang="ja-JP" sz="1200" spc="-1" strike="noStrike">
                <a:solidFill>
                  <a:srgbClr val="000000"/>
                </a:solidFill>
                <a:latin typeface="Arial"/>
              </a:rPr>
              <a:t>や連携先（役場）等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の配置の積極的な活用を進めて顧問の負担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不調を感じた場合は、軽微な段階で適切な対応を取ることを常日頃から推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年次休暇等を活用できる環境を整備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検診やサポート事業を周知し、活用を勧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個人の健康確保・自己管理が、他の教職員の負担増の防止や生徒指導の充実につながり、最終的に学校運営の成否に関わるという意識を持ち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浩</cp:lastModifiedBy>
  <cp:lastPrinted>2022-05-18T09:15:52Z</cp:lastPrinted>
  <dcterms:modified xsi:type="dcterms:W3CDTF">2022-05-18T09:22:15Z</dcterms:modified>
  <cp:revision>951</cp:revision>
  <dc:subject/>
  <dc:title>スライド 1</dc:title>
</cp:coreProperties>
</file>