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5ABB-602D-448A-9B9F-7F99DC5661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233C-4220-4ACE-A90F-CE4CA2E58F9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209D-F31C-48D1-931C-AE0E7925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630-5E3B-4ACA-A0F5-47069F1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998-81A1-421E-9E66-416DF61F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EC2-4590-49BF-9854-DB93DD3C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960-3766-46D9-A7AA-452A913A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16B-8F11-4907-9B26-E5894EFF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0B5-1365-40EA-9F49-2C123824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90C-2CDF-40F3-BFEF-5D57F525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28B-5F6B-4345-88DF-72D558BD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B99-9496-4EC8-A897-F6B626D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FD2-BF8A-45C4-96A5-EA66489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EF8-6A69-483D-B80C-EB72B21C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347-CEC9-4CBC-9454-A1999599094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83320" y="-2192040"/>
            <a:ext cx="720720" cy="11728440"/>
          </a:xfrm>
          <a:custGeom>
            <a:avLst/>
            <a:gdLst>
              <a:gd name="textAreaLeft" fmla="*/ 0 w 720720"/>
              <a:gd name="textAreaRight" fmla="*/ 721080 w 72072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</a:t>
            </a:r>
            <a:r>
              <a:rPr b="0" lang="ja-JP" sz="2400" spc="-1" strike="noStrike">
                <a:solidFill>
                  <a:srgbClr val="7030a0"/>
                </a:solidFill>
                <a:latin typeface="HGS創英角ｺﾞｼｯｸUB"/>
                <a:ea typeface="HGS創英角ｺﾞｼｯｸUB"/>
              </a:rPr>
              <a:t>盛岡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保持の実現と、誇りとやりがいを持った職場をめざ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614520" y="627840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9640" y="6486480"/>
            <a:ext cx="11688480" cy="1055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平均の勤務は、１日当たりの在校時間を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時間以内と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週休日である土曜日、日曜日については、連続して業務に従事することがないよう、複数顧問の中で調整しながら必ず休養できる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　　  よう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職員が健康で業務に取り組める環境を整える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16760"/>
            <a:ext cx="1168056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   目　  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3780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573120" y="1101600"/>
            <a:ext cx="1260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工業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66960"/>
            <a:ext cx="5545080" cy="1320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ＭＳ Ｐゴシック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月当たりの時間外勤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の割合が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3(2.5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2(6.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　　　　　　　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1(14.1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2)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外勤務の多くが部活動指導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ＭＳ Ｐゴシック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職員健康区分について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区分の割合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3(50.0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2(56.2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1(57.3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H30(52.0%)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H29(57.6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(4)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一部では外部団体の業務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280360" y="7639200"/>
            <a:ext cx="4721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４年４月７日　岩手県立盛岡工業高等学校長　佐々木　光　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419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教職員一人ひとりが、限られた時間の中で最大限の効果を上げ、達成感を感じながら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業務に取り組む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管理職が日頃から、教職員に対し教職員の仕事の実態を把握し、役割分担の在り方や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業務の進め方など様々な観点からの見直しや平準化を進め、よりよい働き方への意 識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改革を進め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3)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教職員が、健康でいきいきと業務を行い、授業やその準備に集中できており、誇りと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りがいをもって生徒たちに向き合う時間を確保する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24720" y="1906560"/>
            <a:ext cx="676080" cy="111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680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5460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各職員が、マネジメント能力を発揮し、各学科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各学年、各分掌及び全体が「チーム盛工」とし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業務遂行がより一層できるよう積極的に全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推進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部活動の負担軽減に向け、週１日以上の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養日を徹底しながら、外部人材の登用につ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て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4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長時間勤務者（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）への産業医の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保健指導を行うなど取組を確実に実施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  管理職が、毎年実施される健康診断結果を把握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及び分析し、医療機関等への受診が必要な教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員に対して、積極的に声がけを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光男</cp:lastModifiedBy>
  <cp:lastPrinted>2022-05-23T10:20:35Z</cp:lastPrinted>
  <dcterms:modified xsi:type="dcterms:W3CDTF">2022-05-23T10:20:56Z</dcterms:modified>
  <cp:revision>943</cp:revision>
  <dc:subject/>
  <dc:title>スライド 1</dc:title>
</cp:coreProperties>
</file>