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92D8-7120-4F43-AF11-F5F3DEB7F2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00E8-22DD-4ED6-B225-56E0CD57A2D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74C-3504-4C16-81C9-E8DF41B6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149E-D172-49E5-940A-1FBB9EA8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086-217F-47D6-8CB6-811F08C9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084-5284-4805-B702-D5C27B04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9B4-4CA5-49A2-9CFA-BA1B8CA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CC6-7742-4843-9354-C4B153C5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290-1F60-46C1-8A10-EAD1E487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79A-0389-4D35-ACCE-373D83F6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5E3-0572-4C77-A830-54CD3072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E6E-A2B0-43DE-A2F3-298CD2AB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840-5029-49EA-BC0D-29A285BF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9DB-2143-4698-8465-A29089F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D9F9-B1F4-46E5-9EEA-87FC64686C5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前沢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～目指すところは働きがいのある持続可能な職場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４５時間を越える職員割合を１６％以内とする（昨年１８％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職員の時間外勤務時間の年平均時間を３０時間以内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の年次休暇取得平均日数を昨年より平均１日分増やす（１４日→１５日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の縮減にとどまらない、働きがいを感じる教職員が増えるように、意見を集めながら進めてい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前沢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３年度、教職員の時間外勤務時間の平均が３２時間を超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月４５時間を越える職員の割合が１８％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一部職員は時間外勤務時間の全体平均を大きく超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遠距離通勤者がいて、時間外勤務時間だけで負担の状況を判断でき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場合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１１日　前沢高等学校長　坂井廣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働き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突然休暇を申請しても周りの職員が業務をカバーできる態勢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業務に関連して意見、アイデアを表明しやすい職場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校組織がチームとしてのまとまりがあり、進むべき方向性について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共通した認識があ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改善を常に意識し、スクラップアンドビルトの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え方で臨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意味ない「前例踏襲」はや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に「効率」という観点を追求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評議員や外部の方の意見を取り入れて業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の適正化を図るよう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に関わることで、地域の協力を仰げる可能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について模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勤務状況は常に注視し、健康を害すること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ない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メンタルヘルスについても注視してい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適切なところで声か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坂井　廣幸</cp:lastModifiedBy>
  <cp:lastPrinted>2022-05-15T23:44:43Z</cp:lastPrinted>
  <dcterms:modified xsi:type="dcterms:W3CDTF">2022-05-15T23:44:47Z</dcterms:modified>
  <cp:revision>946</cp:revision>
  <dc:subject/>
  <dc:title>スライド 1</dc:title>
</cp:coreProperties>
</file>