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3FA73-2793-4C48-816D-4E3E7AC8FF5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02E34-1F6F-4091-8D0A-2CD449E1DD0D}"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58960" y="739800"/>
            <a:ext cx="5018040" cy="3699000"/>
          </a:xfrm>
          <a:prstGeom prst="rect">
            <a:avLst/>
          </a:prstGeom>
          <a:ln w="0">
            <a:noFill/>
          </a:ln>
        </p:spPr>
      </p:sp>
      <p:sp>
        <p:nvSpPr>
          <p:cNvPr id="7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CE2F0A-8482-436B-8C3D-06312758B2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8D401-5A8F-42D0-A47D-28EF68618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7F9E39-D065-4B36-AB03-F447DAC6E2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D3E9D-D6BD-48C1-8C04-EE2A22B1BA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AB9D8-DF2B-4474-987D-5CC4C0644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A5282-7B22-489B-ACFA-6AB4EEBF4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CA4AF-706B-4494-9850-CCEF8047D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B2E3E-B15C-4CE1-B09C-DE3ABA237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A9FC9-7025-4E7D-BAA5-AA337BA94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91414-6E8B-41A5-AE12-0DF1544B3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1603F-8BEF-46B3-89EF-04B6FC3FB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7B066-D8C7-4023-91EE-E818BE7D6C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B749F-75D4-4603-9AC9-8D0BCBCE66E7}"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000" spc="-1" strike="noStrike">
                <a:solidFill>
                  <a:srgbClr val="000000"/>
                </a:solidFill>
                <a:latin typeface="HGS創英角ｺﾞｼｯｸUB"/>
                <a:ea typeface="HGS創英角ｺﾞｼｯｸUB"/>
              </a:rPr>
              <a:t>令和４年度　黒沢尻北高等学校教職員 働き方改革アクションプラン</a:t>
            </a:r>
            <a:endParaRPr b="0" lang="en-US" sz="20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1800" spc="-1" strike="noStrike">
                <a:solidFill>
                  <a:srgbClr val="7f7f7f"/>
                </a:solidFill>
                <a:latin typeface="HGS創英角ｺﾞｼｯｸUB"/>
                <a:ea typeface="HGS創英角ｺﾞｼｯｸUB"/>
              </a:rPr>
              <a:t>～「</a:t>
            </a:r>
            <a:r>
              <a:rPr b="0" lang="ja-JP" sz="1800" spc="-1" strike="noStrike">
                <a:solidFill>
                  <a:srgbClr val="000000"/>
                </a:solidFill>
                <a:latin typeface="HGS創英角ｺﾞｼｯｸUB"/>
                <a:ea typeface="HGS創英角ｺﾞｼｯｸUB"/>
              </a:rPr>
              <a:t>持続可能な働き方目標（ＳＷＳＧｓ）」の設定と実践</a:t>
            </a:r>
            <a:r>
              <a:rPr b="0" lang="ja-JP" sz="1800" spc="-1" strike="noStrike">
                <a:solidFill>
                  <a:srgbClr val="7f7f7f"/>
                </a:solidFill>
                <a:latin typeface="HGS創英角ｺﾞｼｯｸUB"/>
                <a:ea typeface="HGS創英角ｺﾞｼｯｸUB"/>
              </a:rPr>
              <a:t>～</a:t>
            </a:r>
            <a:endParaRPr b="0" lang="en-US" sz="18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55520" y="6742080"/>
            <a:ext cx="7635960" cy="12207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夏季休業中の学校閉庁日４日間（８／１２～１５）→実施１００％</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冬季休業中の学校閉庁日６日間（１２／２９～１／３）→実施１００％</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職員の夏季休暇の完全取得率→１００％実施</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年度内、２日以上連続の年次有給休暇の取得→全職員１回は取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各部ごとの部活動休養日を含む月計画の保護者配布→計画の１００％実施（年間１０４日）</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月毎のカレンダーに教職員個々が自分の「定時退勤日」を記入する等による週１日の「か・えるの日」実施</a:t>
            </a:r>
            <a:endParaRPr b="0" lang="en-US" sz="1200" spc="-1" strike="noStrike">
              <a:solidFill>
                <a:srgbClr val="000000"/>
              </a:solidFill>
              <a:latin typeface="Arial"/>
            </a:endParaRPr>
          </a:p>
        </p:txBody>
      </p:sp>
      <p:sp>
        <p:nvSpPr>
          <p:cNvPr id="52" name="Rectangle 70"/>
          <p:cNvSpPr/>
          <p:nvPr/>
        </p:nvSpPr>
        <p:spPr>
          <a:xfrm>
            <a:off x="573120" y="6742080"/>
            <a:ext cx="482400" cy="12207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573120" y="1457280"/>
            <a:ext cx="6051600" cy="33336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573120" y="3427560"/>
            <a:ext cx="12444480" cy="27756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287280" y="1103400"/>
            <a:ext cx="1303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黒沢尻北高等学校では、「岩手県教職員働き方改革プラン（</a:t>
            </a:r>
            <a:r>
              <a:rPr b="0" lang="en-US" sz="1600" spc="-1" strike="noStrike">
                <a:solidFill>
                  <a:srgbClr val="000000"/>
                </a:solidFill>
                <a:latin typeface="Arial"/>
              </a:rPr>
              <a:t>2021</a:t>
            </a:r>
            <a:r>
              <a:rPr b="0" lang="ja-JP" sz="1600" spc="-1" strike="noStrike">
                <a:solidFill>
                  <a:srgbClr val="000000"/>
                </a:solidFill>
                <a:latin typeface="Arial"/>
              </a:rPr>
              <a:t>～</a:t>
            </a:r>
            <a:r>
              <a:rPr b="0" lang="en-US" sz="1600" spc="-1" strike="noStrike">
                <a:solidFill>
                  <a:srgbClr val="000000"/>
                </a:solidFill>
                <a:latin typeface="Arial"/>
              </a:rPr>
              <a:t>2023</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6" name="Rectangle 70"/>
          <p:cNvSpPr/>
          <p:nvPr/>
        </p:nvSpPr>
        <p:spPr>
          <a:xfrm>
            <a:off x="573120" y="1784520"/>
            <a:ext cx="6051600" cy="1533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Ｒ３年度勤務時間外の平均時間数は３７時間　（１２ヶ月単純平均）（Ｒ１：４７時間Ｒ２：４２時間）であり、８０時間を超えた職員は延べ人数１０人（Ｒ１：８７人Ｒ２：３６人）、全体の１．８％（Ｒ１：１６．１％Ｒ２：６．５％）。数値的には減少しているが、多くの職員は部活動の大会や遠征等の休日業務に起因する時間外在校時間等を有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平日の校舎の鍵の貸し出し回数は大幅に減少したが、ほぼ毎日、最終退庁時間間際まで翌日の授業準備等の業務に当たらざるを得ない教職員が相当数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運営委員会などで分掌主任には業務分担の均一化の徹底をお願いしているが、仕事量の軽減、いわゆる「スクラップ」は容易ではない。</a:t>
            </a:r>
            <a:endParaRPr b="0" lang="en-US" sz="1200" spc="-1" strike="noStrike">
              <a:solidFill>
                <a:srgbClr val="000000"/>
              </a:solidFill>
              <a:latin typeface="Arial"/>
            </a:endParaRPr>
          </a:p>
        </p:txBody>
      </p:sp>
      <p:sp>
        <p:nvSpPr>
          <p:cNvPr id="57" name="Rectangle 70"/>
          <p:cNvSpPr/>
          <p:nvPr/>
        </p:nvSpPr>
        <p:spPr>
          <a:xfrm>
            <a:off x="573120" y="3773520"/>
            <a:ext cx="43257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8" name="Rectangle 70"/>
          <p:cNvSpPr/>
          <p:nvPr/>
        </p:nvSpPr>
        <p:spPr>
          <a:xfrm>
            <a:off x="4898880" y="3772080"/>
            <a:ext cx="3992760" cy="38088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9" name="正方形/長方形 2"/>
          <p:cNvSpPr/>
          <p:nvPr/>
        </p:nvSpPr>
        <p:spPr>
          <a:xfrm>
            <a:off x="9024840" y="7618320"/>
            <a:ext cx="4005360" cy="29376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４年５月１３日　岩手県立黒沢尻北高等学校長　及川　浩純</a:t>
            </a:r>
            <a:endParaRPr b="0" lang="en-US" sz="1100" spc="-1" strike="noStrike">
              <a:solidFill>
                <a:srgbClr val="000000"/>
              </a:solidFill>
              <a:latin typeface="Arial"/>
            </a:endParaRPr>
          </a:p>
        </p:txBody>
      </p:sp>
      <p:sp>
        <p:nvSpPr>
          <p:cNvPr id="60" name="Rectangle 70"/>
          <p:cNvSpPr/>
          <p:nvPr/>
        </p:nvSpPr>
        <p:spPr>
          <a:xfrm>
            <a:off x="7272360" y="1432080"/>
            <a:ext cx="5745240" cy="32832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272360" y="1808280"/>
            <a:ext cx="5745240" cy="1531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実施３ヶ月前を目処に業務に着手し、分掌主任等と相談しながら計画的・効率的に業務に取り組む。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部活動の目標とその達成のための活動計画を生徒が主体的に策定し、集中と転換、時間管理を徹底し、保護者の理解と外部指導者の協力を得ながら、「真の文武両道」を実践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プライベートな時間の意識的な確保・充実によって職員自身がリフレッシュし、仕事に前向きに、生徒と明朗に相対し、職員室を談話と笑いのある場に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62"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8913960" y="3776760"/>
            <a:ext cx="409392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4898880" y="4191120"/>
            <a:ext cx="4024440" cy="24559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部活動休養日完全実施を徹底します（年間１０４日）。</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休日の部活動や遠征等は、正顧問と副顧問が相談し、できるだけ交替しながら、安定した休日を確保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毎週水曜日を「ノー残業デー」として、会議などを持たずに、速やかな退庁を促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会議等は勤務時間内に終了するように適切な運営を目指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IT</a:t>
            </a:r>
            <a:r>
              <a:rPr b="0" lang="ja-JP" sz="1200" spc="-1" strike="noStrike">
                <a:solidFill>
                  <a:srgbClr val="000000"/>
                </a:solidFill>
                <a:latin typeface="Arial"/>
              </a:rPr>
              <a:t>機器を積極的に活用し、業務の効率化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閉庁日に業務や部活動等を行なわないことを徹底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黒陵スタンダード」を全教職員共通の指標とするとともに、「進化するスタンダード」づくりを不断に進めます。</a:t>
            </a:r>
            <a:endParaRPr b="0" lang="en-US" sz="1200" spc="-1" strike="noStrike">
              <a:solidFill>
                <a:srgbClr val="000000"/>
              </a:solidFill>
              <a:latin typeface="Arial"/>
            </a:endParaRPr>
          </a:p>
        </p:txBody>
      </p:sp>
      <p:sp>
        <p:nvSpPr>
          <p:cNvPr id="65" name="Rectangle 70"/>
          <p:cNvSpPr/>
          <p:nvPr/>
        </p:nvSpPr>
        <p:spPr>
          <a:xfrm>
            <a:off x="8923320" y="4191120"/>
            <a:ext cx="4094280" cy="24559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部活動業務について、部活動指導員、外部コーチ等の外部人材の積極的活用により、教員の負担を軽減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総合的な探究の時間の取組「きたかみ世界塾」の企画・運営に北上市役所、北上市教育委員会、「いわてＮＰＯーＮＥＴサポート」の協力を得、連携して業務に当た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運営協議会制度」の導入を進め、地域の活力を積極的に学校運営に取り入れ、「地域とともにある学校」づくりによる教員業務のスリム化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スマホ使用をはじめとする生活指導については、学校と家庭の責任範囲を明確にし、保護者と連携して生徒の人間的成長を図ります。</a:t>
            </a:r>
            <a:endParaRPr b="0" lang="en-US" sz="1200" spc="-1" strike="noStrike">
              <a:solidFill>
                <a:srgbClr val="000000"/>
              </a:solidFill>
              <a:latin typeface="Arial"/>
            </a:endParaRPr>
          </a:p>
        </p:txBody>
      </p:sp>
      <p:sp>
        <p:nvSpPr>
          <p:cNvPr id="66" name="正方形/長方形 11"/>
          <p:cNvSpPr/>
          <p:nvPr/>
        </p:nvSpPr>
        <p:spPr>
          <a:xfrm>
            <a:off x="573120" y="8058240"/>
            <a:ext cx="1244448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令和３年度から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7" name=""/>
          <p:cNvGraphicFramePr/>
          <p:nvPr/>
        </p:nvGraphicFramePr>
        <p:xfrm>
          <a:off x="7562880" y="8543880"/>
          <a:ext cx="5329080" cy="665280"/>
        </p:xfrm>
        <a:graphic>
          <a:graphicData uri="http://schemas.openxmlformats.org/drawingml/2006/table">
            <a:tbl>
              <a:tblPr/>
              <a:tblGrid>
                <a:gridCol w="1214280"/>
                <a:gridCol w="1371600"/>
                <a:gridCol w="1371600"/>
                <a:gridCol w="137160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３</a:t>
                      </a:r>
                      <a:r>
                        <a:rPr b="0" lang="en-US" sz="1000" spc="-1" strike="noStrike">
                          <a:solidFill>
                            <a:srgbClr val="000000"/>
                          </a:solidFill>
                          <a:latin typeface="ＭＳ Ｐゴシック"/>
                          <a:ea typeface="Times New Roman"/>
                        </a:rPr>
                        <a:t>(2021)</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５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8"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3300"/>
                </a:solidFill>
                <a:latin typeface="ＭＳ 明朝"/>
                <a:ea typeface="ＭＳ 明朝"/>
              </a:rPr>
              <a:t>(2)</a:t>
            </a:r>
            <a:r>
              <a:rPr b="0" lang="ja-JP" sz="1200" spc="-1" strike="noStrike">
                <a:solidFill>
                  <a:srgbClr val="003300"/>
                </a:solidFill>
                <a:latin typeface="ＭＳ 明朝"/>
                <a:ea typeface="ＭＳ 明朝"/>
              </a:rPr>
              <a:t>　時間外在校等時間（週休日の部活動指導従事時間を除く。）が月</a:t>
            </a:r>
            <a:r>
              <a:rPr b="0" lang="en-US" sz="1200" spc="-1" strike="noStrike">
                <a:solidFill>
                  <a:srgbClr val="003300"/>
                </a:solidFill>
                <a:latin typeface="ＭＳ 明朝"/>
                <a:ea typeface="ＭＳ 明朝"/>
              </a:rPr>
              <a:t>45</a:t>
            </a:r>
            <a:r>
              <a:rPr b="0" lang="ja-JP" sz="1200" spc="-1" strike="noStrike">
                <a:solidFill>
                  <a:srgbClr val="0033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3300"/>
                </a:solidFill>
                <a:latin typeface="ＭＳ 明朝"/>
                <a:ea typeface="ＭＳ 明朝"/>
              </a:rPr>
              <a:t>　　　超、年</a:t>
            </a:r>
            <a:r>
              <a:rPr b="0" lang="en-US" sz="1200" spc="-1" strike="noStrike">
                <a:solidFill>
                  <a:srgbClr val="003300"/>
                </a:solidFill>
                <a:latin typeface="ＭＳ 明朝"/>
                <a:ea typeface="ＭＳ 明朝"/>
              </a:rPr>
              <a:t>360</a:t>
            </a:r>
            <a:r>
              <a:rPr b="0" lang="ja-JP" sz="1200" spc="-1" strike="noStrike">
                <a:solidFill>
                  <a:srgbClr val="003300"/>
                </a:solidFill>
                <a:latin typeface="ＭＳ 明朝"/>
                <a:ea typeface="ＭＳ 明朝"/>
              </a:rPr>
              <a:t>時間超の者を下記のとおり</a:t>
            </a:r>
            <a:r>
              <a:rPr b="1" lang="ja-JP" sz="1200" spc="-1" strike="noStrike">
                <a:solidFill>
                  <a:srgbClr val="003300"/>
                </a:solidFill>
                <a:latin typeface="ＭＳ ゴシック"/>
                <a:ea typeface="ＭＳ ゴシック"/>
              </a:rPr>
              <a:t>段階的に縮減</a:t>
            </a:r>
            <a:r>
              <a:rPr b="0" lang="ja-JP" sz="1200" spc="-1" strike="noStrike">
                <a:solidFill>
                  <a:srgbClr val="003300"/>
                </a:solidFill>
                <a:latin typeface="ＭＳ 明朝"/>
                <a:ea typeface="ＭＳ 明朝"/>
              </a:rPr>
              <a:t>する。</a:t>
            </a:r>
            <a:endParaRPr b="0" lang="en-US" sz="1200" spc="-1" strike="noStrike">
              <a:solidFill>
                <a:srgbClr val="000000"/>
              </a:solidFill>
              <a:latin typeface="Arial"/>
            </a:endParaRPr>
          </a:p>
        </p:txBody>
      </p:sp>
      <p:sp>
        <p:nvSpPr>
          <p:cNvPr id="69"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70" name="Rectangle 70"/>
          <p:cNvSpPr/>
          <p:nvPr/>
        </p:nvSpPr>
        <p:spPr>
          <a:xfrm>
            <a:off x="573120" y="4178160"/>
            <a:ext cx="4325760" cy="24688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定期健康診断や勤務時間外状況等の客観的なデータ結果に基づいて、管理職が該当の職員へ面談を実施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分掌主任や学年主任との面談を通して、各分掌や各学年の状況を把握し、仕事量を考えながら、主任と一緒に仕事量の軽重を調整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やすい職場」を目指して、クールビズやウオームビズを実践していき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休暇取得促進を促し、また健康管理が必要だと感じる職員に積極的に声掛け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は教職員が仕事に達成感や充実感を得られるよう支援し、孤独感や焦燥感に苛まれないように配意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及川　浩純</cp:lastModifiedBy>
  <cp:lastPrinted>2022-05-13T02:12:19Z</cp:lastPrinted>
  <dcterms:modified xsi:type="dcterms:W3CDTF">2022-05-13T02:17:04Z</dcterms:modified>
  <cp:revision>957</cp:revision>
  <dc:subject/>
  <dc:title>スライド 1</dc:title>
</cp:coreProperties>
</file>