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2B7B-00CD-4C0B-92B0-EEAAD68A2D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CFB0-6B58-4AFC-8624-13ACC88F37D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27CFA-0A5B-471A-8C9B-C2CE28421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9F768-EBDD-464C-8868-0576E8E7F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C0055-2EEB-4121-9B8F-9E0EC90AE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5A1CE-A684-4F73-84E0-D678788A1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54FD-E9DA-4823-BAFF-63AB53201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8B086-3C4A-495F-A1D1-373F62A19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F95AA-8442-4F88-AC80-CC67C275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854C7-EA3B-43DA-BF7C-6BF388EEB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36423-C4AA-4C65-A99C-A8211868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BFA9-8D13-457B-B9F2-C11370DBA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362F-CDCD-4C87-B4EC-16E45D3D3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1B564-9911-4E2B-A22B-EEE7717F8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DCC91-3579-485E-A67C-72604B46E42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未来のために、教職員一人ひとりがいきいきと働ける職場への改革を推進しよう～</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732720"/>
            <a:ext cx="7118640" cy="1260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に２回以上定時退庁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３６０時間以上の超過勤務をする教職員　→　</a:t>
            </a:r>
            <a:r>
              <a:rPr b="0" lang="en-US" sz="1200" spc="-1" strike="noStrike">
                <a:solidFill>
                  <a:srgbClr val="000000"/>
                </a:solidFill>
                <a:latin typeface="ＭＳ Ｐゴシック"/>
              </a:rPr>
              <a:t>4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指導の週１日以上（年間平均週２日）の休養日の設定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平均で月１日以上の年次取得　→　</a:t>
            </a:r>
            <a:r>
              <a:rPr b="0" lang="en-US" sz="1200" spc="-1" strike="noStrike">
                <a:solidFill>
                  <a:srgbClr val="000000"/>
                </a:solidFill>
                <a:latin typeface="ＭＳ Ｐゴシック"/>
              </a:rPr>
              <a:t>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分掌・学年・教科ごとのミーティングを密にして、業務の進捗状況を確認し、偏りの見直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と改善点を見いだし、コミュニケーションを図りながら効率的に業務を推進する。</a:t>
            </a:r>
            <a:endParaRPr b="0" lang="en-US" sz="1200" spc="-1" strike="noStrike">
              <a:solidFill>
                <a:srgbClr val="000000"/>
              </a:solidFill>
              <a:latin typeface="Arial"/>
            </a:endParaRPr>
          </a:p>
        </p:txBody>
      </p:sp>
      <p:sp>
        <p:nvSpPr>
          <p:cNvPr id="52" name="Rectangle 70"/>
          <p:cNvSpPr/>
          <p:nvPr/>
        </p:nvSpPr>
        <p:spPr>
          <a:xfrm>
            <a:off x="1079640" y="6362640"/>
            <a:ext cx="7129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7200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1079640" y="1101600"/>
            <a:ext cx="11737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北上翔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92440"/>
            <a:ext cx="5545080" cy="1752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時間外勤務時間年間合計</a:t>
            </a:r>
            <a:r>
              <a:rPr b="0" lang="en-US" sz="1000" spc="-1" strike="noStrike">
                <a:solidFill>
                  <a:srgbClr val="000000"/>
                </a:solidFill>
                <a:latin typeface="Arial"/>
              </a:rPr>
              <a:t>360</a:t>
            </a:r>
            <a:r>
              <a:rPr b="0" lang="ja-JP" sz="1000" spc="-1" strike="noStrike">
                <a:solidFill>
                  <a:srgbClr val="000000"/>
                </a:solidFill>
                <a:latin typeface="Arial"/>
              </a:rPr>
              <a:t>時間以上の教職員が全体の</a:t>
            </a:r>
            <a:r>
              <a:rPr b="0" lang="en-US" sz="1000" spc="-1" strike="noStrike">
                <a:solidFill>
                  <a:srgbClr val="000000"/>
                </a:solidFill>
                <a:latin typeface="Arial"/>
              </a:rPr>
              <a:t>48</a:t>
            </a:r>
            <a:r>
              <a:rPr b="0" lang="ja-JP" sz="1000" spc="-1" strike="noStrike">
                <a:solidFill>
                  <a:srgbClr val="000000"/>
                </a:solidFill>
                <a:latin typeface="Arial"/>
              </a:rPr>
              <a:t>％</a:t>
            </a:r>
            <a:r>
              <a:rPr b="0" lang="en-US" sz="1000" spc="-1" strike="noStrike">
                <a:solidFill>
                  <a:srgbClr val="000000"/>
                </a:solidFill>
                <a:latin typeface="Arial"/>
              </a:rPr>
              <a:t>(R3</a:t>
            </a:r>
            <a:r>
              <a:rPr b="0" lang="ja-JP" sz="1000" spc="-1" strike="noStrike">
                <a:solidFill>
                  <a:srgbClr val="000000"/>
                </a:solidFill>
                <a:latin typeface="Arial"/>
              </a:rPr>
              <a:t>年</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健康管理区分がＣ１およびＣ２の教員が全体の約</a:t>
            </a:r>
            <a:r>
              <a:rPr b="0" lang="en-US" sz="1000" spc="-1" strike="noStrike">
                <a:solidFill>
                  <a:srgbClr val="000000"/>
                </a:solidFill>
                <a:latin typeface="Arial"/>
              </a:rPr>
              <a:t>25</a:t>
            </a:r>
            <a:r>
              <a:rPr b="0" lang="ja-JP" sz="1000" spc="-1" strike="noStrike">
                <a:solidFill>
                  <a:srgbClr val="000000"/>
                </a:solidFill>
                <a:latin typeface="Arial"/>
              </a:rPr>
              <a:t>％</a:t>
            </a:r>
            <a:r>
              <a:rPr b="0" lang="en-US" sz="1000" spc="-1" strike="noStrike">
                <a:solidFill>
                  <a:srgbClr val="000000"/>
                </a:solidFill>
                <a:latin typeface="Arial"/>
              </a:rPr>
              <a:t>(R3</a:t>
            </a:r>
            <a:r>
              <a:rPr b="0" lang="ja-JP" sz="1000" spc="-1" strike="noStrike">
                <a:solidFill>
                  <a:srgbClr val="000000"/>
                </a:solidFill>
                <a:latin typeface="Arial"/>
              </a:rPr>
              <a:t>年</a:t>
            </a:r>
            <a:r>
              <a:rPr b="0"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分掌業務において特定の職員に業務が集中している時期があ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特定の部活動を担当する教職員の長時間勤務が目立つ。</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平日の時間外勤務をしている教員が固定化し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コロナ関連で家庭との対応に時間をとられてい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094360" y="4032360"/>
            <a:ext cx="40114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４月２１日　北上翔南高等学校長　寒河江　和　広</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健康への意識と仕事へのやりがいを感じながら、チームと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業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及び教職員同士のコミュニケーションが良好に図られ、話しや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職場の雰囲気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計画的な遂行と偏りの見直しにより、楽しく、効率良く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意識があり、生活にゆとりや満足感が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84640" y="4403880"/>
            <a:ext cx="3988080" cy="1836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勤務時間内での会議・諸行事等の実施に努め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時退勤日（か・えるの日）の日数を個々に設定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部活動指導について、週１日以上（年間平均週２日）の 休養</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日を設定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週休日等に業務に従事した際の、代休および振替の取 得を</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推進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分掌内の役割分担を見直し、負担の偏りを軽減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校務支援システムの有効活用により、成績処理業務の 負担</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軽減しま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classi</a:t>
            </a:r>
            <a:r>
              <a:rPr b="0" lang="ja-JP" sz="1100" spc="-1" strike="noStrike">
                <a:solidFill>
                  <a:srgbClr val="000000"/>
                </a:solidFill>
                <a:latin typeface="Arial"/>
              </a:rPr>
              <a:t>を導入し、授業・課題配信を行い業務軽減を図ります。</a:t>
            </a:r>
            <a:endParaRPr b="0" lang="en-US" sz="1100" spc="-1" strike="noStrike">
              <a:solidFill>
                <a:srgbClr val="000000"/>
              </a:solidFill>
              <a:latin typeface="Arial"/>
            </a:endParaRPr>
          </a:p>
        </p:txBody>
      </p:sp>
      <p:sp>
        <p:nvSpPr>
          <p:cNvPr id="65" name="Rectangle 70"/>
          <p:cNvSpPr/>
          <p:nvPr/>
        </p:nvSpPr>
        <p:spPr>
          <a:xfrm>
            <a:off x="9072720" y="4411800"/>
            <a:ext cx="3744720" cy="1820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や団体から依頼されるイベント等への参加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いて、再検討と精選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委員の提言を踏まえ、学校現場への地域人材の積極的な導入を進めるとともに、コミュニティ・ス</a:t>
            </a:r>
            <a:r>
              <a:rPr b="0" lang="en-US" sz="1200" spc="-1" strike="noStrike">
                <a:solidFill>
                  <a:srgbClr val="000000"/>
                </a:solidFill>
                <a:latin typeface="Arial"/>
              </a:rPr>
              <a:t> </a:t>
            </a:r>
            <a:r>
              <a:rPr b="0" lang="ja-JP" sz="1200" spc="-1" strike="noStrike">
                <a:solidFill>
                  <a:srgbClr val="000000"/>
                </a:solidFill>
                <a:latin typeface="Arial"/>
              </a:rPr>
              <a:t>クールへ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56360" y="813132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14720" cy="1839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に不安を抱える教職員の早期把握と支援を行い、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期の解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による定期的な個人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タイムカードによる勤務時間の把握と勤務記録簿から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勤務への予防に向けた声が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計画的な休暇取得について積極的に声掛け</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連続した休暇取得を推進します（学校閉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の有効活用）。</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2-05-10T04:26:50Z</cp:lastPrinted>
  <dcterms:modified xsi:type="dcterms:W3CDTF">2022-05-10T04:37:21Z</dcterms:modified>
  <cp:revision>949</cp:revision>
  <dc:subject/>
  <dc:title>スライド 1</dc:title>
</cp:coreProperties>
</file>