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A169-A7B9-4BDA-BB27-F9A136AF7D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E481-D499-4624-BD6D-93A829D5F6B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6EF-6A95-46AC-A90D-AEF39D4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D80-E79D-4A89-B2E6-BFC0916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E80-4811-47F5-A9A6-7E794110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11B-BCD0-4E57-ABA8-812D5138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625-B03E-4AC7-8C1B-F07F69F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3B7-6ADE-4B30-A35C-F3A94467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05C-DE1B-4BB3-9382-166EBE92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C4E-AAF8-4582-9FAF-E3412670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1CB-7285-408C-B992-77D927A5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DDE-AE1F-4C3A-A701-4B806C09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309-8E42-4BB0-AD9F-4A9B52DC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D1E-3CDC-4A77-A0B1-661BBED5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22DA-912D-4D65-A226-97EE87C1D93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盛岡峰南高等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学年・学科・各部が連携して推進する「チーム峰南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5991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勤務時間外業務→一人あたり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令和３年度実績（月・年間）から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次休暇の取得日数→一人あたり年間平均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毎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の定時退庁日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9272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0796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峰南高等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県内唯一の専門学科が設置された高等支援学校であり、県内全域から生徒が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進路支援業務、課外活動（週休日における大会やそれに向けた練習、専門教科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習で製作した製品の展示、販売対応等）、県内各圏域におけるＰＴＡ活動対応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移動距離や対応回数、時間的負担も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関係各所の本校教育への関心が高く、学校見学や入学相談の依頼件数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の教育理念である「生きがいのある豊かな生活の実現」を目指し、各教職員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使命感を持って日常の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2912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291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5614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令和４年５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　盛岡峰南高等支援学校長　川﨑広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年、学科が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して、業務を推進するチームとしての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各教職員が自分のライフプラン、ミッションを意識化し業務を推進する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健全（健康・安心・安全）な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399240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52760"/>
            <a:ext cx="39546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が円滑に進むように、資料データの整理と見直し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い、作成の簡略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現状の校内業務のスクラップ＆ビルド等について随時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討し、より効果的な業務運営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の効率化につながるように、組織のあり方を検証し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ら、必要な改変を視野に入れて業務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るよう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告・連絡・相談の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3000" y="4352760"/>
            <a:ext cx="37497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が事務局を担当する他の支援学校が関わる諸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議等において、連絡調整等の効率化を図るため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校間における連携協力の一層の充実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支援学校のセンター的機能に係る取組について、依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校や関係機関等のニーズを把握し、組織としての適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対応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1079640" y="4352760"/>
            <a:ext cx="40194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勤務時間の正確な把握の取組を確実に実施し、業務の優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順位を見極めながら、長時間勤務の軽減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時間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勤務時間の縮減と、多忙感の低減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教職員の健康管理について　積極的に面談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声掛けをするなど、メンタルヘルスを含めた健康状態の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衛生委員会等において、職場環境の在り方や健康保持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て意見交換を行い、職場環境の整備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7848720"/>
            <a:ext cx="11737800" cy="2016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388360"/>
          <a:ext cx="4434120" cy="68436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791532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4400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366084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藤原　淳一</cp:lastModifiedBy>
  <cp:lastPrinted>2021-06-09T00:22:49Z</cp:lastPrinted>
  <dcterms:modified xsi:type="dcterms:W3CDTF">2022-05-29T22:43:20Z</dcterms:modified>
  <cp:revision>958</cp:revision>
  <dc:subject/>
  <dc:title>スライド 1</dc:title>
</cp:coreProperties>
</file>