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DDA8-3079-486E-BBD6-C3F7FA00D46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547E-8CE1-47B3-8F45-E1570992C5D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3F21-B4F2-48A2-99A8-060BC69E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36E-F328-4484-A5D1-0F21363A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206-9DC3-4F31-A433-85FF26FE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A30B-A080-4DDA-B5C1-D13DC8ED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D25-67A7-466F-8982-281CB078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DB5-92B4-4DC5-9DF2-561ADB4E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ACE-CF7F-45DA-8F95-2488D9BB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38A3-41BB-44EC-A23D-166953DB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718-7A75-4B7D-BE41-11E90AF8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1504-E027-45A5-B11E-F4AE3F47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6CD-2D06-4BB3-AAD2-DA29A2DF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762-5F32-40AB-8CDE-152538EE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00BB-54AD-4E02-AAC0-A22D725C7214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久慈拓陽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助け合いと支え合いのチーム拓陽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79640" y="6669000"/>
            <a:ext cx="711828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週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（月～木）の完全退庁時間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の確保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%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週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（金）の「ノー残業デー」の確保　　　　　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一人当たりの月の時間外在校等時間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下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勤務時間を超える会議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久慈拓陽支援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ヶ月間の時間外在校等時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職員の延べ人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前年比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間の時間外在校等時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職員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　　　　　　　　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前年比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完全退庁時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が徹底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１７日　久慈拓陽支援学校長　村上　嘉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職員一人一人が教育にやりがいを感じ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互いに情報を共有し、助け合い支え合って業務推進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仕事とプライベートを大切にしてタイムマネジメント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教職員に声をかけ、コミュニケーションをと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日頃から職員間で助け合い支え合う雰囲気づくりを推進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するために、管理職が率先して意思疎通を心がけ、同僚性と協働性の向上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管理職が業務の改善や軽減措置について提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業務効率の意識化を図るために、前年度の時間外在校等時間のデータを個々に開示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学校行事や各種スポーツ大会、技能認定会等の活動において、登録サポーターの活用を積極的に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授業において、登録サポーターの活用を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通学指導・支援業務において、外部委託バス運転士及び添乗員と分担しながら、児童生徒の安全な通学を確保します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（月～木）の完全退庁時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を堅持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（金）の「ノー残業デー」を実施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特割の適正な実施と有給休暇の積極的な取得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ついて、声がけをして促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村上　嘉郎</cp:lastModifiedBy>
  <cp:lastPrinted>2022-05-19T03:41:56Z</cp:lastPrinted>
  <dcterms:modified xsi:type="dcterms:W3CDTF">2022-05-19T04:04:13Z</dcterms:modified>
  <cp:revision>947</cp:revision>
  <dc:subject/>
  <dc:title>スライド 1</dc:title>
</cp:coreProperties>
</file>