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041F-F16A-4564-8388-B78F0BE500B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07AF-902F-4761-9398-903574BF6A1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94C-2DB2-4D93-B8F9-C90D7B93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2AD-F0C8-48B1-97B3-740E4E94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43D-C73C-408A-8A4E-F93073A3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D15-A976-4B1F-A28F-CE1CF327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2D5-4870-4A86-9BA0-4F61B7A5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635-A794-4CE2-B755-037FC33A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BA5-2553-4709-BED9-56B6B74A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595-01DC-415F-974D-2F7B8FDD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16D-FB7E-49B8-96A0-2BD2DDD4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63A-5BA0-4397-9DB7-80273406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2AF-5DAF-45C4-B168-5BBF33C8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A05D-A0B5-495A-A128-8401A582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096A-DD41-4BA1-B929-5CB099C4F1D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花巻北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・　勤務時間外勤務１００時間を超える教職員　→　０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 ・　健康診断における有所見者の受診率　→　１００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 ・　週休日等の振替取得率　→　８０％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高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業務負担の片寄りが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教職員の月平均勤務時間外勤務１００時間を超える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  職員の割合は少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長期時間勤務等による保健指導対象者が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28676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花巻北高等学校長　須川和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教職員一人一人が、やりがいを感じながら業務に取り組んでいる職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 場環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教職員が情報共有しながら遠慮せずに休暇を取りやすい職場環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職務を複数で担当することで職務の平準化を図るとともに、職員同士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が協力し合いながら職務にあたることがあたり前の職場環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・全国の好事例を参考にしてＩＣＴを積極的に活用する職場環境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留守番電話の導入や欠席連絡のデジタ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化により時間外対応について改善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管理職がＩＣＴを活用して、業務改善につ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て積極的に提案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の業務を明確化し平準化を図り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ＰＴＡ関係業務について、前例踏襲によらない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見直しを図りながら適正化を図るよう協議を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本校が担当する校外の職務について、ＩＣＴ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有効活用し負担軽減を図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スクールカウンセラーや県教委、総合教育セ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ター等の校外人材を有効活用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　働き方改革プランの部活動休養日の取組を確実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実施し、教職員の健康を確保します。（年間通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算で週２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　学校閉庁日を確実に設け徹底することで教職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健康を確保します。（年間１０日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　管理職が、休暇取得について積極的に声掛け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します。（振替休日の確実な申請促進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助川　剛栄</cp:lastModifiedBy>
  <cp:lastPrinted>2021-06-03T01:32:43Z</cp:lastPrinted>
  <dcterms:modified xsi:type="dcterms:W3CDTF">2022-05-31T05:23:57Z</dcterms:modified>
  <cp:revision>952</cp:revision>
  <dc:subject/>
  <dc:title>スライド 1</dc:title>
</cp:coreProperties>
</file>