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E8435-65A7-486E-97CB-3508911B3F2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6510-E36D-411F-B71F-D589E913293C}"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4596C-6207-4C12-B250-0CC8C3870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4891A-6A1D-4686-8A28-1EC790710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C85A1-3CEF-4C94-AD8C-0D2B38F10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A5FA9-FF6A-4ACF-89CE-AC9FB1EAC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15C53-B163-4F6E-9365-FD15C5F9D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A5D8A-EC78-498D-A784-1DF86A049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8AF66-9A5D-4A87-AC9F-508C0426D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52368-F90C-4FB3-B65B-A66EDF515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FC68E-CAC1-479F-9273-0F6D83712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9E2CD-19B6-4A60-9994-B9B159885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C0615-E834-4F5B-B3F7-2E76262DA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BF7BB-AAAC-428B-BE7C-3C72095F0F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4565-C020-48AA-B490-1CCBCBF74898}"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375240" y="-2417400"/>
            <a:ext cx="936720" cy="11947320"/>
          </a:xfrm>
          <a:custGeom>
            <a:avLst/>
            <a:gdLst>
              <a:gd name="textAreaLeft" fmla="*/ 0 w 936720"/>
              <a:gd name="textAreaRight" fmla="*/ 937080 w 936720"/>
              <a:gd name="textAreaTop" fmla="*/ 0 h 11947320"/>
              <a:gd name="textAreaBottom" fmla="*/ 11947680 h 1194732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905040" y="163440"/>
            <a:ext cx="11863080" cy="91620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水沢農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みんなで具体的行動を！～</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855720" y="6651720"/>
            <a:ext cx="7304040" cy="1412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等時間が８０時間／月以上→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等時間（週休日の部活動を除く）が４５時間／月以上→５％以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等時間（週休日の部活動を除く）の年間合計が３６０時間以上→２０％以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年次休暇消化率　　５日以上→１００％　１０日以上→５０％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休暇の振替、特割の取得→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夏季休暇４日以上の消化率→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健康診断受診率→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855720" y="6256440"/>
            <a:ext cx="7304040" cy="40644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873000" y="1457280"/>
            <a:ext cx="575172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835200" y="3586320"/>
            <a:ext cx="11982240" cy="37908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水沢農業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873000" y="1806480"/>
            <a:ext cx="5751720" cy="1532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在校等時間の合計が月４５時間を超える職員は約８％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在校等時間の年間合計が３６０時間を超える職員は約４１％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全職員の月間平均時間外在校等時間は約２６時間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各分掌主任など、一部職員の業務量が多い傾向に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一部の部活動で引率等のために時間外在校等時間が多くなってしま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農場管理などで時間外在校等時間が多くなる職員が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828720" y="3978360"/>
            <a:ext cx="423072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教職員の健康管理</a:t>
            </a:r>
            <a:endParaRPr b="0" lang="en-US" sz="1200" spc="-1" strike="noStrike">
              <a:solidFill>
                <a:srgbClr val="000000"/>
              </a:solidFill>
              <a:latin typeface="Arial"/>
            </a:endParaRPr>
          </a:p>
        </p:txBody>
      </p:sp>
      <p:sp>
        <p:nvSpPr>
          <p:cNvPr id="58" name="Rectangle 70"/>
          <p:cNvSpPr/>
          <p:nvPr/>
        </p:nvSpPr>
        <p:spPr>
          <a:xfrm>
            <a:off x="5068800" y="397980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学校における業務改善の推進</a:t>
            </a:r>
            <a:endParaRPr b="0" lang="en-US" sz="1200" spc="-1" strike="noStrike">
              <a:solidFill>
                <a:srgbClr val="000000"/>
              </a:solidFill>
              <a:latin typeface="Arial"/>
            </a:endParaRPr>
          </a:p>
        </p:txBody>
      </p:sp>
      <p:sp>
        <p:nvSpPr>
          <p:cNvPr id="59" name="正方形/長方形 2"/>
          <p:cNvSpPr/>
          <p:nvPr/>
        </p:nvSpPr>
        <p:spPr>
          <a:xfrm>
            <a:off x="8280360" y="7785000"/>
            <a:ext cx="447516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３１日　岩手県立水沢農業高等学校長　　菅　野　修　一</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45080" cy="17305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在校等時間（週休日の部活動指導を除く）が４５時間／月を超える職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を減ら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在校等時間（週休日の部活動指導を除く）の年間合計が３６０時間を超え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る職員を半減させ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は日頃から、教職員の業務分担について改善を目指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休暇を取りやすい環境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農場経営規模の適正化に向けた取組を進め管理負担を減ら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562800" y="1771560"/>
            <a:ext cx="709560" cy="144000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55080" y="3981600"/>
            <a:ext cx="376092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059440" y="4375080"/>
            <a:ext cx="4002120" cy="1758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務分掌業務の負担適正化に向け、業務バランスにつ</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スクラップ・アンド・ビルドについて積極的に検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ＩＣＴ活用により、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ＳＤＧｓの観点に注視し農場管理システム変更による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人別作業量の平準化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6240" y="4370400"/>
            <a:ext cx="3760920" cy="1763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外部との連携業務について、内容の適正化を図る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う関係団体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運営協議会制度を取り入れ、地域の人材活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員を活用し、顧問の負担軽減を図るよう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878040" y="8151840"/>
            <a:ext cx="11930040" cy="179856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281720" y="8621640"/>
          <a:ext cx="5329440" cy="662040"/>
        </p:xfrm>
        <a:graphic>
          <a:graphicData uri="http://schemas.openxmlformats.org/drawingml/2006/table">
            <a:tbl>
              <a:tblPr/>
              <a:tblGrid>
                <a:gridCol w="121464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53120" y="8174160"/>
            <a:ext cx="561528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a:t>
            </a:r>
            <a:r>
              <a:rPr b="1" lang="ja-JP" sz="1200" spc="-1" strike="noStrike">
                <a:solidFill>
                  <a:srgbClr val="000000"/>
                </a:solidFill>
                <a:latin typeface="ＭＳ 明朝"/>
                <a:ea typeface="ＭＳ 明朝"/>
              </a:rPr>
              <a:t>月</a:t>
            </a:r>
            <a:r>
              <a:rPr b="1" lang="en-US" sz="1200" spc="-1" strike="noStrike">
                <a:solidFill>
                  <a:srgbClr val="000000"/>
                </a:solidFill>
                <a:latin typeface="ＭＳ 明朝"/>
                <a:ea typeface="ＭＳ 明朝"/>
              </a:rPr>
              <a:t>45</a:t>
            </a:r>
            <a:r>
              <a:rPr b="1"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1" lang="ja-JP" sz="1200" spc="-1" strike="noStrike">
                <a:solidFill>
                  <a:srgbClr val="000000"/>
                </a:solidFill>
                <a:latin typeface="ＭＳ 明朝"/>
                <a:ea typeface="ＭＳ 明朝"/>
              </a:rPr>
              <a:t>超</a:t>
            </a:r>
            <a:r>
              <a:rPr b="0" lang="ja-JP" sz="1200" spc="-1" strike="noStrike">
                <a:solidFill>
                  <a:srgbClr val="000000"/>
                </a:solidFill>
                <a:latin typeface="ＭＳ 明朝"/>
                <a:ea typeface="ＭＳ 明朝"/>
              </a:rPr>
              <a:t>、</a:t>
            </a:r>
            <a:r>
              <a:rPr b="1" lang="ja-JP" sz="1200" spc="-1" strike="noStrike">
                <a:solidFill>
                  <a:srgbClr val="000000"/>
                </a:solidFill>
                <a:latin typeface="ＭＳ 明朝"/>
                <a:ea typeface="ＭＳ 明朝"/>
              </a:rPr>
              <a:t>年</a:t>
            </a:r>
            <a:r>
              <a:rPr b="1" lang="en-US" sz="1200" spc="-1" strike="noStrike">
                <a:solidFill>
                  <a:srgbClr val="000000"/>
                </a:solidFill>
                <a:latin typeface="ＭＳ 明朝"/>
                <a:ea typeface="ＭＳ 明朝"/>
              </a:rPr>
              <a:t>360</a:t>
            </a:r>
            <a:r>
              <a:rPr b="1" lang="ja-JP" sz="1200" spc="-1" strike="noStrike">
                <a:solidFill>
                  <a:srgbClr val="000000"/>
                </a:solidFill>
                <a:latin typeface="ＭＳ 明朝"/>
                <a:ea typeface="ＭＳ 明朝"/>
              </a:rPr>
              <a:t>時間超</a:t>
            </a:r>
            <a:r>
              <a:rPr b="0" lang="ja-JP" sz="1200" spc="-1" strike="noStrike">
                <a:solidFill>
                  <a:srgbClr val="000000"/>
                </a:solidFill>
                <a:latin typeface="ＭＳ 明朝"/>
                <a:ea typeface="ＭＳ 明朝"/>
              </a:rPr>
              <a:t>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77240" y="9312120"/>
            <a:ext cx="5678280" cy="60516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838080" y="4361040"/>
            <a:ext cx="4221360" cy="1763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か・えるの日」を意識しつつ、教職員がそれぞれ月２回以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ノー残業デーを設定するように声か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保護者への対応の在り方について検討・改善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時間外在校時間について積極的に声掛けを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振替や特割を積極的に取得できるように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１日の部活動休業日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チーム水農として全職員が生活のゆとりや満足感が持て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環境作り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小山　智弘</cp:lastModifiedBy>
  <cp:lastPrinted>2021-06-28T04:54:29Z</cp:lastPrinted>
  <dcterms:modified xsi:type="dcterms:W3CDTF">2022-05-12T01:41:12Z</dcterms:modified>
  <cp:revision>954</cp:revision>
  <dc:subject/>
  <dc:title>スライド 1</dc:title>
</cp:coreProperties>
</file>