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040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9E1A-F18E-4C4F-88C4-C38B8EF8C35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71E7-0226-4E7E-B3CA-43927CE31B1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6040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27A-8CC6-4825-AC30-455DC1E3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5CF-4410-4559-A1FD-9A605531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107-BE72-4256-9049-7EED77BC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DC5-E3DE-48AB-828E-A0B1E3BC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787-04DB-440C-9B56-419ADA2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89E-0088-4C4C-B786-2BA4F7B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E3D-3D7A-44F6-997E-C2C62F41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7A5-F929-475D-BEC4-945E1105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EC0-6D66-4C30-B491-F8AACB17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C15-39ED-401A-AD33-5A125515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226-CF2C-42AB-9E12-5CF81EB6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8A8-EB74-40C3-9EFF-327B94F9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06F4-EA34-4929-A5C8-CAC81320D5A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83320" y="-2192040"/>
            <a:ext cx="720720" cy="11728440"/>
          </a:xfrm>
          <a:custGeom>
            <a:avLst/>
            <a:gdLst>
              <a:gd name="textAreaLeft" fmla="*/ 0 w 720720"/>
              <a:gd name="textAreaRight" fmla="*/ 721080 w 72072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08080"/>
            <a:ext cx="11449080" cy="822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遠野緑峰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～チーム緑峰プロジェクト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368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・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００時間以上の時間外在校等時間の勤務を行う教職員　→　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・年３６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時間外在校等時間勤務を行う教職員　→　令和３年度比８０％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・部活動休養日を週２回もしくは年間１００日以上確保している教職員　→　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年間の有給休暇５日以上（１日単位）と夏季休暇５日を取得している職員　→　９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・徐々にワーク・ライフバランスが保てるようになってきたと感じる教職員　→　９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（令和３年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遠野緑峰高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4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わかる授業・魅力ある授業の実践に全職員で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農場管理のため、休日や学校閉庁日にも日直業務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等時間の年平均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である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8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等時間が４５時間以上の教職員は４名延べ９月である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５名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べ９月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等時間が年３６０時間超の教職員は４名である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０名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等時間が月１００時間以上の教職員はい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424720" y="7604280"/>
            <a:ext cx="424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２０日　岩手県立遠野緑峰高等学校　校長　　髙橋　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4446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やりがいと充実感を持って教育活動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充実した地域連携により、地域と共にある学校として評価され、地域住民から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援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全職員での協働体制が確立しており、ワーク・ライフバランスがと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休みたい時に、遠慮なく休暇を取れる風通しの良い雰囲気が職場にあ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働きやすい職場作りに向けて声がけ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副担任２人制を実施し、教育活動の協働体制を推進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受付文書の一部削減により、業務の簡略化を推進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業務・行事の適切なスクラップ＆ビルドに向けて、教職員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声に耳を傾け、検討、実施に向けて柔軟に対応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教育活動におけるＩＣＴ化を推進し、ペーパーレス化等、業務の効率化を進め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・　留守番電話導入による電話対応時間の縮減を推進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電話対応時間７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分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分（留守番電話対応時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分～翌日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7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分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遠野市教育委員会等関係機関と連携して業務の明確化・適正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運営協議会制度を活用し、地域とビジョンを共有し、協働して業務にあた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総会の開催時間の変更等、働き方改革に向けた取組について、保護者に理解いただけるよう協議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々の教育活動を、明るく、笑顔で実践できるように、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職員が健康増進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やすい職場を目指して、お互い声を掛け合い、心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力を合わせ、助け合って、教育活動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頃から、休暇を取得しやすい風通しの良い職場環境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確立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について配慮できるように、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常のコミュニケーションを大切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777080" y="8591400"/>
          <a:ext cx="4392720" cy="614520"/>
        </p:xfrm>
        <a:graphic>
          <a:graphicData uri="http://schemas.openxmlformats.org/drawingml/2006/table">
            <a:tbl>
              <a:tblPr/>
              <a:tblGrid>
                <a:gridCol w="951120"/>
                <a:gridCol w="1790640"/>
                <a:gridCol w="1650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髙橋　堅</cp:lastModifiedBy>
  <cp:lastPrinted>2022-05-22T23:08:08Z</cp:lastPrinted>
  <dcterms:modified xsi:type="dcterms:W3CDTF">2022-05-22T23:23:15Z</dcterms:modified>
  <cp:revision>972</cp:revision>
  <dc:subject/>
  <dc:title>スライド 1</dc:title>
</cp:coreProperties>
</file>