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0126-CD07-4583-9088-BB4FC99A755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49FC-3234-466B-BE41-200C77A73BC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27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87C7-4411-4AC5-A45A-C52FF7D0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AD8-B32E-4F24-B0A8-6395B2D1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DEAA-6D78-4540-86D2-7D67ABD4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2EB-4AD9-4A19-8B55-992044FE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EC8-EF75-49AB-A933-1C5DFBA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B79-6283-47D4-A1D2-4C418F55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1D0-86BA-48FB-947F-8BAA7129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A63-D7F2-4ED2-B004-B1DF10F2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4770-AD5A-4A24-9F5D-92838C8E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F7A-0C3E-4F75-8B64-10AEDEC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20B-696C-405D-A0A3-454C9CF8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A275-130E-46E3-A688-FD78E5AA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29BF-132E-427C-A590-BCE7A6E9A12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山田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や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)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山高の　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ま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)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邁進助ける　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(</a:t>
            </a:r>
            <a:r>
              <a:rPr b="0" lang="ja-JP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だ</a:t>
            </a:r>
            <a:r>
              <a:rPr b="0" lang="en-US" sz="18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)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第一歩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3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％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0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％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週休日の部活動を除く時間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5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％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ＭＳ Ｐゴシック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以上　定時退勤　を行う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「授業や授業準備に集中できている」等の肯定的実感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7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　　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県教委による調査の結果とし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データはすべて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3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年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山田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下段は週休日の部活動を除く時間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.9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0.9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0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.7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9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.2)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週休日及び休日の部活動指導　月平均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の取得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.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.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日単位で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日以上取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週休日の振替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.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0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「ＮＯ延長デー」取組回数は一人当たり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月平均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.9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回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数減少に伴い、業務の削減又は負担の平準化が課題。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山田高等学校長　晴山　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・　教職員一人一人が、やりがいを感じながらいきいきと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・　教職員が生徒と向き合う時間が確保され、必要十分な教育を提供すること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　できている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・　管理職が日頃から教職員の職務状況を把握し、必要に応じてサポートできる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　体制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・　ワーク・ライフ・バランスが保たれ、時間的・精神的にゆとりをもって日々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　　送ること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400640"/>
            <a:ext cx="3964320" cy="1687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見直しによる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業務削減（スクラップ）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業務交換・移管（トレ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　ド）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進めることにより、負担の平準化を図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毎週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水曜日は「ＮＯ延長デー」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。計画的に業務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説明項目の精選など、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会議時間の短縮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図り、教員が生徒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向き合える時間等を作り出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校務分掌組織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1100" spc="-1" strike="noStrike">
                <a:solidFill>
                  <a:srgbClr val="0000ff"/>
                </a:solidFill>
                <a:latin typeface="Arial"/>
              </a:rPr>
              <a:t>部活動や学校行事の在り方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について、今年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も検討を継続します。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7400" y="4392720"/>
            <a:ext cx="373536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ＰＴＡや同窓会の事務局業務について、学校及び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が担う業務の適正化を図るよう関係団体との協議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コミュニティー・スクールを導入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、地域と一体とな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た学校づくり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長時間勤務者の要因分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取組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年次や振替の取得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ついて、管理職が積極的に声掛け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</a:rPr>
              <a:t>メンタルヘルス相談やサポート事業等の積極的活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推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晴山　俊</cp:lastModifiedBy>
  <cp:lastPrinted>2022-05-30T03:57:36Z</cp:lastPrinted>
  <dcterms:modified xsi:type="dcterms:W3CDTF">2022-05-30T03:59:50Z</dcterms:modified>
  <cp:revision>994</cp:revision>
  <dc:subject/>
  <dc:title>スライド 1</dc:title>
</cp:coreProperties>
</file>