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8600" y="739440"/>
            <a:ext cx="5018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15FB-D279-4D8A-857D-ECA60FED416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A1E6-196C-4257-BF00-0A762B01E913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8960" y="739800"/>
            <a:ext cx="5018040" cy="369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E567-4E0C-41E1-B5E1-C27D053A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F553-0597-478D-8DC4-773511DD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9EA3-3845-41E4-BE36-60CB5830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3A7A-B548-4BF9-A5EF-DD38E430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FFA-CEF1-4005-937D-A920C142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0849-0FF0-48A1-BE5D-B2CF8015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769D-45F3-411D-811B-46F9F783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8C14-8832-48B8-B6C4-D50ACABF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785-9F89-4DD9-930E-F5F7827D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FECF-09EB-44E6-AC39-C4B14D6D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9E36-5618-4AA6-9F1C-E5CA21A0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2593-C0E4-4A94-871F-D43FF251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CE1C-38DD-4E44-9C3E-E0221BA94CB3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大船渡東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　小さな気づきで業務改善　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（週休日の部活動指導従事時間を除く）が月４５時間を超える教職員　→　６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に１回、１日以上の計画的な年次休暇等を取得する教職員　→　５０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心と体の健康の維持により長期病気休暇教職員　→　ゼ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学校評価アンケートの教職員調査で「本校は、仕事の平準化が図られていると感じる教職員　→　５５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1360440" y="1114560"/>
            <a:ext cx="1191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大船渡東高等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時間割変更が難しいため出張･年次等の課題対応による業務が避けられない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活発に行われる部活動や特別活動、多様な進路志望への対応に要する指導の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ため時間外勤務が必要となり業務負担が大きくな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新型コロナウイルス感染症予防の対応で、すべての業務に負担感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学科によって、勤務時間外の指導や作業が常態化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９日　岩手県立大船渡東高等学校長　　千　葉　　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、生徒と向き合い、それぞれの特徴を生かし充実感を感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ながら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日頃から教職員に対し適切なサポート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生徒と向き合う時間を十分に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計画的に年次休暇等が取得できる環境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新しい提案を受け入れる心理的・時間的なゆとり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分掌間、職員間の連携を密にし、互いの業務を認め合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い業務への充実感のある職場環境づくり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簡略化、省略できるところから業務改善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数の確保に向け、特増制度の活用、非常勤職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等の専門スタッフの継続した配置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各教職員の担当する分掌業務の明確化により多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化している業務の見直し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外部機関の積極的な利用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ＩＣＴの活用を促進し授業及び業務の改善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運営協議会の組織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711920" y="8510760"/>
          <a:ext cx="443412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による面談や日常のコミュニケー ションをと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で心身の状況把握に心がけ相談しやすい環境を整え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健康診断・メンタルヘルス相談等の積極活用を促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タイムカードの活用により勤務実態を適切に把握し、過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な時間外勤務の適正化や産業医による保健指導など健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に配慮した声が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休暇等の活用が計画的に取得しやすい職場環境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くり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今野　晋</cp:lastModifiedBy>
  <cp:lastPrinted>2022-05-24T09:10:37Z</cp:lastPrinted>
  <dcterms:modified xsi:type="dcterms:W3CDTF">2022-05-24T09:11:11Z</dcterms:modified>
  <cp:revision>941</cp:revision>
  <dc:subject/>
  <dc:title>スライド 1</dc:title>
</cp:coreProperties>
</file>