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6B39-AD88-4B03-BDE5-7F4F2E3100F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5C28-7B8A-42E0-A663-A2B4182794E5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B7BD-85AC-43D2-92F5-CFA0A378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249-4728-4195-90BE-7CF329CA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D39-837B-4820-8D75-D9D86979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735-5785-4E6C-824E-CB5966D5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BB9-DF32-49D9-AF7D-0A66EADC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3E4-BFD3-4897-A57F-830557D4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D025-C98E-4032-B4F9-CB03B8CA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FE5-40FF-40AF-80FE-93129056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582-77D8-4ECE-B534-BD29FD47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53A-C6AF-4EBC-9EDC-4D336E29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EAE-2146-4FA0-867B-4EE2D969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63D-277B-432C-9065-A29B4928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2E6C-B64F-4443-9BF1-880799506126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・　業務の共有ファイル化　　　　　　　　　　　　　　　　　　　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・　最低週１回の定時退庁又は校舎施錠時間前の退勤　 →　年間平均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・　時間外在校等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教職員　　　　     →　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・　時間外等在校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の教職員　　　　　　   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→　令和３年度比５０％削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（週休日の部活動指導従事時間を除く）　　　　　　　　　　　　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（Ｒ３のべ６人→Ｒ４のべ３人→Ｒ５のべ０人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種市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今年度（令和４年度）から導入する業務「通級による指導」及び本格実施する「遠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隔授業」、外部対応の多い海洋開発科など、業務が増え多忙となる職員が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新学習指導要領の実施により科目数が増えた教科の教員や、専門外の教科・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のみを担当する教員の負担が増加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員業務等支援職員の配置により、会計業務等の負担は軽減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業務等の改善・工夫点　・職員朝会を廃止　・全クラス副担任２人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２４日　種市高等学校長　村上智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一人ひとりが心身に余裕を持ち、やり甲斐を感じながら業務を行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が、教材研究や面談など、生徒に向き合う時間を十分に確保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全体が、ひとつの「組織」として「協働」の意識を持って業務を行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持続可能な教育職を目指して、国や県の目標を達成しつつ、健康な職場環境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作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5108400" y="4392720"/>
            <a:ext cx="3964320" cy="17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内容の見直しをさらに進め、効率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文書やデータを共用し、業務の円滑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運動部の統廃合につ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開催は必要最小限とし、進行にも必要以上に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間をかけないよう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小さな業務でもお互いに声を掛け、協力しあう職場の雰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囲気を作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9067680" y="4392720"/>
            <a:ext cx="3745080" cy="17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私費会計について、教員業務等支援職員の協力の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と、教職員の負担軽減の取組を継続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ＰＴＡ、同窓会等の事務局業務について、各団体と協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議し見直しを進め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コミュニティ・スクールとして、学校と地域とが一体となっ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た学校づくりを推進し、教職員の負担を軽減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魅力化協働パートナーと連携を強化し、協働した取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を進め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7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4392720"/>
            <a:ext cx="4024080" cy="17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最低でも週１回の定時退庁又は校舎施錠時間前の退勤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に対して積極的に休暇取得を呼び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け、休暇を取りやすい職場環境を整え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定期健康診断結果や勤務時間外状況調査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果等に基づいて教職員と面談し、関係機関等の積極的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活用を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「学校の部活動に係る活動方針」を遵守した活動を行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1090440" y="326880"/>
            <a:ext cx="11727000" cy="623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4400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種市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村上　智芳</cp:lastModifiedBy>
  <cp:lastPrinted>2022-05-12T00:20:47Z</cp:lastPrinted>
  <dcterms:modified xsi:type="dcterms:W3CDTF">2022-05-24T04:01:39Z</dcterms:modified>
  <cp:revision>947</cp:revision>
  <dc:subject/>
  <dc:title>スライド 1</dc:title>
</cp:coreProperties>
</file>