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440" y="744480"/>
            <a:ext cx="505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9D81-707D-40F7-9C47-5A2FD519E30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CA34-4CE5-485B-9E6A-A4C849D08DBB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4800" y="744480"/>
            <a:ext cx="5057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1530-3792-4C98-9AA1-5A26423B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2E63-4B01-4156-AF80-A22EB0C4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2AB5-8A1D-4C98-9CD7-59DDE24F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8802-6ECA-4C14-B550-442EA91D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B52E-7B62-4742-8929-EF9038FC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B655-3C13-4144-8690-7171DA95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DFBF-6F77-41B2-9861-B41175B3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B8BB-6586-4B9F-B74D-4BE8DA9C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C5F8-37CE-4DE3-A884-B37516B2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B398-06E6-4C51-997E-6E971740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1F70-E337-4C11-8353-59026909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8C12-4219-4828-9661-6D2D9FB8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B836-2FBE-4ACE-892E-60FD55AE95EF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花巻清風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55520" y="6418440"/>
            <a:ext cx="7118640" cy="1707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①　長時間勤務者の削減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・　月あたりの時間外勤務４５時間以上、年間３６０時間以上の職員　→　３０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・　月あたりの時間外勤務１００時間以上の職員　→　　０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②　業務への充実感や安心感の向上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・　教職員の満足度　→　９５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・　働き方改革の実現度　→　８５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③年次休暇の取得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・　年次休暇の取得５日以上　→　１００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・　１日単位での取得日数５日未満　→　５名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55520" y="6002280"/>
            <a:ext cx="7129800" cy="40644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92240" y="3503520"/>
            <a:ext cx="11728440" cy="33660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花巻清風支援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21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昨年度（１３２名中）、月あたりの時間外勤務４５時間以上の教職員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（延べ人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6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。８０時間以上の教職員が４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年間の時間外勤務３６０時間以上の教職員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昨年の１日単位の年次休暇の取得が５日未満の教職員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昨年度の学校評価の結果、教職員の満足度（働きがいのある職場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.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働き方改革推進の実現度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.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2.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1720" y="385920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10200" y="384480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72164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２６日　花巻清風支援学校長　　小澤　千殖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32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　教職員一人ひとりが、健康でいきいきと働きがいを感じながら、業務や授業づ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くりに意欲的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　管理職が日頃から、教職員の業務の実態を把握し、役割分担や業務の進め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方などを見直し、よりよい働き方改革への意識改革を進め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80640" y="385272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232160"/>
            <a:ext cx="3964320" cy="1719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終了時間の提示、協議題ごとの所要時間の設定など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より、会議の効率化、会議時間の短縮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決裁の簡略化、業務の平準化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退庁時間後の電話対応の見直し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107640" y="4227480"/>
            <a:ext cx="3714480" cy="1711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コミュニティー・スクールの取組を推進しながら、保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護者や地域住民に、働き方改革についての理解を図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５０周年記念事業は、その意義を踏まえつつ負担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過重にならないように取組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55520" y="8205840"/>
            <a:ext cx="1173816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408800" y="8675640"/>
          <a:ext cx="5329440" cy="681120"/>
        </p:xfrm>
        <a:graphic>
          <a:graphicData uri="http://schemas.openxmlformats.org/drawingml/2006/table">
            <a:tbl>
              <a:tblPr/>
              <a:tblGrid>
                <a:gridCol w="1214640"/>
                <a:gridCol w="1371600"/>
                <a:gridCol w="1371600"/>
                <a:gridCol w="13716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102440" y="8238960"/>
            <a:ext cx="5614920" cy="4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94520" y="9356760"/>
            <a:ext cx="567864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68480" y="4238640"/>
            <a:ext cx="4024080" cy="1695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長時間労働に関する意識啓発や勤務時間の適正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年次休暇、夏季休暇の取得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学校閉庁日の設定、定時退庁日の設定（週１回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労働安全衛生体制の確立のため、衛生委員会を定期開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催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心と体の健康対策に取り組みます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保健師との連携、メンタル相談窓口の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長時間勤務者との面談、産業医による指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安久都　靖</cp:lastModifiedBy>
  <cp:lastPrinted>2022-05-25T22:05:36Z</cp:lastPrinted>
  <dcterms:modified xsi:type="dcterms:W3CDTF">2022-05-26T04:37:27Z</dcterms:modified>
  <cp:revision>963</cp:revision>
  <dc:subject/>
  <dc:title>スライド 1</dc:title>
</cp:coreProperties>
</file>