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15D-28AB-4213-8B35-D4C7E4D9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F16-7D6B-4924-96F5-BF1D4062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AED-1AE6-40B9-8B0C-A519EFBC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054-8589-46B4-A0C5-397035D7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A96-4D5A-46CB-8A80-4567B2A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A73-D985-42D8-BDBB-5D7C4EB8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84AA-F8A7-4CEA-BE86-DA04FD4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5CE1-E3DF-4682-AD8F-8622566C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484-9DAC-4EC7-874E-42BFD49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475-9568-4039-88B4-07E97B4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393-39E2-4B42-BF20-8772F1A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48E-EAAB-474A-9FD7-25EA6523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FCEC-8853-4E15-B858-244B34F34436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120" y="191880"/>
            <a:ext cx="12479400" cy="87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152280" rIns="152280" tIns="18360" bIns="1836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令和４年度　大船渡高等学校教職員 働き方改革アクションプラン</a:t>
            </a:r>
            <a:br>
              <a:rPr sz="2600"/>
            </a:br>
            <a:br>
              <a:rPr sz="2600"/>
            </a:br>
            <a:r>
              <a:rPr b="0" lang="ja-JP" sz="2400" spc="-1" strike="noStrike">
                <a:solidFill>
                  <a:srgbClr val="6600cc"/>
                </a:solidFill>
                <a:latin typeface="HGS創英角ｺﾞｼｯｸUB"/>
                <a:ea typeface="HGS創英角ｺﾞｼｯｸUB"/>
              </a:rPr>
              <a:t>～　先生の元気は生徒の元気　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6"/>
          <p:cNvSpPr/>
          <p:nvPr/>
        </p:nvSpPr>
        <p:spPr>
          <a:xfrm>
            <a:off x="565200" y="1114560"/>
            <a:ext cx="1265868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船渡高等学校では、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0"/>
          <p:cNvSpPr/>
          <p:nvPr/>
        </p:nvSpPr>
        <p:spPr>
          <a:xfrm>
            <a:off x="601560" y="1425600"/>
            <a:ext cx="5889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　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7157880" y="1450800"/>
            <a:ext cx="58899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593640" y="4108320"/>
            <a:ext cx="12507840" cy="3844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0"/>
          <p:cNvSpPr/>
          <p:nvPr/>
        </p:nvSpPr>
        <p:spPr>
          <a:xfrm>
            <a:off x="587520" y="4476600"/>
            <a:ext cx="461772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5197320" y="4473720"/>
            <a:ext cx="5040360" cy="409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10233000" y="4476600"/>
            <a:ext cx="2868480" cy="5940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３）　学校及び教員が担う業務の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593640" y="4884840"/>
            <a:ext cx="4591080" cy="1439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衛生委員会を活用した労働安全衛生体制を整備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産業医による保健指導及びメンタルヘルス相談の活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各種休暇や特割、振替休日等の取得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エ　教職員の働き方や時間外勤務縮減への意識改革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5197320" y="4897440"/>
            <a:ext cx="5023080" cy="12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部活動のあり方（適正な部活動数・顧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問配置等）の検討を継続して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教育課程、学校行事等の見直し及び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業務の合理化に引き続き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管理職は、適正な労働環境及び支援体制の構築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34440" y="5075280"/>
            <a:ext cx="2868840" cy="1035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　学校評議員会や学校保健委員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等において、業務に係る意見・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言を求める機会を設定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2"/>
          <p:cNvSpPr/>
          <p:nvPr/>
        </p:nvSpPr>
        <p:spPr>
          <a:xfrm flipH="1">
            <a:off x="601560" y="3409920"/>
            <a:ext cx="6229440" cy="69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9"/>
          <p:cNvSpPr/>
          <p:nvPr/>
        </p:nvSpPr>
        <p:spPr>
          <a:xfrm>
            <a:off x="6821640" y="3409920"/>
            <a:ext cx="6329160" cy="6825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614520" y="1800360"/>
            <a:ext cx="5895720" cy="2030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時間外勤務時間は、コロナからの復調の兆しもあ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準時間超過の職員数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２年度と比べて微増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年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年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延べ人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３）週休日も課外指導・部活動指導に従事している教員が多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４）部活動休養日は徹底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５）留守番電話の設置により、勤務時間外の電話対応は減少（緊急除く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55000" y="1825560"/>
            <a:ext cx="5892840" cy="1577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コロナからの復調が益々想定される中で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１）教員一人ひとりがやりがいを感じて、業務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２）生徒と向き合う時間（面談指導等）が確保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３）適正な労働時間が保たれ、健康の保持・増進が図ら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４）ワーク・ライフ・バランスを意識した働き方がな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1"/>
          <p:cNvSpPr/>
          <p:nvPr/>
        </p:nvSpPr>
        <p:spPr>
          <a:xfrm>
            <a:off x="6615000" y="1801800"/>
            <a:ext cx="489240" cy="1646280"/>
          </a:xfrm>
          <a:prstGeom prst="rightArrow">
            <a:avLst>
              <a:gd name="adj1" fmla="val 50000"/>
              <a:gd name="adj2" fmla="val 46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579600" y="6470640"/>
            <a:ext cx="6035400" cy="3370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　</a:t>
            </a:r>
            <a:r>
              <a:rPr b="0" lang="ja-JP" sz="1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38360" y="8024760"/>
            <a:ext cx="561636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00160" y="8464680"/>
          <a:ext cx="5329080" cy="68076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40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正方形/長方形 8"/>
          <p:cNvSpPr/>
          <p:nvPr/>
        </p:nvSpPr>
        <p:spPr>
          <a:xfrm>
            <a:off x="673200" y="91598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843600" y="6551640"/>
            <a:ext cx="6289920" cy="3906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　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6843600" y="6942240"/>
            <a:ext cx="6288120" cy="208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時間外在校等時間</a:t>
            </a: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縮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　時間外在校等時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　➡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r>
              <a:rPr b="1" lang="ja-JP" sz="1800" spc="-1" strike="noStrike">
                <a:solidFill>
                  <a:srgbClr val="ff0000"/>
                </a:solidFill>
                <a:latin typeface="AR Pゴシック体S"/>
                <a:ea typeface="AR Pゴシック体S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イ　時間外在校時間（週休日の部活動時間除く）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　、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 　➡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R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３年度実績５割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業務への充実感や健康面での安心感の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で生き生きと働いていると感じている職員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➡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90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2"/>
          <p:cNvSpPr/>
          <p:nvPr/>
        </p:nvSpPr>
        <p:spPr>
          <a:xfrm>
            <a:off x="7704000" y="9136080"/>
            <a:ext cx="495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令和４年５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　大船渡高等学校長　熊谷　賢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熊谷　賢児</cp:lastModifiedBy>
  <cp:lastPrinted>2022-05-30T06:09:20Z</cp:lastPrinted>
  <dcterms:modified xsi:type="dcterms:W3CDTF">2022-05-30T06:10:40Z</dcterms:modified>
  <cp:revision>1038</cp:revision>
  <dc:subject/>
  <dc:title>スライド 1</dc:title>
</cp:coreProperties>
</file>