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FFDA-05AD-47CC-BF86-30DD54CB5E6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6772-DA56-48D6-BA5A-A91402B9DED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F88-56CC-4A92-8501-77EEF6A3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083-41CB-48B0-A325-62D4C031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0BF-162B-4EED-BED2-F16A5B6A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FC4-28BA-48A7-8BEC-8238D632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ED0-A407-4ED5-8C49-F0EA2AE5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74E-370B-4D91-81F0-AE45B5EF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595-8FF7-4507-8399-2CDF69F8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541-9C87-4C4C-BD89-9B5E8543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EE1-C11C-44CA-A419-7989436F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BAE-139E-45FE-B3DD-F2B9116D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8B3-507C-4163-BCA2-87024062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1B2-4729-4BB0-AD28-768F0448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BCF6-35C7-4128-B728-F86016A2330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99160" y="-2211840"/>
            <a:ext cx="792360" cy="11695320"/>
          </a:xfrm>
          <a:custGeom>
            <a:avLst/>
            <a:gdLst>
              <a:gd name="textAreaLeft" fmla="*/ 0 w 792360"/>
              <a:gd name="textAreaRight" fmla="*/ 792720 w 792360"/>
              <a:gd name="textAreaTop" fmla="*/ 0 h 11695320"/>
              <a:gd name="textAreaBottom" fmla="*/ 11695680 h 116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68280" y="34920"/>
            <a:ext cx="11449080" cy="105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４年度　盛岡第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白梅教職員生き生きプランＲ４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3160" y="6681960"/>
            <a:ext cx="8015400" cy="12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の削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①月８０時間以上の教職員の年間割合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％以内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　　　　　 ②月１００時間以上の教職員の人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０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休暇の取得促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①一人当たりの年次有給休暇の年間取得日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７日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②一人当たりの夏季休暇取得日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日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ノー残業デーへの取組の推進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各自月１回以上の実施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32680"/>
            <a:ext cx="8008920" cy="433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106640" y="1498680"/>
            <a:ext cx="5545080" cy="3380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114560" y="376092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073160" y="1130400"/>
            <a:ext cx="11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二高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103400" y="1862280"/>
            <a:ext cx="5545080" cy="15811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年間における月間平均時間外勤務時間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５．８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年間における年次有給休暇取得７日未満の割合　　 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９．３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夏季休暇取得４日未満の割合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０．９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期健康診断における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以下の割合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２．６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98720" y="412740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26040" y="412740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469360" y="7404120"/>
            <a:ext cx="495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４年５月２３日　盛岡第二高等学校長　鈴木広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98680"/>
            <a:ext cx="5535720" cy="36360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836720"/>
            <a:ext cx="5535720" cy="1630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の役割分担が適正になされ、協働体制が確立され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授業の準備や教育環境の整備に十分な時間が確保され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ワーク・ライフ・バランスが図られ、健康で生き生きと業務に従事し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互いに助け合う学校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3324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83520" y="4118040"/>
            <a:ext cx="3735720" cy="4190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6960" y="4491000"/>
            <a:ext cx="3963960" cy="1655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実施の徹底と学校閉庁日の拡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スクラップと各種学校行事の内容の見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正副担任及び正副顧問間での業務分担の見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精選及び簡素化と会議準備の軽減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4160" y="4506840"/>
            <a:ext cx="3745080" cy="16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高教研、高文連、高体連の事務局業務の軽減に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る関係団体との協議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の負担軽減の取組に関する県教委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地域と一体になった検討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同窓会やＰＴＡに関する業務の軽減や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3160" y="8099280"/>
            <a:ext cx="11655360" cy="19400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05840" y="859932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29360" y="812160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113600" y="9356760"/>
            <a:ext cx="560376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468680"/>
            <a:ext cx="402408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有給休暇や特別休暇の積極的な取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土日等の部活動指導に対する振替取得率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メンタルヘルスセミナーへの積極的参加と研修の共有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ノー残業デーへの組織的取組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岩渕　雅明</cp:lastModifiedBy>
  <cp:lastPrinted>2021-06-03T23:41:00Z</cp:lastPrinted>
  <dcterms:modified xsi:type="dcterms:W3CDTF">2022-05-20T04:32:02Z</dcterms:modified>
  <cp:revision>960</cp:revision>
  <dc:subject/>
  <dc:title>スライド 1</dc:title>
</cp:coreProperties>
</file>