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8656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907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38320" cy="49536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44440" y="0"/>
            <a:ext cx="2938680" cy="49536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2640" y="743040"/>
            <a:ext cx="5038920" cy="3713040"/>
          </a:xfrm>
          <a:prstGeom prst="rect">
            <a:avLst/>
          </a:prstGeom>
          <a:noFill/>
          <a:ln w="9360">
            <a:solidFill>
              <a:srgbClr val="000000"/>
            </a:solidFill>
            <a:miter/>
          </a:ln>
        </p:spPr>
        <p:txBody>
          <a:bodyPr lIns="95040" rIns="9504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7520" y="4704840"/>
            <a:ext cx="5429160" cy="4457880"/>
          </a:xfrm>
          <a:prstGeom prst="rect">
            <a:avLst/>
          </a:prstGeom>
          <a:noFill/>
          <a:ln w="0">
            <a:noFill/>
          </a:ln>
        </p:spPr>
        <p:txBody>
          <a:bodyPr lIns="95040" rIns="9504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08960"/>
            <a:ext cx="2938320" cy="49536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44440" y="9408960"/>
            <a:ext cx="2938680" cy="49536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9CEB-A065-4284-9C2E-A60BFF18896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44800" y="9408960"/>
            <a:ext cx="2938680" cy="49536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35181-6F72-43E7-97F6-685E3F8A1CFF}"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3" name="PlaceHolder 1"/>
          <p:cNvSpPr>
            <a:spLocks noGrp="1"/>
          </p:cNvSpPr>
          <p:nvPr>
            <p:ph type="sldImg"/>
          </p:nvPr>
        </p:nvSpPr>
        <p:spPr>
          <a:xfrm>
            <a:off x="873000" y="743040"/>
            <a:ext cx="5038920" cy="3713040"/>
          </a:xfrm>
          <a:prstGeom prst="rect">
            <a:avLst/>
          </a:prstGeom>
          <a:ln w="0">
            <a:noFill/>
          </a:ln>
        </p:spPr>
      </p:sp>
      <p:sp>
        <p:nvSpPr>
          <p:cNvPr id="74" name="PlaceHolder 2"/>
          <p:cNvSpPr>
            <a:spLocks noGrp="1"/>
          </p:cNvSpPr>
          <p:nvPr>
            <p:ph type="body"/>
          </p:nvPr>
        </p:nvSpPr>
        <p:spPr>
          <a:xfrm>
            <a:off x="677520" y="4704840"/>
            <a:ext cx="5429160" cy="4457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7255B-D89C-4926-817D-E0C2F33EA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CAEE4-3CD1-4CDA-B930-0053BCD9B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EEF31-5FB5-415C-9F7F-AB8B9AD61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23EB8-E9B2-4881-A484-E0FD04EF4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105C5-984B-4D5E-A331-367F0D652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B7EB0-9BC0-4EF9-9D29-ED6854A55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21F7D-84DE-4E3F-83D9-FDF628019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1609C-D46A-44BF-9994-47FDD5B79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EDAC2-F9DA-4C7C-BF3D-712FD7672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CE822-81CD-4D4A-82C2-7417702C0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0F2D6-8A0A-4C5C-997C-AC5DA62EC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4F68C-F0E9-43BC-8484-5B186927A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DC746-E30D-4E15-9CE0-91F0A2FB304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盛岡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チーム盛北」視界良好～</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等時間が月１００時間以上の教職員　→　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等時間が月４５時間超の教職員　　　 →　令和２年度実績の８割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年次休暇等の平均取得日数　　　　　　　　　　　　　→　１</a:t>
            </a:r>
            <a:r>
              <a:rPr b="0" lang="en-US" sz="1200" spc="-1" strike="noStrike">
                <a:solidFill>
                  <a:srgbClr val="000000"/>
                </a:solidFill>
                <a:latin typeface="ＭＳ Ｐゴシック"/>
              </a:rPr>
              <a:t>7</a:t>
            </a:r>
            <a:r>
              <a:rPr b="0" lang="ja-JP" sz="1200" spc="-1" strike="noStrike">
                <a:solidFill>
                  <a:srgbClr val="000000"/>
                </a:solidFill>
                <a:latin typeface="ＭＳ Ｐゴシック"/>
              </a:rPr>
              <a:t>日以上　 １日単位で５日以上取得 →　全職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毎週１日以上の定時退庁　　　　　　　　　　　　　　　→　全職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北高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en-US" sz="1200" spc="-1" strike="noStrike">
                <a:solidFill>
                  <a:srgbClr val="000000"/>
                </a:solidFill>
                <a:latin typeface="Arial"/>
              </a:rPr>
              <a:t>2021 </a:t>
            </a:r>
            <a:r>
              <a:rPr b="0" lang="ja-JP" sz="1200" spc="-1" strike="noStrike">
                <a:solidFill>
                  <a:srgbClr val="000000"/>
                </a:solidFill>
                <a:latin typeface="Arial"/>
              </a:rPr>
              <a:t>時間外在校等時間：累計</a:t>
            </a:r>
            <a:r>
              <a:rPr b="0" lang="en-US" sz="1200" spc="-1" strike="noStrike">
                <a:solidFill>
                  <a:srgbClr val="000000"/>
                </a:solidFill>
                <a:latin typeface="Arial"/>
              </a:rPr>
              <a:t>360</a:t>
            </a:r>
            <a:r>
              <a:rPr b="0" lang="ja-JP" sz="1200" spc="-1" strike="noStrike">
                <a:solidFill>
                  <a:srgbClr val="000000"/>
                </a:solidFill>
                <a:latin typeface="Arial"/>
              </a:rPr>
              <a:t>時間超職員（週休日の部活動除く）＝２４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en-US" sz="1200" spc="-1" strike="noStrike">
                <a:solidFill>
                  <a:srgbClr val="000000"/>
                </a:solidFill>
                <a:latin typeface="Arial"/>
              </a:rPr>
              <a:t>2021</a:t>
            </a:r>
            <a:r>
              <a:rPr b="0" lang="ja-JP" sz="1200" spc="-1" strike="noStrike">
                <a:solidFill>
                  <a:srgbClr val="000000"/>
                </a:solidFill>
                <a:latin typeface="Arial"/>
              </a:rPr>
              <a:t> </a:t>
            </a:r>
            <a:r>
              <a:rPr b="0" lang="ja-JP" sz="1200" spc="-1" strike="noStrike">
                <a:solidFill>
                  <a:srgbClr val="000000"/>
                </a:solidFill>
                <a:latin typeface="Arial"/>
              </a:rPr>
              <a:t>年次休暇取得：平均＝１４</a:t>
            </a:r>
            <a:r>
              <a:rPr b="0" lang="en-US" sz="1200" spc="-1" strike="noStrike">
                <a:solidFill>
                  <a:srgbClr val="000000"/>
                </a:solidFill>
                <a:latin typeface="Arial"/>
              </a:rPr>
              <a:t>,</a:t>
            </a:r>
            <a:r>
              <a:rPr b="0" lang="ja-JP" sz="1200" spc="-1" strike="noStrike">
                <a:solidFill>
                  <a:srgbClr val="000000"/>
                </a:solidFill>
                <a:latin typeface="Arial"/>
              </a:rPr>
              <a:t>１日　１日単位での取得５日未満職員＝１０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新型コロナウイルス感染症への対応など業務量が増大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学校を取り巻く状況や本校の学級減などへの対応に意識改革が必要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３０日　盛岡北高等学校長　小原　由紀</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校訓「師弟和熟」のもと主体的な学びを促進し教育の質の向上に努め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適切なマネジメントを推進し組織力向上に努め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未来を担う生徒たちのロールモデルとしてワーク･ライフ･バランスを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現しながら、心身の健康のもと、ゆとりをもって生徒に向き合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を見える化し、学年を超えた情報共有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業務量削減について積極的に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ＩＣＴの有効活用を図ることで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短時間で質の高い生徒主体の部活動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コミュニティ･スクールを核に「チーム盛北」として外部人材の活用を積極的に図り、保護者や地域、関係者との連携、協働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週休日の模擬試験監督業務等の見直し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緊急度、優先度を勘案して業務量を管理します。</a:t>
            </a: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一人で抱え無理しないよう組織的に業務に当た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次休暇等を取りやすい環境づくり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教職員の心身の健康増進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産業医や各種相談窓口の適切な活用</a:t>
            </a:r>
            <a:r>
              <a:rPr b="0" lang="en-US" sz="1200" spc="-1" strike="noStrike">
                <a:solidFill>
                  <a:srgbClr val="000000"/>
                </a:solidFill>
                <a:latin typeface="Arial"/>
              </a:rPr>
              <a:t>､</a:t>
            </a:r>
            <a:r>
              <a:rPr b="0" lang="ja-JP" sz="1200" spc="-1" strike="noStrike">
                <a:solidFill>
                  <a:srgbClr val="000000"/>
                </a:solidFill>
                <a:latin typeface="Arial"/>
              </a:rPr>
              <a:t>連携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1" name="図 3" descr=""/>
          <p:cNvPicPr/>
          <p:nvPr/>
        </p:nvPicPr>
        <p:blipFill>
          <a:blip r:embed="rId1"/>
          <a:stretch/>
        </p:blipFill>
        <p:spPr>
          <a:xfrm>
            <a:off x="9489960" y="6394320"/>
            <a:ext cx="2103480" cy="118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小原　由紀</cp:lastModifiedBy>
  <cp:lastPrinted>2022-05-30T07:14:57Z</cp:lastPrinted>
  <dcterms:modified xsi:type="dcterms:W3CDTF">2022-05-30T09:19:22Z</dcterms:modified>
  <cp:revision>979</cp:revision>
  <dc:subject/>
  <dc:title>スライド 1</dc:title>
</cp:coreProperties>
</file>