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044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7920"/>
            <a:ext cx="5389560" cy="44416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404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404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001E3-F9E9-4165-AE15-4A87B43209C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404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74687-3115-43DC-8283-FB82DFEF2D6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7160" y="739800"/>
            <a:ext cx="5021280" cy="3700440"/>
          </a:xfrm>
          <a:prstGeom prst="rect">
            <a:avLst/>
          </a:prstGeom>
          <a:ln w="0">
            <a:noFill/>
          </a:ln>
        </p:spPr>
      </p:sp>
      <p:sp>
        <p:nvSpPr>
          <p:cNvPr id="73"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F5660-DC22-4486-9C61-BE8B853BE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D4A79-BAF5-41B6-A1A1-273ECD0B1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A95D4-81CE-424E-B42F-8DA5AFBBF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8623A-FAB4-474D-8209-46FEB633D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127EF-29FD-46EB-A15B-77B642C89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8F773-8152-4451-B4D2-85994EC04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81019-6A7C-4C39-B1D2-594FDC290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05520-1C20-49A9-9F26-8ACF99EB6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1CA39-171D-4803-9B0F-26FFC7C47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5132C-5734-4A03-8168-56E6A6178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E031C-0163-46FA-9C33-A85455A12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FB6BF-8A02-44F1-A4AA-DEA6EB5F0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B7588-3A5D-4CBC-8FCB-3E75733F4B21}"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800" spc="-1" strike="noStrike">
                <a:solidFill>
                  <a:srgbClr val="000000"/>
                </a:solidFill>
                <a:latin typeface="HGS創英角ｺﾞｼｯｸUB"/>
                <a:ea typeface="HGS創英角ｺﾞｼｯｸUB"/>
              </a:rPr>
              <a:t>令和４年度　宮古高等学校教職員 働き方改革アクションプラン</a:t>
            </a:r>
            <a:endParaRPr b="0" lang="en-US" sz="28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教職員を対象とした学校評価アンケートで「教職員が誇りや情熱、同一使命感をもち業務に取り組んでいる」とする回答→　９１％</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a:t>
            </a:r>
            <a:r>
              <a:rPr b="0" lang="en-US" sz="1200" spc="-1" strike="noStrike">
                <a:solidFill>
                  <a:srgbClr val="000000"/>
                </a:solidFill>
                <a:latin typeface="ＭＳ Ｐゴシック"/>
              </a:rPr>
              <a:t>1</a:t>
            </a:r>
            <a:r>
              <a:rPr b="0" lang="ja-JP" sz="1200" spc="-1" strike="noStrike">
                <a:solidFill>
                  <a:srgbClr val="000000"/>
                </a:solidFill>
                <a:latin typeface="ＭＳ Ｐゴシック"/>
              </a:rPr>
              <a:t>年間の平均で、月当たりの時間外勤務１００時間以上の教員→　  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a:t>
            </a:r>
            <a:r>
              <a:rPr b="0" lang="en-US" sz="1200" spc="-1" strike="noStrike">
                <a:solidFill>
                  <a:srgbClr val="000000"/>
                </a:solidFill>
                <a:latin typeface="ＭＳ Ｐゴシック"/>
              </a:rPr>
              <a:t>1</a:t>
            </a:r>
            <a:r>
              <a:rPr b="0" lang="ja-JP" sz="1200" spc="-1" strike="noStrike">
                <a:solidFill>
                  <a:srgbClr val="000000"/>
                </a:solidFill>
                <a:latin typeface="ＭＳ Ｐゴシック"/>
              </a:rPr>
              <a:t>年間の平均で、月当たりの時間外勤務４５時間以上の教員　→　１６人</a:t>
            </a: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宮古高等学校では、「岩手県教職員働き方改革プラン（</a:t>
            </a:r>
            <a:r>
              <a:rPr b="0" lang="en-US" sz="1500" spc="-1" strike="noStrike">
                <a:solidFill>
                  <a:srgbClr val="000000"/>
                </a:solidFill>
                <a:latin typeface="Arial"/>
              </a:rPr>
              <a:t>2021</a:t>
            </a:r>
            <a:r>
              <a:rPr b="0" lang="ja-JP" sz="1500" spc="-1" strike="noStrike">
                <a:solidFill>
                  <a:srgbClr val="000000"/>
                </a:solidFill>
                <a:latin typeface="Arial"/>
              </a:rPr>
              <a:t>～</a:t>
            </a:r>
            <a:r>
              <a:rPr b="0" lang="en-US" sz="1500" spc="-1" strike="noStrike">
                <a:solidFill>
                  <a:srgbClr val="000000"/>
                </a:solidFill>
                <a:latin typeface="Arial"/>
              </a:rPr>
              <a:t>2023</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6" name="Rectangle 70"/>
          <p:cNvSpPr/>
          <p:nvPr/>
        </p:nvSpPr>
        <p:spPr>
          <a:xfrm>
            <a:off x="1079640" y="1806480"/>
            <a:ext cx="5545080" cy="1803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昨年度一年間の平均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当たりの時間外勤務１００時間以上の職員：　０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当たりの時間外勤務４５時間以上の職員：　２３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を対象とした学校評価アンケートで「教職員が誇りや情熱、同一使命感を持ち業務に取り組んでいる」とする回答：　９０％</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部活動を効率的に行うことに努めており、「岩手県における部活動の在り方に関する方針」に基づき、週１日以上の休養日を確保し、休養日の年間累計が１００日以上となるよう計画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令和４年５月３０日　宮古高等学校長　鈴木　裕</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常に真理を探究しようとする意欲のある生徒の育成に向け、教職員が誇りや情熱、同一使命感を持ち業務を行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ワーク・ライフ・バランスを含むタイムマネジメント等の意識改革を進め、教職員が心身ともに健康で充実して働くことができ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等を構成員とする既存の組織（校務運営委員会等）を活用して、業務の見直し、改善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育の質を確保しつつ日課表の見直しを図り、放課後に落ち着いて業務に当たる時間的ゆとり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施設設備や備品等の管理・整理・改善により業務のスリム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留守番電話を導入したことで、外部連絡の受信時間を明確化して、職員の業務の適正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勤務時間外の業務について、保護者の理解を得た上で適正化を図るよう関係団体との協議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375680" y="8535960"/>
          <a:ext cx="5329080" cy="68112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長時間勤務を行っている教職員と管理職が面談をしながら、勤務時間の適正化に取り組みます。特に、時間外勤務時間の多い教職員との日常的な対話に力を入れて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次休暇等を活用しやすい環境整備に努め、教職員が心身ともに健康で働くことができる職場づくりに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鈴木　裕</cp:lastModifiedBy>
  <cp:lastPrinted>2022-05-31T04:36:59Z</cp:lastPrinted>
  <dcterms:modified xsi:type="dcterms:W3CDTF">2022-05-31T04:46:48Z</dcterms:modified>
  <cp:revision>954</cp:revision>
  <dc:subject/>
  <dc:title>スライド 1</dc:title>
</cp:coreProperties>
</file>