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188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9000"/>
            <a:ext cx="5389560" cy="44434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728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728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DCE82-087F-4366-87C9-43CAF20B023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728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8086-C2D2-4B63-AA48-6E908CFB1FD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7160" y="739800"/>
            <a:ext cx="5021280" cy="3701880"/>
          </a:xfrm>
          <a:prstGeom prst="rect">
            <a:avLst/>
          </a:prstGeom>
          <a:ln w="0">
            <a:noFill/>
          </a:ln>
        </p:spPr>
      </p:sp>
      <p:sp>
        <p:nvSpPr>
          <p:cNvPr id="73" name="PlaceHolder 2"/>
          <p:cNvSpPr>
            <a:spLocks noGrp="1"/>
          </p:cNvSpPr>
          <p:nvPr>
            <p:ph type="body"/>
          </p:nvPr>
        </p:nvSpPr>
        <p:spPr>
          <a:xfrm>
            <a:off x="672840" y="4689000"/>
            <a:ext cx="5389560" cy="44434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42372-5BAB-408F-BACA-8CE4659A4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76270-54BD-40EF-A371-0F4CB9F72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1BF2D-9587-4B60-936F-EFAD63485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3FFF4-A771-47C7-81F4-2B972804A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A56A8-AE1A-4F5B-B9F5-D8E8A0645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64949-39F7-41B7-8DF8-CB8A2C12C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B6634-F52D-4397-A101-E2C7136A5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5F7B6-7C48-4E6F-9B0B-EFD0E86FB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748F0-ED2F-4A13-9F60-ABEFD370C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FEB96-1B59-4875-9AE0-AA0E8F396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9DA2F-06ED-4C0E-A1F9-782D48F14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66BD4-A7F8-4933-84A1-8888D67B4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80980-12CF-4C07-A246-6B7C48ECA990}"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盛岡となん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多忙感を軽減し、やる気をもって働ける職場環境と同僚性をめざして～</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週１回（毎週金曜日）のノー残業デーの実施　→　全職員で実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持ち帰り時間も含めて、勤務時間外勤務の実績時間が月平均３０時間未満の教員　→　９０％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年２回の面談期間の他、管理職との個別面談を希望する教職員と１５分以上の面談対応　→　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に１日以上を目途に、少なくとも年間１２日以上、有給休暇を取得する教職員　→　８０％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1089000" y="1123920"/>
            <a:ext cx="11728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盛岡となん支援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職員一人当たりの時間外勤務が月平均</a:t>
            </a:r>
            <a:r>
              <a:rPr b="0" lang="en-US" sz="1200" spc="-1" strike="noStrike">
                <a:solidFill>
                  <a:srgbClr val="000000"/>
                </a:solidFill>
                <a:latin typeface="Arial"/>
              </a:rPr>
              <a:t>18</a:t>
            </a:r>
            <a:r>
              <a:rPr b="0" lang="ja-JP" sz="1200" spc="-1" strike="noStrike">
                <a:solidFill>
                  <a:srgbClr val="000000"/>
                </a:solidFill>
                <a:latin typeface="Arial"/>
              </a:rPr>
              <a:t>時間程度と、前々年度平均より短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されてきている一方で、時間外勤務が</a:t>
            </a:r>
            <a:r>
              <a:rPr b="0" lang="en-US" sz="1200" spc="-1" strike="noStrike">
                <a:solidFill>
                  <a:srgbClr val="000000"/>
                </a:solidFill>
                <a:latin typeface="Arial"/>
              </a:rPr>
              <a:t>45</a:t>
            </a:r>
            <a:r>
              <a:rPr b="0" lang="ja-JP" sz="1200" spc="-1" strike="noStrike">
                <a:solidFill>
                  <a:srgbClr val="000000"/>
                </a:solidFill>
                <a:latin typeface="Arial"/>
              </a:rPr>
              <a:t>時間以上の職員も見受けられる。ま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勤務時間超過という量的な負担よりも、保護者対応も含めた学級経営や授業</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づくりの難しさなど、質的な負担を感じている教員が多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重度重複障がいを有する児童生徒が増えており自立活動や摂食指導、医療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ケアにかかわる専門的な理解のための研修と適切な対応が求め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新型コロナウイルスの感染防止を常に意識しながら学習活動を工夫検討して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く必要に迫られており、膨大かつ予測困難な新規対応が恒常的に発生してい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191440" y="7550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２６日　盛岡となん支援学校長　横澤　修</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　仕事（職業人）と生活（家庭人）の調和という視点で、教職員が互いの立場を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解しあう雰囲気が醸成されている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員一人一人の心と身体の健康状態を良好に保てるように協力しながら業務を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推進して「チームとなん」としての学部横断的な協働がなされている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の専門性向上につながる研修が準備され、経験が浅い教職員であっ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も、安全に、かつ安心して業務に臨むことのできる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と教職員が日頃から信頼関係を築き、一人一人が自己肯定感を感じな</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がら仕事に取り組めるよう、コミュニケーションを図っている姿。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3720" y="4400640"/>
            <a:ext cx="396396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ICT</a:t>
            </a:r>
            <a:r>
              <a:rPr b="0" lang="ja-JP" sz="1200" spc="-1" strike="noStrike">
                <a:solidFill>
                  <a:srgbClr val="000000"/>
                </a:solidFill>
                <a:latin typeface="Arial"/>
              </a:rPr>
              <a:t>器等の活用により、業務の簡略化や情報共有の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率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効率的な会議、打合せを推進するために、出席者規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縮小化、終了時刻の明確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登校時の車椅子準備や、プール当番等については輪番</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制とし、職員全体で分担しながら進めてい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PTA</a:t>
            </a:r>
            <a:r>
              <a:rPr b="0" lang="ja-JP" sz="1200" spc="-1" strike="noStrike">
                <a:solidFill>
                  <a:srgbClr val="000000"/>
                </a:solidFill>
                <a:latin typeface="Arial"/>
              </a:rPr>
              <a:t>や同窓会等の事務局業務について、学校及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担う業務の明確化・適正化が図られるよう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関係する方々、団体と連携してい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と地域が一体となった学校づくりを推進できる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う、コミュニティスクールを令和４年度から導入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プランの長時間勤務者の割合削減に向け、</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ノー残業デーや早めの退庁について、積極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声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の有給休暇の取得を取得しやすい職場の雰囲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づくりに努め、互いを気遣い、思いやる同僚性が醸成し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けるよう教職員間のコミュニケーションを大切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つでも教職員が、管理職に相談ができるように、日頃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り、声掛けと話しやすい雰囲気づくりを進めてい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小宮山　久美子</cp:lastModifiedBy>
  <cp:lastPrinted>2022-05-13T06:39:27Z</cp:lastPrinted>
  <dcterms:modified xsi:type="dcterms:W3CDTF">2022-05-13T06:41:40Z</dcterms:modified>
  <cp:revision>941</cp:revision>
  <dc:subject/>
  <dc:title>スライド 1</dc:title>
</cp:coreProperties>
</file>