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B176-29C1-4AF2-81BA-989FF8A12A9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2FE3-4C60-4CF8-925B-81F6FD594E4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55E-B5EE-4386-9126-47FF7A04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1D7-3408-43E4-ACB9-33E140AA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5A4-9539-4F10-B601-ADF2DADC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F88-8391-42B4-8027-AA946D85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621-D542-4886-8A39-82B9EC4E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9AC-5E4A-472C-8EFC-F433AF1E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6F4-E0D9-44B1-9112-8055BEEB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50AA-7048-4AA6-A78A-81CE85E7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32B-85AE-42B3-85EE-EB7EEB07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81D-0EB5-4082-BE35-986FE577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8B4-3B78-4025-AE70-73281A93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62F-5613-451E-8815-403D1E4B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8225-1620-4C49-B36A-1A1565A2A7B8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岩手県立大野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「持続可能な」働き方を目指して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時間外勤務が月１００時間以上に該当する教職員→ゼロ継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年平均での時間外勤務（週休日の部活動指導従事時間を除く）３６０時間超の教職員→ゼ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年次休暇取得率→８０％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精神面で体調を崩し、入院・休職する教職員数→ゼ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大野高等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少ない教職員数で分担し、各自が多様な業務に取り組んでおり、負担を感じている職員が少なく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特定の時期に複数の業務が重なり、個人に負担が向かう傾向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外在校時間が月１００時間以上の者はゼロであるが、年３６０時間超（週休　　　日の部活動指導従事を除く）は４名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前年度年次休暇取得率７２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9067680" y="7589880"/>
            <a:ext cx="403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６月２０日　岩手県立大野高等学校長　北田義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お互いの業務を理解し、ゆとりと思いやりを持って同僚や生徒に接してい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お互いの業務をサポートし合い、気軽に休暇を取得できる雰囲気がつくられて　　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ワークライフバランスをとりながら、教職員本来の業務に専念でき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費用対効果、時間対効果を考えた業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のスクラップアンドビルド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指導方針に基づき、適正な部活動時間を徹底するなど、部活動指導の負担軽減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外部講師、総探コーディネーター等を積極的に活用し、指導等への負担軽減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、主任間で業務内容、進捗状況を確認し、お互いの業務の「見える化」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業務に複数の担当者を配置できるよう、校務分掌の見直し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少ない職員数では手が回りにくい校舎外の環境整備等を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や同窓会に協力を求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2066760"/>
                <a:gridCol w="204804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20124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休暇を取りやすくするために、部活動顧問を複数配置し、校務分掌の見直し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早期退庁及び積極的な年次休暇等の取得をしやすいよう、管理職は会議設定や運営の効率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開催規定人数に関わらず、衛生委員会を実施し、健康維持への意識を高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々木　順一</cp:lastModifiedBy>
  <cp:lastPrinted>2022-05-18T02:46:55Z</cp:lastPrinted>
  <dcterms:modified xsi:type="dcterms:W3CDTF">2022-05-18T03:31:50Z</dcterms:modified>
  <cp:revision>953</cp:revision>
  <dc:subject/>
  <dc:title>スライド 1</dc:title>
</cp:coreProperties>
</file>