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440" y="744480"/>
            <a:ext cx="505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7CD7-8462-4611-8303-751688CED71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3BA7-D2DE-4356-A681-5ED5A77D47CB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4800" y="744480"/>
            <a:ext cx="5057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B740-2A70-469F-AC0F-4BA7B650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6E8D-120F-4F92-A922-FC999A6C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B4E7-734D-46CB-9FBD-12B6EA86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D69F-88EC-4E97-80D9-B98E6C2A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F611-6D1A-405A-8D6C-B201F7F5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EBC9-057E-4536-ADDD-6A69BAC5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C591-293D-49B4-9DFD-7AE188E1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EE50-C516-4FD5-8BDA-80627082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0AFA-1C3E-4E04-9E1C-9CF3DCB3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AC2B-B36F-4986-B2CB-6D1311BC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63B2-B531-4945-A901-4E15F558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A602-CDD5-4B22-88F3-D7C2DE1D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C483-0496-431C-984C-37EBFAC70062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一関工業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～健康で活き活きとした集団（組織）を目指して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超えの職員　→　Ｒ２年度の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割減　（Ｒ２年度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名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月　→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名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月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時間外勤務をする教職員　　→　Ｒ２年度の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割減　（Ｒ２年度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名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月　→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名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月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職員からの業務改善に向けた要望や取組の達成率　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→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学校行事や部活動等に係る振替意識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一関工業高等学校では、「岩手県教職員働き方改革プラン（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昨年度の時間外在校等時間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を超える教職員数は月平均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主に部活動（運動部）を担当する教職員に時間外勤務が多く見られ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主任や一部の担当者に業務が集中する傾向に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当校で推進する時間外在校等時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ゼロは徹底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６月１６日　一関工業高等学校長　菅原　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一人が明るい気持ちで、やりがいを感じながら業務に取り組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同士が意見交換（情報交換）しやすい組織作りと時間確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チームとして業務に当たる体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家庭で過ごす時間やプライベートな時間を持つことができ、心身と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に健康な日々を送られ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会議の短縮化・効率化を図ります。資料の要約化や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明の短縮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育効果に優先順位を付け、業務の削減や組織体制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見直し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knet’s NEO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及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36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活用し、業務の合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化･効率化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をはじめ、現場の職員からの業務改善に向け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要望や取組を積極的に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育活動等における、学校と家庭の役割につい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理解と協力を得ながら分担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関係機関や学校運営協議会を含め、教員の負担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減に向けた業務の明確化･適正化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0"/>
          <p:cNvSpPr/>
          <p:nvPr/>
        </p:nvSpPr>
        <p:spPr>
          <a:xfrm>
            <a:off x="1079640" y="4392720"/>
            <a:ext cx="4024080" cy="17175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健康診断の結果を把握し、受診が必要な教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員に積極的に声掛け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呼び掛けなど休暇取得しやすい組織・環境作り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学校閉庁日（お盆・年末年始）の実施と連続した休暇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取得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最低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はノー残業デーとし定時退庁を促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専門医への相談やメンタルヘルス研修への参加を促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711920" y="8532720"/>
          <a:ext cx="4434120" cy="68436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3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及川　秀明</cp:lastModifiedBy>
  <cp:lastPrinted>2022-05-24T23:09:47Z</cp:lastPrinted>
  <dcterms:modified xsi:type="dcterms:W3CDTF">2022-05-25T01:42:00Z</dcterms:modified>
  <cp:revision>975</cp:revision>
  <dc:subject/>
  <dc:title>スライド 1</dc:title>
</cp:coreProperties>
</file>