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F387-C7C5-413E-9459-8275A7AF4C1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64F-C264-479A-A434-EE1B577A85C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93D-A07C-468F-99E3-3382CD04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599-DEAB-43B4-986A-05EE0823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2F7-6489-4703-B5C7-81254CAC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8B2-A692-4B34-8314-0D526CF2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9AE-2483-47A0-B4CC-5A0A090F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AF0-DC3A-4F18-ADF9-8AB2A32C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B5C-4312-43C4-BEFC-AD7430C2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8F9-2782-4870-A496-FE5B150B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92D-6B25-4BFC-8523-A884A92A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0677-6288-4110-A533-B5959944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B1C-9EA3-4B80-8DDF-7D21572C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E59-B927-4405-B59C-89734D72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2527-3756-4E6C-AFBD-C2C6E7AC81C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花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 やりがいと希望のもてる職場づくり 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694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教職員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の延べ人数→３人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数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次休暇の平均取得日数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705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泉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6092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３年度において、時間外在校等時間（週休日の部活動指導従事時間を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く）が月４５時間を超える教職員数は延べ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である。また、年間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は２人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.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３年度において、年次休暇の平均取得日数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.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数が少ないため、一人あたりの担当業務の種類が多くなり、多忙感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つな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６日　花泉高等学校長　　嶋　　　　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心身の健康に不安を抱くことなく、業務に集中できる環境で、やり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いを感じながら生徒に向き合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仕事と生活を充実させて、希望のもてる働き方を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仕事量が偏ることなく平準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、日頃から教職員の働きやすい環境づくり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教職員の改善要望等を真摯に受け止め、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きることから積極的に改善するよう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仕事量について、特定の教職員に多くの仕事が偏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がないよう、一人一人の平準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曜日を原則として学校閉庁日とします。また、盆や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末年始も学校閉庁日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水曜日を「Ｎｏ残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業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D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ａ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ｙ」とし、定時退庁日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を徹底するとともに、より効率的・効果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部活動の実施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2720" y="4392720"/>
            <a:ext cx="37447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やＰＴＡ、同窓会等との連携・協力を図りながら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が過度に様々な業務を負担しないよう改善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職員の健康状態等の把握に努めるととも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必要に応じて産業医の保健指導やメンタルヘルス相談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の有効活用を勧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等の取得を推進し、心身のリフレッシュ促進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711920" y="8532720"/>
          <a:ext cx="4434120" cy="68436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玲一郎</cp:lastModifiedBy>
  <cp:lastPrinted>2022-05-11T23:23:20Z</cp:lastPrinted>
  <dcterms:modified xsi:type="dcterms:W3CDTF">2022-05-12T00:59:25Z</dcterms:modified>
  <cp:revision>980</cp:revision>
  <dc:subject/>
  <dc:title>スライド 1</dc:title>
</cp:coreProperties>
</file>