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1883-720E-4AC0-B215-977D4919623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BF08-9357-48BE-9FDC-0ACA2581D77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4B5-0C41-4CFF-974B-02899D33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911-7615-4E50-8466-53DC8661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D9C-B2E8-4B89-9A4F-0EACA727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A80-0230-4D6F-ADDB-F810BAAE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ACB-478C-4E35-95F6-34A92DEF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9C3-2AF1-42AA-A07A-7B7D468F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6B4-C79F-46D0-8B8A-060E5861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9F0-B4EE-43DE-AEB8-9F5A27E9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126-D652-4A7D-802D-2328096F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E42-E3CB-4258-AED7-28164B76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C54-CE8A-40A9-820D-B989D915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676D-0262-4E84-B0C8-F5DD4A66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DAC3-9824-40E7-8EF5-74EE654AD86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久慈東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１ヶ月の時間外在校等時間が４５時間以上の教職員（延べ）の割合→１０％未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年３６０時間以上の教職員の割合→４０％未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各自が定時退勤日又はプラス３０分退勤日の設定→週１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の積極的な休暇取得→月１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久慈東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710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ヶ月の時間外在校等時間が４５時間以上あった教職員（延べ）は１３．２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間の時間外在校等時間が、３６０時間以上の教職員は全体の４４．８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時退庁や部活動の休業が十分に取れない職員が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特定の教職員に時間外勤務８０時間以上となる場合が見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岩手県立久慈東高等学校長　佐々木　寛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719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風通しのよい職場と感じ、教員としての使命感や達成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を実感し、生き生きと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各自の勤務時間を意識しながら働き、長時間勤務の縮減に取り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休憩・休息の時間を十分に確保し、年次休暇を適宜取得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教職員に対し、日頃からコミュニケーションをと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726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情報の共有と分掌間の連携協力を図り、業務の効率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進めます。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短縮化を図り、勤務時間外の会議や打合せ等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わないよう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による各主任との面談等により、業務の状況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把握し、業務の効率化や軽減に向けて助言を行います。 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726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分掌業務の見直しを進め、ＩＣＴを積極的に活用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た業務の推進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勤務時間外の外部からの電話について、留守番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話による対応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本校における働き方改革の取り組みについて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理解と協力を求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90440" y="810576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726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が自己の時間外勤務を把握し、積極的に時間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勤務の縮減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状態の把握に努め、休暇取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ついても積極的に声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閉庁日を夏季休業及び年末年始に設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小松　了</cp:lastModifiedBy>
  <cp:lastPrinted>2022-06-01T04:23:59Z</cp:lastPrinted>
  <dcterms:modified xsi:type="dcterms:W3CDTF">2022-06-01T04:24:03Z</dcterms:modified>
  <cp:revision>968</cp:revision>
  <dc:subject/>
  <dc:title>スライド 1</dc:title>
</cp:coreProperties>
</file>