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EB40-197D-4F2A-A9AC-DA774B0570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B8F4-BF04-41DF-BED2-C39F6E90D6E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3000" y="744480"/>
            <a:ext cx="5051520" cy="372132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A4266-3CA0-43FB-BD54-AEC0955CD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2DA06-98A6-42DC-8821-F1C036941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41A6B-0434-48BB-A633-0E9944F35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84FB3-4664-48D1-AFBF-2E26BE512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96DD7-A6B5-4E3F-B8A1-68B0513B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64949-4851-4FB9-9B63-968D6D3DF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C61D8-8797-4752-95CF-A6D743D56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95064-D036-4AE0-8792-093BBE468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2A34A-832C-4D44-8785-29296F6D3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3FFD4-67C1-4458-A51A-206B9DADF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011E4-927E-4223-9AB0-E55194C10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47873-E2B3-4C48-A32E-CE50A3B50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68E3-B7F1-4C85-A3B3-9A6780DDEDB3}"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第三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さわやか三高、ワーク・ライフ・バランスを意識した明るく健康的な職場づくり～</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9640" y="64342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2"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4" name="テキスト ボックス 2"/>
          <p:cNvSpPr/>
          <p:nvPr/>
        </p:nvSpPr>
        <p:spPr>
          <a:xfrm>
            <a:off x="1360440" y="1101600"/>
            <a:ext cx="11241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第三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5"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6"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7"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a:t>
            </a:r>
            <a:r>
              <a:rPr b="0" lang="en-US" sz="1100" spc="-1" strike="noStrike">
                <a:solidFill>
                  <a:srgbClr val="000000"/>
                </a:solidFill>
                <a:latin typeface="Arial"/>
              </a:rPr>
              <a:t>31</a:t>
            </a:r>
            <a:r>
              <a:rPr b="0" lang="ja-JP" sz="1100" spc="-1" strike="noStrike">
                <a:solidFill>
                  <a:srgbClr val="000000"/>
                </a:solidFill>
                <a:latin typeface="Arial"/>
              </a:rPr>
              <a:t>日　盛岡第三高等学校長　木村　克則</a:t>
            </a:r>
            <a:endParaRPr b="0" lang="en-US" sz="1100" spc="-1" strike="noStrike">
              <a:solidFill>
                <a:srgbClr val="000000"/>
              </a:solidFill>
              <a:latin typeface="Arial"/>
            </a:endParaRPr>
          </a:p>
        </p:txBody>
      </p:sp>
      <p:sp>
        <p:nvSpPr>
          <p:cNvPr id="58"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2"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4"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5"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内では「参加型授業による授業改善」と「サイエンス・リサーチ・ハイスクール事業」に取り組んでいる。また、「いわて進学支援ネットワーク事業探究プログラム実施対象校」「いわて学びの改革研究事業研究協力校」「岩手大学教職大学院連携協力校」の３つの指定を受け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科指導やＩＣＴ教育の充実、進路指導、部活動指導等に熱心な教職員集団のため、労働時間が勤務時間外に拡大する傾向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れまでの取り組みにより時間外勤務を減らそうという意識が醸成され、令和３年度の勤務時間外労働時間の月平均は４３時間で、前年度より</a:t>
            </a:r>
            <a:r>
              <a:rPr b="0" lang="en-US" sz="1200" spc="-1" strike="noStrike">
                <a:solidFill>
                  <a:srgbClr val="000000"/>
                </a:solidFill>
                <a:latin typeface="Arial"/>
              </a:rPr>
              <a:t>12.6</a:t>
            </a:r>
            <a:r>
              <a:rPr b="0" lang="ja-JP" sz="1200" spc="-1" strike="noStrike">
                <a:solidFill>
                  <a:srgbClr val="000000"/>
                </a:solidFill>
                <a:latin typeface="Arial"/>
              </a:rPr>
              <a:t>時間減少し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一人が、ワーク・ライフ・バランスを取りながら、やりがいと満足感をもって職務に取り組んで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を含めた教職員同士が、お互いに気を配り、助け合いながら、チームとして職務を遂行して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一人一人がタイムマネジメントと職務の精選を行い、メリハリある態度で職責を果た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新たな取り組みや工夫をしてみようとする時間的・精神的なゆとりを有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7" name="Rectangle 70"/>
          <p:cNvSpPr/>
          <p:nvPr/>
        </p:nvSpPr>
        <p:spPr>
          <a:xfrm>
            <a:off x="1079640" y="4392720"/>
            <a:ext cx="4024080" cy="1890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教職員一人一人の職務と健康状態を把握し、面談や声掛けなどを通して適切な指導・助言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自身の勤務時間外労働時間について理解を深め、個々の働き方改革に主体的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同士の良好なコミュニケーションを育み、心身ともに健康的で明るく、かつ気軽に弱音が吐ける、安心で安全な職場をつく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盆・年末年始等の学校閉庁日を適切に設定したり、考査期間の年次取得を勧めたりしながら、適切な休養を取れる職場環境を構築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70"/>
          <p:cNvSpPr/>
          <p:nvPr/>
        </p:nvSpPr>
        <p:spPr>
          <a:xfrm>
            <a:off x="5108400" y="4392720"/>
            <a:ext cx="3964320" cy="1890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年度踏襲主義に陥ることなく、業務内容の見直しと改善に係る工夫を主体的に行い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業務量削減に向け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一人が、業務量削減に関心を持ち、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組織として業務にかかわり、担当者個人の負担を減ら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は指導計画に基づき計画的に行うとともに、顧問間の連携を密にして指導の負担が偏らないよう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70"/>
          <p:cNvSpPr/>
          <p:nvPr/>
        </p:nvSpPr>
        <p:spPr>
          <a:xfrm>
            <a:off x="1090440" y="6840360"/>
            <a:ext cx="7118640" cy="10861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本校勤務に満足している教職員の割合→８５％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毎月の月１００時間以上の時間外勤務者の人数→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勤務時間外労働時間の毎月の平均→５０時間以内</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１９時の校舎施錠時に完全退勤する職員→１００％</a:t>
            </a:r>
            <a:endParaRPr b="0" lang="en-US" sz="1200" spc="-1" strike="noStrike">
              <a:solidFill>
                <a:srgbClr val="000000"/>
              </a:solidFill>
              <a:latin typeface="Arial"/>
            </a:endParaRPr>
          </a:p>
        </p:txBody>
      </p:sp>
      <p:sp>
        <p:nvSpPr>
          <p:cNvPr id="70" name="Rectangle 70"/>
          <p:cNvSpPr/>
          <p:nvPr/>
        </p:nvSpPr>
        <p:spPr>
          <a:xfrm>
            <a:off x="9067680" y="4392720"/>
            <a:ext cx="3745080" cy="1890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サイエンス・リサーチ・ハイスクール事業」や「いわて学びの改革研究事業」において、効率・効果的な運営と教職員の負担軽減を図るために、関係団体との連携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と一体となった特色ある学校づくりを進めるために、学校運営協議会を通して、地域と連携・協働する取り組み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菅野　幸貴</cp:lastModifiedBy>
  <cp:lastPrinted>2022-05-25T05:52:54Z</cp:lastPrinted>
  <dcterms:modified xsi:type="dcterms:W3CDTF">2022-05-31T04:38:01Z</dcterms:modified>
  <cp:revision>940</cp:revision>
  <dc:subject/>
  <dc:title>スライド 1</dc:title>
</cp:coreProperties>
</file>