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C60F-D740-4033-988A-6EAE23EE97B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CDBD-BD70-4364-A0AD-4E7C84D0E8B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928BA-7BA4-4CA5-8859-C2D522326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25AAC-CA88-475E-9487-2DAEDF6A8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12ABC-B21F-49B0-BB9E-683EC0C09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4FDB3-3CE0-449A-9691-94E68360D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D6651-9D05-441A-AAD0-9ADE66FC6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1B157-F6DB-4718-B8A1-054834CFE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F5ED4-0AAC-4BFE-A7FC-3D4AA6A4C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F5C46-A8A4-4A36-98EB-31F06FE6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338BA-3F24-4E02-BA04-49CDE5B79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1D75-8C0E-4349-9958-DC8059E59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2073B-3731-4C8C-9759-9A884169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F929-AA6B-4AEE-B396-FF51B2498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B467-37CD-42DC-BE49-D3A4B5E6A53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花巻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Ａｌｌ　ｆｏｒ　ｏｎｅ，ｏｎｅ　ｆｏｒ　ａｌｌ．～</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当たりの時間外勤務１００時間以上行う教職員→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８０時間以上１００時間未満に該当する教職員→延べ３５人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に年次取得５日以上の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花巻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３年度に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未満の時間外勤務を行った職員は延べ５人で、</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a:t>
            </a:r>
            <a:r>
              <a:rPr b="0" lang="ja-JP" sz="1200" spc="-1" strike="noStrike">
                <a:solidFill>
                  <a:srgbClr val="000000"/>
                </a:solidFill>
                <a:latin typeface="Arial"/>
              </a:rPr>
              <a:t>以上の職員はいなか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の中で担当する教職員が孤業化し、コミュニケーションも不足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取組が全教職員に周知されているが、多忙感は解消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ィルス感染症予防対策のため、学校行事や部活動の中止、延期、変更が続いていることや陽性者への対応、予防対策に係る業務等によるストレスの蓄積が懸念さ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ＭＳ Ｐゴシック"/>
              </a:rPr>
              <a:t>10</a:t>
            </a:r>
            <a:r>
              <a:rPr b="0" lang="ja-JP" sz="1100" spc="-1" strike="noStrike">
                <a:solidFill>
                  <a:srgbClr val="000000"/>
                </a:solidFill>
                <a:latin typeface="Arial"/>
              </a:rPr>
              <a:t>日　花巻南高等学校長　山田浩和</a:t>
            </a:r>
            <a:endParaRPr b="0" lang="en-US" sz="1100" spc="-1" strike="noStrike">
              <a:solidFill>
                <a:srgbClr val="000000"/>
              </a:solidFill>
              <a:latin typeface="Arial"/>
            </a:endParaRPr>
          </a:p>
        </p:txBody>
      </p:sp>
      <p:sp>
        <p:nvSpPr>
          <p:cNvPr id="60" name="Rectangle 70"/>
          <p:cNvSpPr/>
          <p:nvPr/>
        </p:nvSpPr>
        <p:spPr>
          <a:xfrm>
            <a:off x="7375680" y="1432080"/>
            <a:ext cx="543240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375680" y="1795320"/>
            <a:ext cx="543240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充実感と安心感を感じながら業務に取り組んで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丁寧に声がけを行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年次休暇を取得しやすい環境が整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を十分に確保でき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放課後や休み時間に教職員が、生徒と向き合う時間を確保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69000" y="1519200"/>
            <a:ext cx="67644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の活用や週休日等の時間外に対応する緊急携帯電話の活用等、保護者への対応について負担軽減に努め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放課後の校舎見回りの日直制度の廃止を継続し、本来の業務に専念できる環境を整え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的に校務運営委員会等で業務改善の意見を確認し改善できる点を確認、速やかに実施する体制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やスクールソーシャルワーカー等との連携をさらに密にし、教職員が負担してきた業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ンプライアンスの定期的な確認をとおして、教育公務員としての自覚を持ち、服務を遵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取組を確実に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１年間の年次有給休暇５日以上取得するように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心身の健康維持について積極的に声掛けをし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期休業中の日直制度の廃止を継続し、長期休業中に年次等の有給休暇を取得しやすい環境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の業務負担の軽減に努めるとともに、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谷地　信治</cp:lastModifiedBy>
  <cp:lastPrinted>2022-05-10T02:47:47Z</cp:lastPrinted>
  <dcterms:modified xsi:type="dcterms:W3CDTF">2022-05-10T08:37:16Z</dcterms:modified>
  <cp:revision>948</cp:revision>
  <dc:subject/>
  <dc:title>スライド 1</dc:title>
</cp:coreProperties>
</file>