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89D8-89B3-4E69-A1AB-81861BF67F3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A6AE-B5A3-41E4-AB24-C0127047A49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892-F603-4F34-AB3D-05213921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5D2-60AC-4909-BB17-C6339D53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22E-33E1-438B-B3DC-5F4F3727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73A-19DD-427F-B736-85164339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F938-3BE1-4633-8FCE-6A430AD4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63B-B4AE-48B5-ABF2-869DCC3E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63EE-2A62-415A-B1B9-BE4D6E2B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984-D009-4B51-BE97-FE0AB9A0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4A9-3BEF-42C1-966B-DFEEB530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5E7-A875-4221-A3D9-27C50BFF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072-8DDC-4BE6-AF80-7A5DED50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64B-8B44-4FAF-B3E4-34D1F8E0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4146-8296-4289-8446-7F80C148CCC4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金ケ崎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おかげさま・お世話様・お互い様の職場環境を目指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54960"/>
            <a:ext cx="6973920" cy="11476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月平均時間外勤務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人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h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未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夏季休暇所得率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、年休取得日数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人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4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三大大会（役員）等に係る振替取得率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ノー延長デー（毎週水曜日）の完全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学校評価アンケート「適切な業務推進や効率化のための改善を行っている」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学校評価アンケート「自身は健康で生き生きと働いている」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7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時間外勤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月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以上 延２名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  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）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h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以上 延０名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０名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健康管理区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月平均休日出勤回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夏季休暇取得日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）。年休取得日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）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月平均時間外勤務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.5h/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人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3.3h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）。人間ドック・脳ドック受診者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名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名）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三大大会（役員）等に係る振替取得率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少ない教職員で多様な業務に取り組んでおり、負担を感じる教職員が少なく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新規事業及び新型コロナ対応等の業務増で、負担を感じる教職員が少なく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金ケ崎高等学校長　　宮　　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教育公務員としての矜持と誇りを持ち、元気で生き生きと働い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「チーム金高」の意識のもと、生徒への愛情と情熱を持って働いて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「おかげさま」「お互い様」という崇高な理念を共有し、フォローし合う職場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日常的なＯＪＴにより業務が効率化され、生徒と向き合う時間が確保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ワークライフバランスが保たれ、ゆとりを持って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有給休暇の取得等により、教職員が家庭で過ごす時間を十分確保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学校閉庁日の設定と遵守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時間外電話対応について、留守番電話の活用を図り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当面は会議資料の事前配付と論点明示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時機を見て職員会議のペーパーレス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上記により、定例職員会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内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、会議の精選・効率化を積極的に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活用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刷新により印刷配付物の精選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生徒指導について、積極的に在少・警察・その他行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当局等外部組織との連携を図り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育相談について、積極的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W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警察・児相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その他行政当局等外部組織との連携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出欠連絡のデジタル化の検討等、教職員が担うべ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業務について、精選と効率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年休・特休・特割・振休の取得推進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特定保健指導等の利用による健康増進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メンタルヘルス相談の活用促進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健診結果に配慮し、積極的受診を勧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、大会引率振替等について一覧で周知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休暇取得について積極的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宮　学</cp:lastModifiedBy>
  <cp:lastPrinted>2022-05-26T07:39:08Z</cp:lastPrinted>
  <dcterms:modified xsi:type="dcterms:W3CDTF">2022-05-26T07:41:14Z</dcterms:modified>
  <cp:revision>952</cp:revision>
  <dc:subject/>
  <dc:title>スライド 1</dc:title>
</cp:coreProperties>
</file>