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8DE9-5A7D-461F-A4AB-2ECF9E691D2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96A6-1210-4AD0-8D26-8D55A3C9B17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13C-DB80-4361-B742-B8D680C6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C7A-1909-4893-ACDB-C24D40C6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683-A2D5-40E8-B1D7-6FB86B78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8A0-085D-4C4D-AA18-3387D65F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A4B-834B-42AD-B5DC-9D5F9956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917-B33A-436E-9FF3-73D30CEC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57F-5B73-46B5-B29A-77D4B1E9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253-FCD0-4B86-8C5D-7C5BAE37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EC5-2B16-4F40-85A4-BF71E393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70A-8FDB-42B2-B247-8EF29725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A52-4E44-4E6E-A71D-6A6F48AC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F41-EDF3-471F-B4F1-1083D00D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6EFE-6825-428A-997A-6B0A83B575D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杜陵高等学校奥州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熱意 誠意 創意 で明るく健康的な職場作り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は１日２時間以内とし、１ヶ月全体の平均を４５時間以内とする。また、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超える教職員をゼロ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年次休暇の計画的取得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夏季休暇の取得→１００％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杜陵高等学校定時制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定時制と通信制の校舎が別になっており、会議や行事、事務手続き等効率的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業務を行うことができ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多様な生徒一人一人にきめ細やかな教育を行っているため、教職員の精神的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な負担感が大き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令和３年度、時間外在校等時間の月平均８０時間を越える教員は年間０名で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３１日　杜陵高等学校長　髙橋 正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それぞれのライフワークバランスを意識して職務に取り組む一方で、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本校の果たすべき役割を自覚し、自らの責務を果た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の目配り、気配りの行き届いた教育によって、生徒個々の能力を引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出し、生徒が明るく学校生活を楽し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教職員の勤務状況を把握して、個に応じて適切に対応することで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良好な職場環境を築い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常的にこまめな情報交換を行い、定例職員会議など、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会議が効率よく行われるよう時間短縮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教職員が、軽減・廃止できる業務について、積極的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安全な校務や教材のデータの共有化を推進すること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より、業務の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定時制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と通信制に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所属する教職員が協力する業務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独立する業務とを明確にして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SC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SSW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児童相談所、福祉施設など外部と連携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して生徒を指導する態勢を構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FTA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同窓会等の事務局業務について、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及び教職員が担う業務の適正化を図るよう、関係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体との協議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時間外在校等時間縮減の取組みを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確実に実施し、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の健康診断の結果や普段の健康状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把握し、配慮の必要な場合は積極的に対処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相互の理解と心遣いに基づいた風通しのよい教職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員の文化を醸成し、メンタルヘルスを心掛け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1"/>
          <p:cNvSpPr/>
          <p:nvPr/>
        </p:nvSpPr>
        <p:spPr>
          <a:xfrm>
            <a:off x="1090440" y="8105760"/>
            <a:ext cx="1173816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12"/>
          <p:cNvSpPr/>
          <p:nvPr/>
        </p:nvSpPr>
        <p:spPr>
          <a:xfrm>
            <a:off x="7107120" y="8121600"/>
            <a:ext cx="561528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920000" y="8553600"/>
          <a:ext cx="443376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0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" name="正方形/長方形 8"/>
          <p:cNvSpPr/>
          <p:nvPr/>
        </p:nvSpPr>
        <p:spPr>
          <a:xfrm>
            <a:off x="7107120" y="9247320"/>
            <a:ext cx="567864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橋本　ゆかり</cp:lastModifiedBy>
  <cp:lastPrinted>2022-05-24T08:28:11Z</cp:lastPrinted>
  <dcterms:modified xsi:type="dcterms:W3CDTF">2022-05-25T01:29:23Z</dcterms:modified>
  <cp:revision>971</cp:revision>
  <dc:subject/>
  <dc:title>スライド 1</dc:title>
</cp:coreProperties>
</file>