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23FE-CD9A-458B-B57B-E0BBF784FD4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CDF9-7681-416F-87BE-41DA9F8BDA8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506-3CFF-4854-9460-F139A134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6D4-C5C4-4B37-8483-73A353F5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CC1-1665-4DE1-905F-A2392A9F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E77E-49D0-4CCB-8A1B-4ED1992E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59C-13AA-4DD7-8C34-0DE6FC60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904-DD49-4256-9115-0324445C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B00-B7C1-4D55-9A42-C9CEA583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E9E-E9A9-4BEB-90F7-AA480385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3EC-7436-4382-B7B5-D59FD451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D470-5FD5-4E8B-AE8C-665701CA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5F7-EDF5-40A2-A042-2C2975A5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B8A-B63C-499B-9C84-1B7B21B1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539D-9616-4E41-AAAF-1B5DED24AD08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49200" y="20016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高田高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en-US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15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分以上早く帰るために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911160" y="3960720"/>
            <a:ext cx="588492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やりがいを感じながらゆとりをもって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教職員とのコミュニケーションを密にとり、風通しの良い明るい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 場作りに努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生徒一人一人と接する時間を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学習指導の充実のため、数多くの研修の機会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6918480" y="7162920"/>
            <a:ext cx="5954400" cy="1622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時間外在校等時間の教職員→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時間外在校等時間の教職員→令和２年度実績の８割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時間外在校等時間の教職員→令和２年度実績の８割減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１回以上年次休暇を取得する教職員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9848880" y="2255760"/>
            <a:ext cx="3024000" cy="42814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教職員個々に毎月の時間外在校等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まとめたものを配付し、縮減への意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付けを図るとともに、時間外在校等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が長い教職員には管理職が積極的に声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が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特定の職員に業務が集中しないよう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チームで取り組む体制作りに努め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人間ドック等、健康診断受診について積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極的に情報提供と声掛けをし、受診しや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すい雰囲気作り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月に１回以上、休暇を取得するよう積極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的に教職員を促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盆、年末年始の学校閉庁日を適切に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カウンセラー来校日には、教員もカウ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セリングを受けられるよう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6908760" y="6759720"/>
            <a:ext cx="5985000" cy="3585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895320" y="1432080"/>
            <a:ext cx="5889600" cy="37440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（３年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909720" y="3600360"/>
            <a:ext cx="588960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6973920" y="1432080"/>
            <a:ext cx="5929200" cy="79200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（３年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2"/>
          <p:cNvSpPr/>
          <p:nvPr/>
        </p:nvSpPr>
        <p:spPr>
          <a:xfrm>
            <a:off x="1108080" y="1092240"/>
            <a:ext cx="117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高田高校では、「岩手県教職員働き方改革プラン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890640" y="1806480"/>
            <a:ext cx="5894280" cy="1720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のうち、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が年間を通し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 の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であった。また、週休日の部活動従事時間を含めた数値で、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を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えた者はの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、１ヶ月平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.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.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を超えた者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.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であった。長時間勤務の大きな要因は、部活動の練習、大会・遠征等の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勤務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同時にいくつもの業務を抱えてしまう職員が多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健康管理区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職員が、定期健康診断を受診し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にのぼ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6948360" y="2236680"/>
            <a:ext cx="2881440" cy="4300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退勤時間までに業務を終了させるよう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　常に見通しを持って業務に当た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「学校の部活動に係る活動方針」に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づき、効率的な指導に取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管理職が、教職員の負担軽減策に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いて積極的に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会議資料の事前配付、様式の統一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等により会議時間を短縮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分掌組織や部活動の見直しを図り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業務の効率化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校務におけるＯＪＴを推進し、教職員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成長できる学校を目指し、業務の偏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なく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学校行事等のスリム化を図り、ゆと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 ある学校運営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横巻き 4"/>
          <p:cNvSpPr/>
          <p:nvPr/>
        </p:nvSpPr>
        <p:spPr>
          <a:xfrm>
            <a:off x="836640" y="5330880"/>
            <a:ext cx="5905440" cy="4537080"/>
          </a:xfrm>
          <a:prstGeom prst="horizontalScroll">
            <a:avLst>
              <a:gd name="adj" fmla="val 8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　「岩手県教職員働き方改革プラン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２０２１～２０２３）</a:t>
            </a:r>
            <a:r>
              <a:rPr b="0" lang="ja-JP" sz="12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」 （抜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働き方改革の実現により、岩手の未来を担う大切な子どもたちに、質の高い教育の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時間外在校等時間が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Arial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超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　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令和５年度において、アンケート調査に基づく肯定的実感が令和３年度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実施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6961320" y="1806480"/>
            <a:ext cx="2881080" cy="40968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１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負担軽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871200" y="1806480"/>
            <a:ext cx="3024000" cy="43020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確保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84360" y="7905600"/>
          <a:ext cx="4680000" cy="984240"/>
        </p:xfrm>
        <a:graphic>
          <a:graphicData uri="http://schemas.openxmlformats.org/drawingml/2006/table">
            <a:tbl>
              <a:tblPr/>
              <a:tblGrid>
                <a:gridCol w="922320"/>
                <a:gridCol w="1289160"/>
                <a:gridCol w="1388880"/>
                <a:gridCol w="107964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Ｒ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Ｒ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(2022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Ｒ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3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　　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" name="正方形/長方形 2"/>
          <p:cNvSpPr/>
          <p:nvPr/>
        </p:nvSpPr>
        <p:spPr>
          <a:xfrm>
            <a:off x="6918480" y="9144000"/>
            <a:ext cx="5538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１７日　　　　　　岩手県立高田高等学校長　坂本　美知治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々木　直人</cp:lastModifiedBy>
  <cp:lastPrinted>2022-05-13T04:17:18Z</cp:lastPrinted>
  <dcterms:modified xsi:type="dcterms:W3CDTF">2022-05-18T01:37:28Z</dcterms:modified>
  <cp:revision>982</cp:revision>
  <dc:subject/>
  <dc:title>スライド 1</dc:title>
</cp:coreProperties>
</file>