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3000" y="744120"/>
            <a:ext cx="505152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B67B0-718F-413D-9E13-DE8E1D36F4EA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BC157-F865-4C26-876A-6C2C73930321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873000" y="744480"/>
            <a:ext cx="5051520" cy="37213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5985-B474-411A-B801-6E25ACB7F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A5E8-089B-4C05-A2F8-88F9E001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84DE-2438-46B4-B391-6F3B17883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97DD-BD16-4E27-ACC2-4C98E10CB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70B8-A01A-4EF8-87EA-5F8D34A3D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344A-B713-47B6-A316-C81F74C84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60F7-D43B-4F98-9A8D-2EFA076A0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AA71-0D15-4E2C-9409-0EB7F5E2C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83D6-B98C-4713-A849-5165381E0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FA53-8EBA-45FE-BCAE-C91EDA77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5014-78C8-4D86-ADE6-DF8BB923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68FF-2F07-4C93-B331-9A68D4F9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FD53C-380F-4A09-914C-E94F9D41A270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ホームベース 4"/>
          <p:cNvSpPr/>
          <p:nvPr/>
        </p:nvSpPr>
        <p:spPr>
          <a:xfrm rot="16200000">
            <a:off x="6547680" y="-2228400"/>
            <a:ext cx="792360" cy="11728440"/>
          </a:xfrm>
          <a:custGeom>
            <a:avLst/>
            <a:gdLst>
              <a:gd name="textAreaLeft" fmla="*/ 0 w 792360"/>
              <a:gd name="textAreaRight" fmla="*/ 792720 w 792360"/>
              <a:gd name="textAreaTop" fmla="*/ 0 h 11728440"/>
              <a:gd name="textAreaBottom" fmla="*/ 11728800 h 117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654" y="0"/>
                </a:lnTo>
                <a:lnTo>
                  <a:pt x="21600" y="10800"/>
                </a:lnTo>
                <a:lnTo>
                  <a:pt x="116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>
              <a:alpha val="32000"/>
            </a:srgbClr>
          </a:solidFill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3"/>
          <p:cNvSpPr/>
          <p:nvPr/>
        </p:nvSpPr>
        <p:spPr>
          <a:xfrm>
            <a:off x="1224000" y="217440"/>
            <a:ext cx="11449080" cy="836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４年度　久慈高等学校長内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勤務したい・勤務して良かった学校を目指します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90440" y="6665760"/>
            <a:ext cx="7118640" cy="11113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心身の故障による休職者→０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時間外在校時間月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間以下の教職員→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週に２回以上定時退庁を行う教職員　→　早期に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月に２回以上年次休暇を取得する教職員　→　１００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0"/>
          <p:cNvSpPr/>
          <p:nvPr/>
        </p:nvSpPr>
        <p:spPr>
          <a:xfrm>
            <a:off x="1079640" y="6259680"/>
            <a:ext cx="7129440" cy="40608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４　目　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457280"/>
            <a:ext cx="5545080" cy="3380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1079640" y="3664080"/>
            <a:ext cx="11728440" cy="379440"/>
          </a:xfrm>
          <a:prstGeom prst="rect">
            <a:avLst/>
          </a:prstGeom>
          <a:solidFill>
            <a:srgbClr val="00b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テキスト ボックス 2"/>
          <p:cNvSpPr/>
          <p:nvPr/>
        </p:nvSpPr>
        <p:spPr>
          <a:xfrm>
            <a:off x="905040" y="1101600"/>
            <a:ext cx="1191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久慈高等学校長内校では、「岩手県教職員働き方改革プラン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0"/>
          <p:cNvSpPr/>
          <p:nvPr/>
        </p:nvSpPr>
        <p:spPr>
          <a:xfrm>
            <a:off x="1079640" y="1806480"/>
            <a:ext cx="5545080" cy="16574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定時制ではあるが、全日制高校と同様の学校行事を行っているため、各行事を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担当する教員など、一部の教職員に業務が集中し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発達障害、精神疾患等、支援の必要な生徒が多く在籍しているため、生徒指導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学級担任に多大な負担がかかっ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再任用、講師が多く、次年度の校務分掌に影響するおそれが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部活動は平日１時間程度であり、多くの生徒がアルバイト就労しているため、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休日・休日のほとんどを休養日とし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加重負担となるような時間外労働はほとんど無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1079640" y="4032360"/>
            <a:ext cx="402408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5108400" y="4032360"/>
            <a:ext cx="399744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正方形/長方形 2"/>
          <p:cNvSpPr/>
          <p:nvPr/>
        </p:nvSpPr>
        <p:spPr>
          <a:xfrm>
            <a:off x="8064360" y="7604280"/>
            <a:ext cx="4953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４年５月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日　久慈高等学校長　中　野　達　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7272360" y="1432080"/>
            <a:ext cx="5535720" cy="3632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２　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7272360" y="1795320"/>
            <a:ext cx="5535720" cy="17370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一人一人が、学校の役割を理解し、誇りとやりがいを持って職務に従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し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管理職が日頃から、休暇を取得しやすい環境づくりを行っ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組むことにより、職員の負担を軽減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が、生徒と接する時間が十分に確保でき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職員が個人や家庭で過ごす時間を十分に確保でき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右矢印 1"/>
          <p:cNvSpPr/>
          <p:nvPr/>
        </p:nvSpPr>
        <p:spPr>
          <a:xfrm>
            <a:off x="6640560" y="1519200"/>
            <a:ext cx="676080" cy="1908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f2f2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0"/>
          <p:cNvSpPr/>
          <p:nvPr/>
        </p:nvSpPr>
        <p:spPr>
          <a:xfrm>
            <a:off x="9072720" y="4032360"/>
            <a:ext cx="3735360" cy="37944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0"/>
          <p:cNvSpPr/>
          <p:nvPr/>
        </p:nvSpPr>
        <p:spPr>
          <a:xfrm>
            <a:off x="5108400" y="4392720"/>
            <a:ext cx="396432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負担軽減に向け、校務全般見直しおよび定時退庁の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組について検討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C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を活用し、ペーパレス化による業務の負担軽減に取り組み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業務の外部委託を検討することにより、教職員の負担軽減と業務の効率化に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0"/>
          <p:cNvSpPr/>
          <p:nvPr/>
        </p:nvSpPr>
        <p:spPr>
          <a:xfrm>
            <a:off x="9067680" y="4392720"/>
            <a:ext cx="374508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学校業務について、業務の適正化を図るよう関係団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体との協議を進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地域と一体となって学校業務・教育活動の支援・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援について検討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正方形/長方形 11"/>
          <p:cNvSpPr/>
          <p:nvPr/>
        </p:nvSpPr>
        <p:spPr>
          <a:xfrm>
            <a:off x="1079640" y="8058240"/>
            <a:ext cx="11737800" cy="1797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期間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令和３年度～令和５年度までの３カ年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令和３年度から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375680" y="8535960"/>
          <a:ext cx="5329080" cy="681120"/>
        </p:xfrm>
        <a:graphic>
          <a:graphicData uri="http://schemas.openxmlformats.org/drawingml/2006/table">
            <a:tbl>
              <a:tblPr/>
              <a:tblGrid>
                <a:gridCol w="1214280"/>
                <a:gridCol w="1371600"/>
                <a:gridCol w="1371600"/>
                <a:gridCol w="137160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３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(2021)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４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2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５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８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8" name="正方形/長方形 12"/>
          <p:cNvSpPr/>
          <p:nvPr/>
        </p:nvSpPr>
        <p:spPr>
          <a:xfrm>
            <a:off x="7089840" y="8105760"/>
            <a:ext cx="5614920" cy="438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段階的に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正方形/長方形 8"/>
          <p:cNvSpPr/>
          <p:nvPr/>
        </p:nvSpPr>
        <p:spPr>
          <a:xfrm>
            <a:off x="7089840" y="9194760"/>
            <a:ext cx="567828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0"/>
          <p:cNvSpPr/>
          <p:nvPr/>
        </p:nvSpPr>
        <p:spPr>
          <a:xfrm>
            <a:off x="1079640" y="4392720"/>
            <a:ext cx="402408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働き方改革プランの「教職員の負担軽減」の取組を確実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に実施し、教職員の健康を確保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管理職が教職員の勤務時間を把握し、メンタルケアの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実やライフ・ワークバランスを実現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管理職が、休暇取得促進について積極的に声掛けをし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教職員の心身の疲労を回復させる時間を確保し、良好な健康状態を維持できるよう、ストレスや悩みを管理職や同僚に相談しやすい職場を作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長谷川　和之</cp:lastModifiedBy>
  <cp:lastPrinted>2022-05-23T02:45:49Z</cp:lastPrinted>
  <dcterms:modified xsi:type="dcterms:W3CDTF">2022-05-23T02:45:55Z</dcterms:modified>
  <cp:revision>946</cp:revision>
  <dc:subject/>
  <dc:title>スライド 1</dc:title>
</cp:coreProperties>
</file>