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4120"/>
            <a:ext cx="505152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3859-D488-4B14-A864-33A8B9AC906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5943-76BC-4FC9-964A-37AB82109613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73000" y="744480"/>
            <a:ext cx="5051520" cy="37213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BB61-107F-4044-819F-27228FFD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A001-658B-4C07-86D4-A2D9E936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DCCF-5A18-4B1C-A705-3C5395FC1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9734-4048-48B8-A19C-E013D3988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BAA6-BC54-426C-8CA7-D089D826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6E65-2D9D-477D-AF21-89B7715B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A39B-538C-46EC-AEE7-DD9D65F9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DACC-C0E2-4FF3-935D-48EFFB5B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62DD-C224-421D-B09E-0DF6FD55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96F6-E84D-4062-8B87-E80E1EEC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512E-899D-4B07-89A3-47AC9329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FAFD-C45C-4C83-9B51-00FE86C1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0F65-BF79-49C3-BFEC-339CF672C618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３年度　杜陵高等学校本校 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熱意 誠意 創意 で明るく健康的な職場作り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2607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時間外在校等時間の１ヶ月の全体の平均を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内とする。また、年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を超える教職員をゼロ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 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職員の学校評価アンケートで「職員が自由に発言し、連携協力しながら課題解決に取り組み、活気が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 る。」「授業の内容や指導方法が工夫され、充実した信頼できるものである。」の回答が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点満点中３点以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 上の平均で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夏季休暇の取得→１００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　杜陵高等学校本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定時制の１・２部と３部、通信制が併存しており、多様な働き方とな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　また、若鷹寮の舎務があり、月数回の宿泊の業務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多様な生徒一人一人にきめ細やかな教育を行っているため、教職員の精神的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な負担感が大き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 令和２年度、時間外在校等時間の月平均８０時間を越えた教員は、本校で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年間０名であっ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３年５月　　日　杜陵高等学校長　髙橋 正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それぞれのライフワークバランスを意識して職務に取り組む一方で、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本校の果たすべき役割を自覚し、自らの責務を果た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の目配り、気配りの行き届いた教育によって、生徒個々の能力を引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出し、生徒が明るく学校生活を楽し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管理職が教職員の勤務状況を把握して、個に応じて適切に対応することで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良好な職場環境を築い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日常的にこまめな情報交換を行い、定例職員会議など、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会議の時間短縮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各教職員が、軽減・廃止できる職務について積極的に提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案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安全な校務や教材のデータの共有化を推進することに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 より、業務の効率化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分掌や年次の業務を教職員間で偏りがないよう配慮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し、常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DC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より検証しながら実行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W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、児童相談所、福祉施設など外部と連携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して生徒を指導する態勢を構築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舎務については、生徒の健康管理等責任は家庭に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 有することを確認の上、寮母さんと連携して寮生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快適に学校生活を送ることができるよう指導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令和３年度から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375680" y="8535960"/>
          <a:ext cx="5329080" cy="681120"/>
        </p:xfrm>
        <a:graphic>
          <a:graphicData uri="http://schemas.openxmlformats.org/drawingml/2006/table">
            <a:tbl>
              <a:tblPr/>
              <a:tblGrid>
                <a:gridCol w="1214280"/>
                <a:gridCol w="1371600"/>
                <a:gridCol w="1371600"/>
                <a:gridCol w="137160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2021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５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働き方改革プランの時間外在校等時間縮減の取組みを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確実に実施し、教職員の健康を確保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、健康診断の結果を把握した上で、配慮の必要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な場合は積極的に声掛けを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職員相互の理解と心遣いに基づいた風通しのよい職員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室文化を醸成し、メンタルヘルスを心掛け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菊池　治</cp:lastModifiedBy>
  <cp:lastPrinted>2021-06-04T03:51:11Z</cp:lastPrinted>
  <dcterms:modified xsi:type="dcterms:W3CDTF">2021-06-04T03:51:57Z</dcterms:modified>
  <cp:revision>964</cp:revision>
  <dc:subject/>
  <dc:title>スライド 1</dc:title>
</cp:coreProperties>
</file>