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739440"/>
            <a:ext cx="502128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D9F1-1AAA-420D-8E1C-4172E8FBD59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1636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BB41-0D08-4DA8-9A80-0FAA42E41736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57160" y="739800"/>
            <a:ext cx="502128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1F92-E737-46C0-92C0-342182E8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31B6-CE50-4121-AAA7-93812DBF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11BB-9EE5-46FB-9803-21F34E9B1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0A04-6031-4F0E-AD4F-571434E7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7846-1A68-479F-BC5F-3193E12D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C3BD-FF17-4D44-8A35-F523BB14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5515-D359-494C-9531-5800BFAF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665A-2238-4B7B-8D01-C0543227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337D-0232-4A69-BCDD-9BCAA25F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9C91-1D81-49EF-BE88-118E095C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C87F-5E58-483A-838F-F5AB26B9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2AFE-2AFC-41B0-A423-79ED2866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C52B-4EC5-4EFB-B3DF-37ABB559D6EE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bac1"/>
            </a:gs>
            <a:gs pos="100000">
              <a:srgbClr val="e9f4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大槌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00b0f0"/>
                </a:solidFill>
                <a:latin typeface="HGS創英角ｺﾞｼｯｸUB"/>
                <a:ea typeface="HGS創英角ｺﾞｼｯｸUB"/>
              </a:rPr>
              <a:t>～魅力化の第一歩は私たちの働き方から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118640" cy="12607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月平均で時間外勤務８０時間以上の勤務者をゼロに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学校評価アンケート・職員対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「教職員の適性・能力に応じた校務分掌がなされている」⇒肯定的評価７５％以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年次等休暇取得日数全員１０日以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905040" y="1101600"/>
            <a:ext cx="1191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大槌高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560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小規模校のため教諭の人数が少なく、講師の割合が高い。各分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の人数が減り、教員一人あたりの業務量が増え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高校魅力化をはじめ防災教育や復興関連業務が多い。地域と連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しながら進めていくため計画立案や調整業務が難しく負担が少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くない。　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部活動指導や地域連携事業等による時間外勤務が多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60428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５月２５日　大槌高等学校長　継枝　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教職員が個人の生活を大切にしながら、目標に向かいいきいき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業務に取り組む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全教職員がお互いを認め合い働きやすい職場環境づくりを目指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教職員と生徒が共に自己実現できる、明るい学校づくりを目指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会議の削減や時間短縮、業務の見直しによ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効率化を進め教員の負担軽減に努め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部活動の休みを原則土日休日に設定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また、振替の取得促進を進め、各顧問の負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軽減を図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教育目標やスクールポリシー等を示し、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業務の目的を明確に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校務を適正に分担し、過重な負担になら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ないように配慮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タイムカードによる客観的な勤務時間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把握し、残業時間の軽減に努め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375680" y="8535960"/>
          <a:ext cx="5329080" cy="681120"/>
        </p:xfrm>
        <a:graphic>
          <a:graphicData uri="http://schemas.openxmlformats.org/drawingml/2006/table">
            <a:tbl>
              <a:tblPr/>
              <a:tblGrid>
                <a:gridCol w="1214280"/>
                <a:gridCol w="2138400"/>
                <a:gridCol w="197640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年次休暇等の取得促進を図り、身体的、精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的な休養がとりやすい職場環境を構築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職場環境を整え、職員間の良好な関係維持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図るとともに、働きやすい雰囲気の醸成に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め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健康診断、人間ドック等の推奨を図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竿代　愛也</cp:lastModifiedBy>
  <cp:lastPrinted>2022-05-24T03:31:28Z</cp:lastPrinted>
  <dcterms:modified xsi:type="dcterms:W3CDTF">2022-05-24T23:55:29Z</dcterms:modified>
  <cp:revision>957</cp:revision>
  <dc:subject/>
  <dc:title>スライド 1</dc:title>
</cp:coreProperties>
</file>