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600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8600" y="739440"/>
            <a:ext cx="5018040" cy="369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6000" y="937080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64D76-9D52-49FB-872B-02CD8845A31E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16360" y="9371160"/>
            <a:ext cx="2917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3B498-A072-4140-97A2-74E13301EEE7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858960" y="739800"/>
            <a:ext cx="5018040" cy="369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8693-4DAC-4E2F-98E4-8EB0590A5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0B39-487D-4586-BB71-FDB1B47A4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D77E-08BE-4C1A-B91B-C367886C2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4194-9014-45B8-AF7F-8694C4DAC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0037-1721-4A08-978F-8ECB2EF06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8392-F2BB-40D6-A6FA-9FEBF595A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BA6D-BC11-45C8-A1D8-76A3C3093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79A8-4927-4EF2-B5A0-650819C21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4D06-2DAF-4FE1-BDD5-33DB4E81D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D662-F76E-4133-923A-EECF3A88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4099-7556-4240-B9DC-8251BCCA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CA47-3708-439E-8FAD-05EB4995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731D1-87A1-4BFB-9358-D32446CB028A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ホームベース 4"/>
          <p:cNvSpPr/>
          <p:nvPr/>
        </p:nvSpPr>
        <p:spPr>
          <a:xfrm rot="16200000">
            <a:off x="6547680" y="-2228400"/>
            <a:ext cx="792360" cy="11728440"/>
          </a:xfrm>
          <a:custGeom>
            <a:avLst/>
            <a:gdLst>
              <a:gd name="textAreaLeft" fmla="*/ 0 w 792360"/>
              <a:gd name="textAreaRight" fmla="*/ 792720 w 792360"/>
              <a:gd name="textAreaTop" fmla="*/ 0 h 11728440"/>
              <a:gd name="textAreaBottom" fmla="*/ 11728800 h 117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654" y="0"/>
                </a:lnTo>
                <a:lnTo>
                  <a:pt x="21600" y="10800"/>
                </a:lnTo>
                <a:lnTo>
                  <a:pt x="116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>
              <a:alpha val="32000"/>
            </a:srgbClr>
          </a:solidFill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４年度　一戸高等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</a:t>
            </a:r>
            <a:r>
              <a:rPr b="0" i="1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笑顔あふれる職場づくり　</a:t>
            </a: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90440" y="6665760"/>
            <a:ext cx="7118640" cy="11113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時間外勤務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8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間以上に該当する教職員　→　６％（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R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３県高校平均　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9.9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％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月に４回以上定時退勤を行う教職員　→　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１ヶ月の一人平均時間外勤務　→　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間以内（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R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３県高校平均月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間以上　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38.7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％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0"/>
          <p:cNvSpPr/>
          <p:nvPr/>
        </p:nvSpPr>
        <p:spPr>
          <a:xfrm>
            <a:off x="1079640" y="6259680"/>
            <a:ext cx="7129440" cy="40608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４　目　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457280"/>
            <a:ext cx="5545080" cy="3380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1079640" y="3664080"/>
            <a:ext cx="11728440" cy="379440"/>
          </a:xfrm>
          <a:prstGeom prst="rect">
            <a:avLst/>
          </a:prstGeom>
          <a:solidFill>
            <a:srgbClr val="00b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テキスト ボックス 2"/>
          <p:cNvSpPr/>
          <p:nvPr/>
        </p:nvSpPr>
        <p:spPr>
          <a:xfrm>
            <a:off x="773280" y="1093680"/>
            <a:ext cx="1224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一戸高等学校では、「岩手県教職員働き方改革プラン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0"/>
          <p:cNvSpPr/>
          <p:nvPr/>
        </p:nvSpPr>
        <p:spPr>
          <a:xfrm>
            <a:off x="1079640" y="1806480"/>
            <a:ext cx="5545080" cy="16574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年度、時間外勤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以上の教職員が延べ４名（全体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4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一部の担当職員に業務が集中する傾向があ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部活動指導が時間外勤務時間増加の一因となっ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残務処理のため休日仕事をしている。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1079640" y="4032360"/>
            <a:ext cx="402408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5108400" y="4032360"/>
            <a:ext cx="399744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における業務改善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正方形/長方形 2"/>
          <p:cNvSpPr/>
          <p:nvPr/>
        </p:nvSpPr>
        <p:spPr>
          <a:xfrm>
            <a:off x="8064360" y="7604280"/>
            <a:ext cx="4953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４年６月１日　一戸高等学校長　上野　光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7272360" y="1432080"/>
            <a:ext cx="5535720" cy="3632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２　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0"/>
          <p:cNvSpPr/>
          <p:nvPr/>
        </p:nvSpPr>
        <p:spPr>
          <a:xfrm>
            <a:off x="7272360" y="1795320"/>
            <a:ext cx="5535720" cy="16671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がそれぞれの専門性や積み重ねた経験を発揮、子どもたちと向き合い、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健康でやりがいを感じながら業務に取り組んで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が、生徒の学習指導、進路指導、生徒指導など教育活動に専念でき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時間を十分に確保でき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管理職が日頃から、負担軽減が可能な業務について見直す姿勢を示し、勤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環境整備を進め、全職員で業務改善に取り組んで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個人の時間や家族との生活が充実し、職務にも精励でき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右矢印 1"/>
          <p:cNvSpPr/>
          <p:nvPr/>
        </p:nvSpPr>
        <p:spPr>
          <a:xfrm>
            <a:off x="6640560" y="1519200"/>
            <a:ext cx="676080" cy="1908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f2f2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0"/>
          <p:cNvSpPr/>
          <p:nvPr/>
        </p:nvSpPr>
        <p:spPr>
          <a:xfrm>
            <a:off x="9072720" y="4032360"/>
            <a:ext cx="3735360" cy="37944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及び教員が担う業務の明確化・適正化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0"/>
          <p:cNvSpPr/>
          <p:nvPr/>
        </p:nvSpPr>
        <p:spPr>
          <a:xfrm>
            <a:off x="5108400" y="4392720"/>
            <a:ext cx="396432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効率的な業務遂行を念頭に、学校行事等の見直しに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いて検討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定例職員会議における資料を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化し、事前配付する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とともに、会議をペーパーレスで実施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朝会におい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s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を利用することにより、時間短縮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図るとともに、連絡を効率的に行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0"/>
          <p:cNvSpPr/>
          <p:nvPr/>
        </p:nvSpPr>
        <p:spPr>
          <a:xfrm>
            <a:off x="9067680" y="4392720"/>
            <a:ext cx="374508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TA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活動における案内、集計について、メールやア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ケートシステムを活用し、効率化を進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コミュニティ・スクールの導入に向けて取り組み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働き方改革に向けた取組を保護者に理解してもらう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ように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正方形/長方形 11"/>
          <p:cNvSpPr/>
          <p:nvPr/>
        </p:nvSpPr>
        <p:spPr>
          <a:xfrm>
            <a:off x="1079640" y="8058240"/>
            <a:ext cx="11737800" cy="17971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1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3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期間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令和３年度～令和５年度までの３カ年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7711920" y="8510760"/>
          <a:ext cx="4434120" cy="684000"/>
        </p:xfrm>
        <a:graphic>
          <a:graphicData uri="http://schemas.openxmlformats.org/drawingml/2006/table">
            <a:tbl>
              <a:tblPr/>
              <a:tblGrid>
                <a:gridCol w="960480"/>
                <a:gridCol w="1808280"/>
                <a:gridCol w="166536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４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2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５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3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８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8" name="正方形/長方形 12"/>
          <p:cNvSpPr/>
          <p:nvPr/>
        </p:nvSpPr>
        <p:spPr>
          <a:xfrm>
            <a:off x="7089840" y="8105760"/>
            <a:ext cx="5614920" cy="438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段階的に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正方形/長方形 8"/>
          <p:cNvSpPr/>
          <p:nvPr/>
        </p:nvSpPr>
        <p:spPr>
          <a:xfrm>
            <a:off x="7089840" y="9194760"/>
            <a:ext cx="567828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令和５年度において、アンケート調査に基づく肯定的実感が令和３年度の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0"/>
          <p:cNvSpPr/>
          <p:nvPr/>
        </p:nvSpPr>
        <p:spPr>
          <a:xfrm>
            <a:off x="1079640" y="4392720"/>
            <a:ext cx="402408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長期休業期間の学校閉庁日の設定を確実に実施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年次休暇の積極的な取得により、休養、リフレッシュ、健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康維持を意識した働き方を推進します。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新田　剛史</cp:lastModifiedBy>
  <cp:lastPrinted>2022-06-15T05:44:43Z</cp:lastPrinted>
  <dcterms:modified xsi:type="dcterms:W3CDTF">2022-06-15T05:45:27Z</dcterms:modified>
  <cp:revision>943</cp:revision>
  <dc:subject/>
  <dc:title>スライド 1</dc:title>
</cp:coreProperties>
</file>