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2680"/>
            <a:ext cx="5051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336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2919-E6C2-4DB3-BCB8-F2E68B9017E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4CCA-B125-4534-B458-D9B5370FAD99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73000" y="743040"/>
            <a:ext cx="5051520" cy="372276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9808-A753-4925-8E9B-51632178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65B9-4320-41EA-89F3-562B23E8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2A94-56DF-4593-9D6D-83EE604B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DB70-B90F-4DF8-8014-44162395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BFF4-D67D-42B0-B35C-7B6BF29A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6AD2-60D6-429F-9D83-FE4F8138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BDC5-35FD-4C86-81F4-807F1A5F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7EEC-3E02-4D07-A917-58DAB269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A2EB-DC7B-4024-A913-C7CE753B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658F-15D6-456E-B5EC-0E153F30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7261-3734-45E8-818F-CF2E3896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9275-CF9D-4B89-9EDB-420EC164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6D25-FCE6-46D8-A390-8E7723BD2ABC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盛岡聴覚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「チーム盛聴」：目配り、気配り、細やかな連携で着実な推進 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63760"/>
            <a:ext cx="5473440" cy="3315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22400" y="5046840"/>
            <a:ext cx="11783880" cy="41400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1257480" y="110016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盛岡聴覚支援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473440" cy="3079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目標達成状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外在校等時間が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の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：０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０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０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次休暇の取得状況について（年間一人当たりの平均取得日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.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.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.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教職員の意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盛聴フライデー等の取り組みにより定時退庁の意識が高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時間外勤務している教職員が固定し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管理職のマネジメ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職員全体で意欲的に聴覚支援教育に取り組む姿勢を大切にし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やりがいのある職場環境の実現に取り組んで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2"/>
          <p:cNvSpPr/>
          <p:nvPr/>
        </p:nvSpPr>
        <p:spPr>
          <a:xfrm>
            <a:off x="9001080" y="9524880"/>
            <a:ext cx="49528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５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日　盛岡聴覚支援学校長　森山　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91360" y="1440000"/>
            <a:ext cx="5626080" cy="37296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"/>
          <p:cNvSpPr/>
          <p:nvPr/>
        </p:nvSpPr>
        <p:spPr>
          <a:xfrm>
            <a:off x="6576840" y="2263680"/>
            <a:ext cx="614520" cy="1650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13680" y="2165400"/>
            <a:ext cx="5603760" cy="1239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学校独自の目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教職員一人当たりの月の平均時間外在校等時間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時間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 以下とすることを目指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月に１回以上の年次休暇の取得及び年間に１日単位で５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 以上の取得を目指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15120" y="3433680"/>
            <a:ext cx="5591160" cy="1513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こどもたちへの質の高い教育を持続的に提供し得る観点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  ら働き方の見直しが図られ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一人一人が、やりがいを感じながら業務に取り組んで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が、家庭のための時間や自由時間を確保でき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1011240" y="8474040"/>
            <a:ext cx="1180620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1022400" y="8861400"/>
            <a:ext cx="1179504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　プランを学校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掲載し、会議等を通じて教職員にも周知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　学校運営協議会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通じて、地域・保護者に対してプランの内容の説明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22400" y="5448240"/>
          <a:ext cx="11795040" cy="2925720"/>
        </p:xfrm>
        <a:graphic>
          <a:graphicData uri="http://schemas.openxmlformats.org/drawingml/2006/table">
            <a:tbl>
              <a:tblPr/>
              <a:tblGrid>
                <a:gridCol w="815760"/>
                <a:gridCol w="2016360"/>
                <a:gridCol w="8962920"/>
              </a:tblGrid>
              <a:tr h="91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教職員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健康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管理職が、健康管理や必要な通院について積極的に呼びかけを行い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月の時間外在校等時間が月の中間で２０時間超となった教職員に声掛けし、健康確保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　観点から、業務分担の見直しや取り組みについてアドバイスを行い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２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学校におけ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改善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行事等について、教育において真に必要な観点から業務の見直しを進め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保護者へのお知らせについて、メールやブログ等の活用を推進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３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の明確化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適正化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働き方改革の取組について、保護者や地域の方に理解いただけるよう周知を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業務分担の明確化、適正化が図られるよう「チーム盛聴」として全体で推進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令和６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重点取組事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令和６年度から新たに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0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分以内の会議の実施（職員会議は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5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分）」に取り組み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2" name="テキスト ボックス 2"/>
          <p:cNvSpPr/>
          <p:nvPr/>
        </p:nvSpPr>
        <p:spPr>
          <a:xfrm>
            <a:off x="7191360" y="1819440"/>
            <a:ext cx="57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県の働き方改革プランの目標を前提に、以下の目標を設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佐藤　修子</cp:lastModifiedBy>
  <cp:lastPrinted>2024-04-25T07:03:35Z</cp:lastPrinted>
  <dcterms:modified xsi:type="dcterms:W3CDTF">2024-05-15T23:56:02Z</dcterms:modified>
  <cp:revision>990</cp:revision>
  <dc:subject/>
  <dc:title>スライド 1</dc:title>
</cp:coreProperties>
</file>