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739440"/>
            <a:ext cx="502128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455f51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728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728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E04A-FDD6-4E4E-B3C3-E80CEB83641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16360" y="937728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73F8-5F00-4249-8D54-CCFCCB88EEA5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57160" y="739800"/>
            <a:ext cx="5021280" cy="370188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556C-8DC1-46BE-A119-C68FE363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15F5-C679-4914-B44A-7E0687AA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F537-7132-4A58-A3D3-ADA3BF6D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2877-4A4E-4A1E-807C-A25C6891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8519-8069-4CFE-A301-C48D7D6E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0397-0483-4A5E-A7DF-52175D16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7623-43DC-4019-A988-A2C31737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BCF9-4C03-4624-9B69-05A271A3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5D09-D457-475F-B204-694F6A4A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F637-9EFF-4041-87A8-091F3104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E300-55AE-4CD8-8631-772C6305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1973-84EA-4289-9F08-D9A9AAC1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455f51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0C49-3DD5-4147-BDA7-6B309D156A92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グループ化 2" descr=""/>
          <p:cNvPicPr/>
          <p:nvPr/>
        </p:nvPicPr>
        <p:blipFill>
          <a:blip r:embed="rId1"/>
          <a:stretch/>
        </p:blipFill>
        <p:spPr>
          <a:xfrm>
            <a:off x="743040" y="8339040"/>
            <a:ext cx="12260160" cy="1206720"/>
          </a:xfrm>
          <a:prstGeom prst="rect">
            <a:avLst/>
          </a:prstGeom>
          <a:ln w="0">
            <a:noFill/>
          </a:ln>
        </p:spPr>
      </p:pic>
      <p:sp>
        <p:nvSpPr>
          <p:cNvPr id="50" name="テキスト ボックス 2"/>
          <p:cNvSpPr/>
          <p:nvPr/>
        </p:nvSpPr>
        <p:spPr>
          <a:xfrm>
            <a:off x="539640" y="1176480"/>
            <a:ext cx="126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前沢明峰支援学校では「岩手県教職員働き方改革プラン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グループ化 4"/>
          <p:cNvGrpSpPr/>
          <p:nvPr/>
        </p:nvGrpSpPr>
        <p:grpSpPr>
          <a:xfrm>
            <a:off x="838080" y="1565280"/>
            <a:ext cx="12088800" cy="2827440"/>
            <a:chOff x="838080" y="1565280"/>
            <a:chExt cx="12088800" cy="2827440"/>
          </a:xfrm>
        </p:grpSpPr>
        <p:sp>
          <p:nvSpPr>
            <p:cNvPr id="52" name="Rectangle 70"/>
            <p:cNvSpPr/>
            <p:nvPr/>
          </p:nvSpPr>
          <p:spPr>
            <a:xfrm>
              <a:off x="838080" y="1565280"/>
              <a:ext cx="6292800" cy="387360"/>
            </a:xfrm>
            <a:prstGeom prst="rect">
              <a:avLst/>
            </a:prstGeom>
            <a:solidFill>
              <a:srgbClr val="08a5ef"/>
            </a:solidFill>
            <a:ln w="9360">
              <a:solidFill>
                <a:srgbClr val="dff1d3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840" rIns="96840" tIns="48600" bIns="48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HGS創英角ｺﾞｼｯｸUB"/>
                  <a:ea typeface="HGS創英角ｺﾞｼｯｸUB"/>
                </a:rPr>
                <a:t>１　現　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0"/>
            <p:cNvSpPr/>
            <p:nvPr/>
          </p:nvSpPr>
          <p:spPr>
            <a:xfrm>
              <a:off x="840960" y="1931760"/>
              <a:ext cx="6292800" cy="2460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ff1d3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840" rIns="96840" tIns="48600" bIns="48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【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定量的現状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・４月の超過勤務が平均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時間以上の教職員の割合の推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　　　　　　　　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13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％（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R4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）→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22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％（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R5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）</a:t>
              </a:r>
              <a:r>
                <a:rPr b="1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→</a:t>
              </a:r>
              <a:r>
                <a:rPr b="1" lang="ja-JP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５％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（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R6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・１月当たりの超過勤務が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時間以上の教職員の割合の推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　　　　　　　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7.8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％（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R4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）</a:t>
              </a:r>
              <a:r>
                <a:rPr b="1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→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6.5</a:t>
              </a:r>
              <a:r>
                <a:rPr b="1" lang="ja-JP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％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（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R5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【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定性的現状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・教職員アンケート「私は多忙化の解消や健康管理の取り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　みをしている」に「そう思う」と回答した職員の割合の推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　　　　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　　　　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17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％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(R3)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→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20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％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(R4)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→</a:t>
              </a:r>
              <a:r>
                <a:rPr b="1" lang="ja-JP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２５％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(R5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0"/>
            <p:cNvSpPr/>
            <p:nvPr/>
          </p:nvSpPr>
          <p:spPr>
            <a:xfrm>
              <a:off x="7561080" y="1568160"/>
              <a:ext cx="5365800" cy="363240"/>
            </a:xfrm>
            <a:prstGeom prst="rect">
              <a:avLst/>
            </a:prstGeom>
            <a:solidFill>
              <a:srgbClr val="08a5ef"/>
            </a:solidFill>
            <a:ln w="9360">
              <a:solidFill>
                <a:srgbClr val="dff1d3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840" rIns="96840" tIns="48600" bIns="48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HGS創英角ｺﾞｼｯｸUB"/>
                  <a:ea typeface="HGS創英角ｺﾞｼｯｸUB"/>
                </a:rPr>
                <a:t>２　目標・目指す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0"/>
            <p:cNvSpPr/>
            <p:nvPr/>
          </p:nvSpPr>
          <p:spPr>
            <a:xfrm>
              <a:off x="7561080" y="1931760"/>
              <a:ext cx="5365800" cy="2460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ff1d3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840" rIns="96840" tIns="48600" bIns="48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【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学校独自の目標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・１月当たりの超過勤務が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時間以上の教職員の割合を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６％以下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に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　する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【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目指す姿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】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・教職員が、児童生徒の指導について考え、授業の準備を行う時間を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　十分に確保できている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・管理職が日頃から教職員とコミュニケーションをとり、健康や業務に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　ついて相談できるよう気を配っている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・日々の業務で「おかげさま、お互いさま、ありがとう」の心でお互いを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　気遣う明峰のお手伝い文化を促進する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右矢印 1"/>
            <p:cNvSpPr/>
            <p:nvPr/>
          </p:nvSpPr>
          <p:spPr>
            <a:xfrm>
              <a:off x="7172280" y="2401920"/>
              <a:ext cx="360360" cy="1233360"/>
            </a:xfrm>
            <a:prstGeom prst="rightArrow">
              <a:avLst>
                <a:gd name="adj1" fmla="val 67139"/>
                <a:gd name="adj2" fmla="val 50000"/>
              </a:avLst>
            </a:prstGeom>
            <a:solidFill>
              <a:srgbClr val="97dbfb"/>
            </a:solidFill>
            <a:ln w="19080">
              <a:solidFill>
                <a:srgbClr val="066e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23"/>
          <p:cNvSpPr/>
          <p:nvPr/>
        </p:nvSpPr>
        <p:spPr>
          <a:xfrm>
            <a:off x="811080" y="47520"/>
            <a:ext cx="12098520" cy="962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前沢明峰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1600" spc="-1" strike="noStrike">
                <a:solidFill>
                  <a:srgbClr val="454027"/>
                </a:solidFill>
                <a:latin typeface="HGS創英角ｺﾞｼｯｸUB"/>
                <a:ea typeface="HGS創英角ｺﾞｼｯｸUB"/>
              </a:rPr>
              <a:t>～快適な職場環境の整備「こまめに働き、こまめに経費・時間を節約し、こまめに気遣い、こまめにリフレッシュ」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2"/>
          <p:cNvSpPr/>
          <p:nvPr/>
        </p:nvSpPr>
        <p:spPr>
          <a:xfrm>
            <a:off x="8723160" y="9534600"/>
            <a:ext cx="42102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令和６年５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日　前沢明峰支援学校長　田淵　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吹き出し: 角を丸めた四角形 2"/>
          <p:cNvSpPr/>
          <p:nvPr/>
        </p:nvSpPr>
        <p:spPr>
          <a:xfrm>
            <a:off x="5616720" y="2014560"/>
            <a:ext cx="1441440" cy="876240"/>
          </a:xfrm>
          <a:prstGeom prst="wedgeRoundRectCallout">
            <a:avLst>
              <a:gd name="adj1" fmla="val -56379"/>
              <a:gd name="adj2" fmla="val 6102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施錠時間の呼びかけにより、終業時間が意識されてき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吹き出し: 角を丸めた四角形 5"/>
          <p:cNvSpPr/>
          <p:nvPr/>
        </p:nvSpPr>
        <p:spPr>
          <a:xfrm>
            <a:off x="5616720" y="3133800"/>
            <a:ext cx="1441440" cy="1085760"/>
          </a:xfrm>
          <a:prstGeom prst="wedgeRoundRectCallout">
            <a:avLst>
              <a:gd name="adj1" fmla="val -56851"/>
              <a:gd name="adj2" fmla="val 5772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４分の１教職員が多忙化解消・健康管理に取り組んでいることが示されま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809640" y="4521240"/>
            <a:ext cx="12107880" cy="409680"/>
          </a:xfrm>
          <a:prstGeom prst="rect">
            <a:avLst/>
          </a:prstGeom>
          <a:solidFill>
            <a:srgbClr val="31937b"/>
          </a:solidFill>
          <a:ln w="9360">
            <a:solidFill>
              <a:srgbClr val="dff1d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（２を推進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5200" y="4929120"/>
          <a:ext cx="12080880" cy="3359160"/>
        </p:xfrm>
        <a:graphic>
          <a:graphicData uri="http://schemas.openxmlformats.org/drawingml/2006/table">
            <a:tbl>
              <a:tblPr/>
              <a:tblGrid>
                <a:gridCol w="604800"/>
                <a:gridCol w="1512720"/>
                <a:gridCol w="9963360"/>
              </a:tblGrid>
              <a:tr h="824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１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教職員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健康管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学校医（産業医）のアドバイスをいただきながら、全職員の健康維持に関する助言を共有し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管理職が、定時退庁に向け積極的に取り組み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2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２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校におけ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業務改善の推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ワークシェアリングを実施することにより、業務の効率化を進め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ペーパーレス化を更に進め、書類等の整理や処理をこまめに行い、効率的な職場の環境を作り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「前例」を見直す意識をもち、計画的に業務を進め合理化や改善を図り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4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３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業務の明確化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適正化の推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会議の時間をあらかじめ設定します。資料の事前配布、議題の精選に努め、会議の効率化を図り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業務内容に優先順位をつけ、時間内で無理なく進めるように し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8840"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令和６年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点取組事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月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回茶論（サロン）デイを開催し、教職員の円滑なコミュニケーションを促進し活気ある職場環境をつくり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月に２回の定時退庁日（ノー残業デー）を設け、ワークライフバランスに配慮した職場環境の実現を進め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菅原　裕子</cp:lastModifiedBy>
  <cp:lastPrinted>2024-05-13T05:26:55Z</cp:lastPrinted>
  <dcterms:modified xsi:type="dcterms:W3CDTF">2024-05-14T09:24:07Z</dcterms:modified>
  <cp:revision>1012</cp:revision>
  <dc:subject/>
  <dc:title>スライド 1</dc:title>
</cp:coreProperties>
</file>