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729-FC69-4AF1-A961-87C029ADD3F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2B8-8D32-483D-80C4-651B7FFB076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7C9-33BD-44D3-B233-D278D026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D5A-7647-4E6F-9528-3E22BBB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929-054C-4105-8CC6-E8C2D40B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284-F35C-4543-9D38-AC643E08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6D0-FC6F-4C43-85E6-4ECC7806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23B-8BEE-4DF9-A6CE-A8D2BB2F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CA4-8547-4115-9A2F-8CAC71A1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EDB-9101-42D2-B4EC-95834C1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346-DF0C-42FA-B4D3-3B404FD5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CA9-35A5-41BA-A0C4-69165F9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35E-8A4C-49F3-8A0C-5574204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4A1-5B38-44DB-9F43-A2E5C81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18DD-BA29-481B-8DB5-604FEB5BF66E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花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やりがいと希望のもてる職場づくり 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教職員数が少ないため、一人あたりの担当業務の種類が多くなり、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多忙感につな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からの改善提言等に対して、できることから業務の軽減や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善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928000" y="9540720"/>
            <a:ext cx="4953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花泉高等学校長　橋本　ゆか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が前年度実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より減少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計画的取得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生徒への質の高い教育を持続的に提供し得る観点から働き方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　見直しが図られて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教職員一人一人が、やりがいを感じながら業務に取り組んで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共有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通信等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多忙化解消・健康管理・メンタル相談について積極的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時間外在校時間が１日２時間以内とすることを心がけるよう教職員に周知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各種業務について、一人に負担がかからないよう業務の見直し・軽減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会議等について、紙資料配付の廃止や、時間の短縮など更なる効率化を図り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お知ら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休養日の徹底とともに、より効率的・効果的な部活動の実施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月の中間時点での時間外在校等時間について、教職員個々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伝達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総司</cp:lastModifiedBy>
  <cp:lastPrinted>2024-05-15T01:44:56Z</cp:lastPrinted>
  <dcterms:modified xsi:type="dcterms:W3CDTF">2024-05-15T01:44:57Z</dcterms:modified>
  <cp:revision>987</cp:revision>
  <dc:subject/>
  <dc:title>スライド 1</dc:title>
</cp:coreProperties>
</file>