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1600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move the slide</a:t>
            </a:r>
            <a:endParaRPr b="0" lang="en-US" sz="6400" spc="-1" strike="noStrike">
              <a:solidFill>
                <a:srgbClr val="0d0d0d"/>
              </a:solidFill>
              <a:latin typeface="Tw Cen MT Condensed"/>
            </a:endParaRPr>
          </a:p>
        </p:txBody>
      </p:sp>
      <p:sp>
        <p:nvSpPr>
          <p:cNvPr id="259"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260" name="PlaceHolder 5"/>
          <p:cNvSpPr>
            <a:spLocks noGrp="1"/>
          </p:cNvSpPr>
          <p:nvPr>
            <p:ph type="ftr" idx="20"/>
          </p:nvPr>
        </p:nvSpPr>
        <p:spPr>
          <a:xfrm>
            <a:off x="-360" y="9370800"/>
            <a:ext cx="2917800" cy="49356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16000" y="9370800"/>
            <a:ext cx="2917800" cy="49356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6D0DB-E5E6-4BE3-8FE7-961695AA4376}" type="slidenum">
              <a:rPr b="0" lang="en-US" sz="1100" spc="-1" strike="noStrike">
                <a:solidFill>
                  <a:srgbClr val="000000"/>
                </a:solidFill>
                <a:latin typeface="Calibri"/>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44AA0-54BD-4939-B368-D80A3B15E62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Tw Cen MT"/>
            </a:endParaRPr>
          </a:p>
        </p:txBody>
      </p:sp>
      <p:sp>
        <p:nvSpPr>
          <p:cNvPr id="292" name="PlaceHolder 1"/>
          <p:cNvSpPr>
            <a:spLocks noGrp="1"/>
          </p:cNvSpPr>
          <p:nvPr>
            <p:ph type="sldImg"/>
          </p:nvPr>
        </p:nvSpPr>
        <p:spPr>
          <a:xfrm>
            <a:off x="858960" y="739800"/>
            <a:ext cx="5018040" cy="3699000"/>
          </a:xfrm>
          <a:prstGeom prst="rect">
            <a:avLst/>
          </a:prstGeom>
          <a:ln w="0">
            <a:noFill/>
          </a:ln>
        </p:spPr>
      </p:sp>
      <p:sp>
        <p:nvSpPr>
          <p:cNvPr id="2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BAAD-29A2-4E65-AB13-FD6466E9C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8"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9"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82BB-878A-4676-832A-BA830D366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1"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3"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4"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968B-11CE-4D2A-98C1-147F85D54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6"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7"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8"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9"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0"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1"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5C3C4-8657-4843-AB4F-1CFE0A474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6BBDA-18A8-4AA6-939C-7DD9F449D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1"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21FBD-529A-4463-AB4D-4D664C76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3"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E832-17D5-45E5-931C-E61498B11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5"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A3672-AF0C-4BD9-B975-D0A3A0D8F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98DC2-A8D6-4CDF-B9A1-FEDDE1537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78682-D2A8-42F6-9FF8-F644D1566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C5216-66AE-4915-A93D-AFD9501D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285F-8FAA-44C2-9B0D-24BCF11FD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6"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19B29-050B-4224-8155-CB07E04E2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8"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0"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C0900-4AA0-4A14-A463-F805D29D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2"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3"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F655E-32B8-4744-8A4E-F6FC268DB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8"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0DA9A-75EC-447B-853A-1DBC225CD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80"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1"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2"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3"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4"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5"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EEC31-E10F-47FC-A4DD-96519BA70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BF16B-BF5D-454D-8B52-13354ED9D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5"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0DE01-89C9-4465-9452-B80F6DD01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7"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11F4AD-A5B8-4E8D-8A3B-703E474B3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991D7F-6540-4486-87ED-702DC0EDC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BD02B-A771-4A26-9DA4-FDE3E34AB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EF95-D042-4A11-9C8F-B596A42C0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CED5F-370A-42C7-BF55-C805184AB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292F0-5907-4199-BD06-61AEC1077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8"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49E11-FD42-4CDF-93A8-61F7353CC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4"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DB0A3-3D5F-49CF-9321-2C61D8B5D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6"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7"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42F83-D175-4929-86CC-EAE1F4D2C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2"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37B04-8DD6-4B2D-9947-84807828E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24"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6"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7"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8"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9"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C987E-64CF-4430-86FF-90E88835E5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18183B-E099-40C1-B9DC-33C4BE7B0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6"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1B32E-767A-4376-B39C-E9C898DF2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8"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8212D-80F8-46DD-97A2-8C32E2442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D86D0-B6FF-4915-A2F3-40A28885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91DD7-40F6-4A3E-AE41-00FE861A3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49ECD-CF68-4860-94A9-467289B18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48D24-310F-4157-8BCA-9183269DB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1F325-E62A-4298-8753-C50D4BCBA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1"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7FD99-5FE1-48BB-86A1-457B92C72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3"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5"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BD0DD-F1CD-4B8D-8607-2B172DDFE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7"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8"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7C0955-7188-4D86-A067-A558BD5A4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3"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4ADBB9-3218-45B4-8226-6002ED20A3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5"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7"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8"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9"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0"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998D98-7AFA-4B04-A9F7-C975E37C64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81016A-9744-45E8-8A4D-D586DADA27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8519E-8238-4DA4-871A-2148037D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78"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5965F-D27B-4683-8A94-05C529313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0"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2386D1-B703-4D92-A4F6-B639B8FAE3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2"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3"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841A1-5181-4C66-B615-6177E9689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616C54-B4F6-465A-A0ED-B17BFC97C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FF037-9804-47CA-A682-F7727D664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8"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9"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C650D-A388-4E3D-A59C-B6DAB8C5A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F27F6-6AE9-48DD-A08A-D8696A215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7"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2ABDF-2852-428D-B16D-5DFDDE9D3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9"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0"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1DAD0-06F0-4E1E-81C9-7A653F175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4"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02894D-FC28-4EE8-8ED7-D7BF6B9E19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BBF3-9B5E-4E9D-909B-A4D83AAEE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7"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9"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0"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1"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2"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A97DB0-4ADE-4914-A4AF-103F192D3B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B1DC5-033A-4FEC-81E0-ABCD085A7D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0"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3ECBB-07A1-46DE-895E-DF12E88E6B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2"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4DDF1-79B0-44C0-A9EF-634C5F495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7B2AD-88E7-4DED-A00B-469B92E64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00B9C-E5B1-454F-AC8B-0E0A5220C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32E8D-F72F-4D00-A639-B5B051982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3C9D3-39D1-4103-A250-AA5B74543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3"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5"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D189A-94DF-4F33-9EF3-432441804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8"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9"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20BE6-546E-4F93-9C3A-88438906C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DB36-F92C-4984-A1B9-BB76973C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1"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2"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DAC00-A55B-475C-8516-681A55D38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7"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03837E-4A29-4967-850B-882DFEA76F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9"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0"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1"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2"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3"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4"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00CF7E-87EC-4D55-B2EC-B63CFE36BB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C0BD-8D48-499C-A68D-BAEB8DD69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6"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D834-1A55-4782-BF9E-56075641F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4AA58-4BE5-418D-855D-5257357ACC0C}"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
        <p:nvSpPr>
          <p:cNvPr id="5" name="Straight Connector 6"/>
          <p:cNvSpPr/>
          <p:nvPr/>
        </p:nvSpPr>
        <p:spPr>
          <a:xfrm flipV="1">
            <a:off x="855720" y="12139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13681080" cy="671976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46"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 name="PlaceHolder 3"/>
          <p:cNvSpPr>
            <a:spLocks noGrp="1"/>
          </p:cNvSpPr>
          <p:nvPr>
            <p:ph type="dt" idx="4"/>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87B4A-9E99-446E-AA97-EA45974D49D5}"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3681080" cy="671976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90"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1" name="PlaceHolder 3"/>
          <p:cNvSpPr>
            <a:spLocks noGrp="1"/>
          </p:cNvSpPr>
          <p:nvPr>
            <p:ph type="dt" idx="7"/>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37500-19E8-4D61-8F7A-7FFCA14263A1}"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3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2" name="PlaceHolder 3"/>
          <p:cNvSpPr>
            <a:spLocks noGrp="1"/>
          </p:cNvSpPr>
          <p:nvPr>
            <p:ph type="dt" idx="10"/>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801BB-FB33-421A-BAA0-80F90A6E3873}"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9410760" y="77371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73"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4" name="PlaceHolder 3"/>
          <p:cNvSpPr>
            <a:spLocks noGrp="1"/>
          </p:cNvSpPr>
          <p:nvPr>
            <p:ph type="dt" idx="13"/>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FB1E8-853E-41F2-A6C7-C2EC79C61F28}"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10774440" y="758880"/>
            <a:ext cx="102528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215"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6" name="PlaceHolder 3"/>
          <p:cNvSpPr>
            <a:spLocks noGrp="1"/>
          </p:cNvSpPr>
          <p:nvPr>
            <p:ph type="dt" idx="16"/>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1E7C0-A7F5-46F6-9E61-E9D625A39237}"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3"/>
          <p:cNvSpPr/>
          <p:nvPr/>
        </p:nvSpPr>
        <p:spPr>
          <a:xfrm>
            <a:off x="1187280" y="216000"/>
            <a:ext cx="11449080" cy="804600"/>
          </a:xfrm>
          <a:prstGeom prst="rect">
            <a:avLst/>
          </a:prstGeom>
          <a:solidFill>
            <a:srgbClr val="ffffff"/>
          </a:solidFill>
          <a:ln w="57240">
            <a:solidFill>
              <a:srgbClr val="1482ac"/>
            </a:solidFill>
            <a:miter/>
          </a:ln>
          <a:effectLst>
            <a:outerShdw dist="38160" dir="16200000" blurRad="0" rotWithShape="0">
              <a:srgbClr val="000000">
                <a:alpha val="40000"/>
              </a:srgbClr>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メイリオ"/>
                <a:ea typeface="メイリオ"/>
              </a:rPr>
              <a:t>令和６年度　一関第一高等学校・附属中学校 教職員働き方改革アクションプラン</a:t>
            </a:r>
            <a:endParaRPr b="0" lang="en-US" sz="2000" spc="-1" strike="noStrike">
              <a:solidFill>
                <a:srgbClr val="000000"/>
              </a:solidFill>
              <a:latin typeface="Tw Cen MT"/>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2683c6"/>
                </a:solidFill>
                <a:latin typeface="メイリオ"/>
                <a:ea typeface="メイリオ"/>
              </a:rPr>
              <a:t>～ 岩手で、日本で、世界で活躍するリーダーの育成 ～</a:t>
            </a:r>
            <a:endParaRPr b="0" lang="en-US" sz="2400" spc="-1" strike="noStrike">
              <a:solidFill>
                <a:srgbClr val="000000"/>
              </a:solidFill>
              <a:latin typeface="Tw Cen MT"/>
            </a:endParaRPr>
          </a:p>
        </p:txBody>
      </p:sp>
      <p:sp>
        <p:nvSpPr>
          <p:cNvPr id="26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64" name="Rectangle 70"/>
          <p:cNvSpPr/>
          <p:nvPr/>
        </p:nvSpPr>
        <p:spPr>
          <a:xfrm>
            <a:off x="3691080" y="5970600"/>
            <a:ext cx="9725040" cy="11541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週１日以上（中学校は２日以上）の部活動休養日を徹底しながら、年間平均で週２日以上（年間１００日）の休養日を設定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部活動等において時間外勤務をした際には積極的に振替休日を取得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Ｉ</a:t>
            </a:r>
            <a:r>
              <a:rPr b="0" lang="en-US" sz="1200" spc="-1" strike="noStrike">
                <a:solidFill>
                  <a:srgbClr val="000000"/>
                </a:solidFill>
                <a:latin typeface="Arial"/>
                <a:ea typeface="メイリオ"/>
              </a:rPr>
              <a:t>C</a:t>
            </a:r>
            <a:r>
              <a:rPr b="0" lang="ja-JP" sz="1200" spc="-1" strike="noStrike">
                <a:solidFill>
                  <a:srgbClr val="000000"/>
                </a:solidFill>
                <a:latin typeface="Arial"/>
                <a:ea typeface="メイリオ"/>
              </a:rPr>
              <a:t>Ｔ機器の積極的な活用により、資料印刷を省略業務の効率化を進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生徒への指導や教材研究に注力できる環境を構築するため、 専門的な知識・経験を有する外部人材（ スクールソーシャルワーカー等）</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と連携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grpSp>
        <p:nvGrpSpPr>
          <p:cNvPr id="265" name="Rectangle 70"/>
          <p:cNvGrpSpPr/>
          <p:nvPr/>
        </p:nvGrpSpPr>
        <p:grpSpPr>
          <a:xfrm>
            <a:off x="7431120" y="2341440"/>
            <a:ext cx="6035760" cy="633600"/>
            <a:chOff x="7431120" y="2341440"/>
            <a:chExt cx="6035760" cy="633600"/>
          </a:xfrm>
        </p:grpSpPr>
        <p:pic>
          <p:nvPicPr>
            <p:cNvPr id="266" name="Rectangle 70" descr=""/>
            <p:cNvPicPr/>
            <p:nvPr/>
          </p:nvPicPr>
          <p:blipFill>
            <a:blip r:embed="rId1"/>
            <a:stretch/>
          </p:blipFill>
          <p:spPr>
            <a:xfrm>
              <a:off x="7431120" y="2341440"/>
              <a:ext cx="6035760" cy="633600"/>
            </a:xfrm>
            <a:prstGeom prst="rect">
              <a:avLst/>
            </a:prstGeom>
            <a:ln w="0">
              <a:noFill/>
            </a:ln>
          </p:spPr>
        </p:pic>
        <p:sp>
          <p:nvSpPr>
            <p:cNvPr id="267" name=""/>
            <p:cNvSpPr/>
            <p:nvPr/>
          </p:nvSpPr>
          <p:spPr>
            <a:xfrm>
              <a:off x="7459560" y="2400480"/>
              <a:ext cx="5921640" cy="38232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２　目標・目指す姿（令和６年度）</a:t>
              </a:r>
              <a:endParaRPr b="0" lang="en-US" sz="1800" spc="-1" strike="noStrike">
                <a:solidFill>
                  <a:srgbClr val="000000"/>
                </a:solidFill>
                <a:latin typeface="Tw Cen MT"/>
              </a:endParaRPr>
            </a:p>
          </p:txBody>
        </p:sp>
      </p:grpSp>
      <p:sp>
        <p:nvSpPr>
          <p:cNvPr id="268" name="Rectangle 70"/>
          <p:cNvSpPr/>
          <p:nvPr/>
        </p:nvSpPr>
        <p:spPr>
          <a:xfrm>
            <a:off x="379440" y="516564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３　具体的取組内容</a:t>
            </a:r>
            <a:endParaRPr b="0" lang="en-US" sz="1800" spc="-1" strike="noStrike">
              <a:solidFill>
                <a:srgbClr val="000000"/>
              </a:solidFill>
              <a:latin typeface="Tw Cen MT"/>
            </a:endParaRPr>
          </a:p>
        </p:txBody>
      </p:sp>
      <p:sp>
        <p:nvSpPr>
          <p:cNvPr id="269" name="テキスト ボックス 2"/>
          <p:cNvSpPr/>
          <p:nvPr/>
        </p:nvSpPr>
        <p:spPr>
          <a:xfrm>
            <a:off x="868320" y="1081080"/>
            <a:ext cx="1257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Tw Cen MT"/>
                <a:ea typeface="メイリオ"/>
              </a:rPr>
              <a:t>一関第一高等学校・附属中学校では、学校における働き方改革を推進し、生徒、保護者、地域などの期待に応える５つの「</a:t>
            </a:r>
            <a:r>
              <a:rPr b="0" lang="en-US" sz="1600" spc="-1" strike="noStrike">
                <a:solidFill>
                  <a:srgbClr val="2683c6"/>
                </a:solidFill>
                <a:latin typeface="Tw Cen MT"/>
                <a:ea typeface="メイリオ"/>
              </a:rPr>
              <a:t>Re</a:t>
            </a:r>
            <a:r>
              <a:rPr b="1" lang="ja-JP" sz="1600" spc="-1" strike="noStrike">
                <a:solidFill>
                  <a:srgbClr val="000000"/>
                </a:solidFill>
                <a:latin typeface="Tw Cen MT"/>
                <a:ea typeface="メイリオ"/>
              </a:rPr>
              <a:t>」を目指します。</a:t>
            </a:r>
            <a:endParaRPr b="0" lang="en-US" sz="1600" spc="-1" strike="noStrike">
              <a:solidFill>
                <a:srgbClr val="000000"/>
              </a:solidFill>
              <a:latin typeface="Tw Cen MT"/>
            </a:endParaRPr>
          </a:p>
        </p:txBody>
      </p:sp>
      <p:sp>
        <p:nvSpPr>
          <p:cNvPr id="270" name="Rectangle 70"/>
          <p:cNvSpPr/>
          <p:nvPr/>
        </p:nvSpPr>
        <p:spPr>
          <a:xfrm>
            <a:off x="385920" y="2760840"/>
            <a:ext cx="5922720" cy="21524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量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Arial"/>
                <a:ea typeface="メイリオ"/>
              </a:rPr>
              <a:t>　　令和３年度：０人、令和４年度：０人⇒令和５年度：０人</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性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意識</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教育に対する情熱、仕事に対する使命感が高く、校務に対しての負担感が少ないゆえに、家</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族の時間やプライベートの時間が少ない。</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管理職のマネジメント</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複数顧問の配置と部活動指導員及び外部コーチの招聘を積極的に推進し、教職員の負担軽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のための適切な部活動運営及び体制構築に取り組んでいる。</a:t>
            </a:r>
            <a:endParaRPr b="0" lang="en-US" sz="1000" spc="-1" strike="noStrike">
              <a:solidFill>
                <a:srgbClr val="000000"/>
              </a:solidFill>
              <a:latin typeface="Tw Cen MT"/>
            </a:endParaRPr>
          </a:p>
        </p:txBody>
      </p:sp>
      <p:sp>
        <p:nvSpPr>
          <p:cNvPr id="271" name="Rectangle 70"/>
          <p:cNvSpPr/>
          <p:nvPr/>
        </p:nvSpPr>
        <p:spPr>
          <a:xfrm>
            <a:off x="3681360" y="7140600"/>
            <a:ext cx="9721800" cy="6969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会議の簡素化や各校務分掌内の業務の見直しに取り組み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学校行事や業務のスクラップアンドリニューアルに取り組み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気兼ねなく年次有給休暇や振替等の取得ができる職場づくりを進め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72" name="Rectangle 70"/>
          <p:cNvSpPr/>
          <p:nvPr/>
        </p:nvSpPr>
        <p:spPr>
          <a:xfrm>
            <a:off x="374760" y="7080120"/>
            <a:ext cx="3313080" cy="77328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Tw Cen MT"/>
            </a:endParaRPr>
          </a:p>
        </p:txBody>
      </p:sp>
      <p:sp>
        <p:nvSpPr>
          <p:cNvPr id="273" name="Rectangle 70"/>
          <p:cNvSpPr/>
          <p:nvPr/>
        </p:nvSpPr>
        <p:spPr>
          <a:xfrm>
            <a:off x="371520" y="6000840"/>
            <a:ext cx="3301920" cy="11160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２</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学校における業務改善の推進</a:t>
            </a:r>
            <a:endParaRPr b="0" lang="en-US" sz="1400" spc="-1" strike="noStrike">
              <a:solidFill>
                <a:srgbClr val="000000"/>
              </a:solidFill>
              <a:latin typeface="Tw Cen MT"/>
            </a:endParaRPr>
          </a:p>
        </p:txBody>
      </p:sp>
      <p:sp>
        <p:nvSpPr>
          <p:cNvPr id="274" name="正方形/長方形 2"/>
          <p:cNvSpPr/>
          <p:nvPr/>
        </p:nvSpPr>
        <p:spPr>
          <a:xfrm>
            <a:off x="8175600" y="9599760"/>
            <a:ext cx="55054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ea typeface="ＭＳ Ｐゴシック"/>
              </a:rPr>
              <a:t>令和６年５月１日　一関第一高等学校・附属中学校長　三浦　立</a:t>
            </a:r>
            <a:endParaRPr b="0" lang="en-US" sz="1400" spc="-1" strike="noStrike">
              <a:solidFill>
                <a:srgbClr val="000000"/>
              </a:solidFill>
              <a:latin typeface="Tw Cen MT"/>
            </a:endParaRPr>
          </a:p>
        </p:txBody>
      </p:sp>
      <p:sp>
        <p:nvSpPr>
          <p:cNvPr id="275" name="角丸四角形 1"/>
          <p:cNvSpPr/>
          <p:nvPr/>
        </p:nvSpPr>
        <p:spPr>
          <a:xfrm>
            <a:off x="1141560" y="1380960"/>
            <a:ext cx="21715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volution</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改革し続ける学校</a:t>
            </a:r>
            <a:endParaRPr b="0" lang="en-US" sz="1600" spc="-1" strike="noStrike">
              <a:solidFill>
                <a:srgbClr val="000000"/>
              </a:solidFill>
              <a:latin typeface="Tw Cen MT"/>
            </a:endParaRPr>
          </a:p>
        </p:txBody>
      </p:sp>
      <p:sp>
        <p:nvSpPr>
          <p:cNvPr id="276" name="角丸四角形 21"/>
          <p:cNvSpPr/>
          <p:nvPr/>
        </p:nvSpPr>
        <p:spPr>
          <a:xfrm>
            <a:off x="3470400" y="1380960"/>
            <a:ext cx="21733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in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高いレベルの教育を</a:t>
            </a:r>
            <a:endParaRPr b="0" lang="en-US" sz="12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提供する学校</a:t>
            </a:r>
            <a:endParaRPr b="0" lang="en-US" sz="1200" spc="-1" strike="noStrike">
              <a:solidFill>
                <a:srgbClr val="000000"/>
              </a:solidFill>
              <a:latin typeface="Tw Cen MT"/>
            </a:endParaRPr>
          </a:p>
        </p:txBody>
      </p:sp>
      <p:sp>
        <p:nvSpPr>
          <p:cNvPr id="277" name="角丸四角形 22"/>
          <p:cNvSpPr/>
          <p:nvPr/>
        </p:nvSpPr>
        <p:spPr>
          <a:xfrm>
            <a:off x="5832360" y="1380960"/>
            <a:ext cx="2173320" cy="90972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l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周囲の意見を反映する学校</a:t>
            </a:r>
            <a:endParaRPr b="0" lang="en-US" sz="1200" spc="-1" strike="noStrike">
              <a:solidFill>
                <a:srgbClr val="000000"/>
              </a:solidFill>
              <a:latin typeface="Tw Cen MT"/>
            </a:endParaRPr>
          </a:p>
        </p:txBody>
      </p:sp>
      <p:sp>
        <p:nvSpPr>
          <p:cNvPr id="278" name="角丸四角形 23"/>
          <p:cNvSpPr/>
          <p:nvPr/>
        </p:nvSpPr>
        <p:spPr>
          <a:xfrm>
            <a:off x="8155080" y="1380960"/>
            <a:ext cx="2173320" cy="8924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ons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反応が早い学校</a:t>
            </a:r>
            <a:endParaRPr b="0" lang="en-US" sz="1600" spc="-1" strike="noStrike">
              <a:solidFill>
                <a:srgbClr val="000000"/>
              </a:solidFill>
              <a:latin typeface="Tw Cen MT"/>
            </a:endParaRPr>
          </a:p>
        </p:txBody>
      </p:sp>
      <p:sp>
        <p:nvSpPr>
          <p:cNvPr id="279" name="角丸四角形 24"/>
          <p:cNvSpPr/>
          <p:nvPr/>
        </p:nvSpPr>
        <p:spPr>
          <a:xfrm>
            <a:off x="10488600" y="1380960"/>
            <a:ext cx="2173320" cy="9050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Tw Cen MT"/>
                <a:ea typeface="メイリオ"/>
              </a:rPr>
              <a:t>尊敬し、尊敬される学校</a:t>
            </a:r>
            <a:endParaRPr b="0" lang="en-US" sz="1300" spc="-1" strike="noStrike">
              <a:solidFill>
                <a:srgbClr val="000000"/>
              </a:solidFill>
              <a:latin typeface="Tw Cen MT"/>
            </a:endParaRPr>
          </a:p>
        </p:txBody>
      </p:sp>
      <p:sp>
        <p:nvSpPr>
          <p:cNvPr id="280" name="右矢印 2"/>
          <p:cNvSpPr/>
          <p:nvPr/>
        </p:nvSpPr>
        <p:spPr>
          <a:xfrm>
            <a:off x="6419880" y="3332160"/>
            <a:ext cx="995400" cy="906480"/>
          </a:xfrm>
          <a:prstGeom prst="rightArrow">
            <a:avLst>
              <a:gd name="adj1" fmla="val 50000"/>
              <a:gd name="adj2" fmla="val 50085"/>
            </a:avLst>
          </a:prstGeom>
          <a:solidFill>
            <a:srgbClr val="2683c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81" name="Rectangle 70"/>
          <p:cNvSpPr/>
          <p:nvPr/>
        </p:nvSpPr>
        <p:spPr>
          <a:xfrm>
            <a:off x="372960" y="5559480"/>
            <a:ext cx="330516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１</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健康管理</a:t>
            </a:r>
            <a:endParaRPr b="0" lang="en-US" sz="1400" spc="-1" strike="noStrike">
              <a:solidFill>
                <a:srgbClr val="000000"/>
              </a:solidFill>
              <a:latin typeface="Tw Cen MT"/>
            </a:endParaRPr>
          </a:p>
        </p:txBody>
      </p:sp>
      <p:sp>
        <p:nvSpPr>
          <p:cNvPr id="282" name="Rectangle 70"/>
          <p:cNvSpPr/>
          <p:nvPr/>
        </p:nvSpPr>
        <p:spPr>
          <a:xfrm>
            <a:off x="3697200" y="5541840"/>
            <a:ext cx="9718920" cy="45108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勤務時間外、余暇時間は、家庭生活を充実させる時間、あるいは自分の自由な時間として活用し、ウェルビーイングを確保する。</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メンタルヘルスに関する相談等の情報を積極的に活用し、心身の不調の未然防止に努めます。</a:t>
            </a:r>
            <a:endParaRPr b="0" lang="en-US" sz="1200" spc="-1" strike="noStrike">
              <a:solidFill>
                <a:srgbClr val="000000"/>
              </a:solidFill>
              <a:latin typeface="Tw Cen MT"/>
            </a:endParaRPr>
          </a:p>
        </p:txBody>
      </p:sp>
      <p:sp>
        <p:nvSpPr>
          <p:cNvPr id="283" name="Rectangle 70"/>
          <p:cNvSpPr/>
          <p:nvPr/>
        </p:nvSpPr>
        <p:spPr>
          <a:xfrm>
            <a:off x="7467480" y="2805120"/>
            <a:ext cx="5913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Ｒ６年度目標</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4</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6</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８０時間以上の者</a:t>
            </a:r>
            <a:r>
              <a:rPr b="1" lang="ja-JP" sz="1000" spc="-1" strike="noStrike">
                <a:solidFill>
                  <a:srgbClr val="000000"/>
                </a:solidFill>
                <a:latin typeface="Arial"/>
                <a:ea typeface="メイリオ"/>
              </a:rPr>
              <a:t>　　令和６年度ゼロにする</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目指す姿</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で、日本で、世界で活躍するリーダーの育成」のために質の高い教育を持続的に提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授業準備や授業力向上に集中して取り組み、探究的な学習を推進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ワーク・ライフ・バランスを確保しながら、健康でいきいきとやりがいをもっ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生徒一人ひとりに向き合い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sp>
        <p:nvSpPr>
          <p:cNvPr id="284" name="Rectangle 70"/>
          <p:cNvSpPr/>
          <p:nvPr/>
        </p:nvSpPr>
        <p:spPr>
          <a:xfrm>
            <a:off x="365040" y="863928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４　アクションプランの周知方法</a:t>
            </a:r>
            <a:endParaRPr b="0" lang="en-US" sz="1800" spc="-1" strike="noStrike">
              <a:solidFill>
                <a:srgbClr val="000000"/>
              </a:solidFill>
              <a:latin typeface="Tw Cen MT"/>
            </a:endParaRPr>
          </a:p>
        </p:txBody>
      </p:sp>
      <p:sp>
        <p:nvSpPr>
          <p:cNvPr id="285" name="Rectangle 70"/>
          <p:cNvSpPr/>
          <p:nvPr/>
        </p:nvSpPr>
        <p:spPr>
          <a:xfrm>
            <a:off x="361800" y="9045720"/>
            <a:ext cx="13043160" cy="509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職員会議を通じて教職員に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プランを学校</a:t>
            </a:r>
            <a:r>
              <a:rPr b="0" lang="en-US" sz="1200" spc="-1" strike="noStrike">
                <a:solidFill>
                  <a:srgbClr val="000000"/>
                </a:solidFill>
                <a:latin typeface="Arial"/>
                <a:ea typeface="メイリオ"/>
              </a:rPr>
              <a:t>HP</a:t>
            </a:r>
            <a:r>
              <a:rPr b="0" lang="ja-JP" sz="1200" spc="-1" strike="noStrike">
                <a:solidFill>
                  <a:srgbClr val="000000"/>
                </a:solidFill>
                <a:latin typeface="Arial"/>
                <a:ea typeface="メイリオ"/>
              </a:rPr>
              <a:t>へ掲載し、地域・保護者にプラン内容を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86" name="Rectangle 70"/>
          <p:cNvSpPr/>
          <p:nvPr/>
        </p:nvSpPr>
        <p:spPr>
          <a:xfrm>
            <a:off x="378000" y="7859880"/>
            <a:ext cx="3305160" cy="5508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４</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令和６年度重点取組事項</a:t>
            </a:r>
            <a:endParaRPr b="0" lang="en-US" sz="1400" spc="-1" strike="noStrike">
              <a:solidFill>
                <a:srgbClr val="000000"/>
              </a:solidFill>
              <a:latin typeface="Tw Cen MT"/>
            </a:endParaRPr>
          </a:p>
        </p:txBody>
      </p:sp>
      <p:sp>
        <p:nvSpPr>
          <p:cNvPr id="287" name="Rectangle 70"/>
          <p:cNvSpPr/>
          <p:nvPr/>
        </p:nvSpPr>
        <p:spPr>
          <a:xfrm>
            <a:off x="3684600" y="7853400"/>
            <a:ext cx="9731520" cy="563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a:t>
            </a:r>
            <a:r>
              <a:rPr b="0" lang="ja-JP" sz="1200" spc="-1" strike="noStrike">
                <a:solidFill>
                  <a:srgbClr val="000000"/>
                </a:solidFill>
                <a:latin typeface="Arial"/>
                <a:ea typeface="メイリオ"/>
              </a:rPr>
              <a:t> 時間外在校等時間が月８０時間以上の者をゼロにできるよう、教職員への日々の働きかけを強化していく。</a:t>
            </a:r>
            <a:endParaRPr b="0" lang="en-US" sz="1200" spc="-1" strike="noStrike">
              <a:solidFill>
                <a:srgbClr val="000000"/>
              </a:solidFill>
              <a:latin typeface="Tw Cen MT"/>
            </a:endParaRPr>
          </a:p>
        </p:txBody>
      </p:sp>
      <p:grpSp>
        <p:nvGrpSpPr>
          <p:cNvPr id="288" name="Rectangle 70"/>
          <p:cNvGrpSpPr/>
          <p:nvPr/>
        </p:nvGrpSpPr>
        <p:grpSpPr>
          <a:xfrm>
            <a:off x="360360" y="2309760"/>
            <a:ext cx="6033960" cy="628560"/>
            <a:chOff x="360360" y="2309760"/>
            <a:chExt cx="6033960" cy="628560"/>
          </a:xfrm>
        </p:grpSpPr>
        <p:pic>
          <p:nvPicPr>
            <p:cNvPr id="289" name="Rectangle 70" descr=""/>
            <p:cNvPicPr/>
            <p:nvPr/>
          </p:nvPicPr>
          <p:blipFill>
            <a:blip r:embed="rId2"/>
            <a:stretch/>
          </p:blipFill>
          <p:spPr>
            <a:xfrm>
              <a:off x="360360" y="2309760"/>
              <a:ext cx="6033960" cy="628560"/>
            </a:xfrm>
            <a:prstGeom prst="rect">
              <a:avLst/>
            </a:prstGeom>
            <a:ln w="0">
              <a:noFill/>
            </a:ln>
          </p:spPr>
        </p:pic>
        <p:sp>
          <p:nvSpPr>
            <p:cNvPr id="290" name=""/>
            <p:cNvSpPr/>
            <p:nvPr/>
          </p:nvSpPr>
          <p:spPr>
            <a:xfrm>
              <a:off x="387360" y="2368440"/>
              <a:ext cx="5921280" cy="38268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１　現　状（令和５年度）</a:t>
              </a:r>
              <a:endParaRPr b="0" lang="en-US" sz="18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竿代　愛也</cp:lastModifiedBy>
  <cp:lastPrinted>2024-04-26T04:00:25Z</cp:lastPrinted>
  <dcterms:modified xsi:type="dcterms:W3CDTF">2024-04-26T04:43:34Z</dcterms:modified>
  <cp:revision>1059</cp:revision>
  <dc:subject/>
  <dc:title>スライド 1</dc:title>
</cp:coreProperties>
</file>