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3181-D3C6-4452-BD3B-A77EAB05E66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DE4-9193-4EA6-A4A8-623DCA943C0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446-7BC8-4C4E-B7B0-A60F260A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D2D-365D-4C5F-8805-78BFAE4D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3A2-41DF-403F-8D21-4CF39743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AE5-1F9C-452B-BA8A-BA944B6E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DD2-9A4B-4199-9F60-B9D3C9EE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E84-B59F-41FF-BB7D-A61B36A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614-ECBD-4B46-80A5-AF4CFD1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B90-FD35-45C4-96CD-27E46FC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FA9-A3A9-4139-A715-C2C16EF6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160-0A91-43A7-ACA9-EA666205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4BF-26DD-4B08-9631-8817D50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D6A-FC73-4E09-857A-BF6331FB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FD52-CF1F-4746-B04A-6B395C0DEA3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盛岡峰南高等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学年・学科・各部が連携して推進する「チーム峰南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5991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→一人あたり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次休暇の取得日数→一人あたり年間平均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、１日単位の年次取得５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毎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の定時退庁日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9272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0796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峰南高等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県内唯一の専門学科が設置された高等支援学校であり、県内全域から生徒が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進路支援業務、課外活動（週休日における大会やそれに向けた練習、専門教科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習で製作した製品の展示、販売対応等）、県内各圏域におけるＰＴＡ活動対応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移動距離や対応回数、時間的負担も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関係各所の本校教育への関心が高く、学校見学や入学相談の依頼件数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の教育理念である「生きがいある豊かな生活の実現」を目指し、各教職員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使命感を持って日常の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2912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291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5614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令和６年５月１日　盛岡峰南高等支援学校長　矢鳴　慶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年、学科が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携して、業務を推進するチームとしての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各教職員が自分のライフプラン、ミッションを意識化し業務を推進する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健全（健康・安心・安全）な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399240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52760"/>
            <a:ext cx="39546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が円滑に進むように、資料データの整理と見直し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い、作成の簡略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現状の校内業務のスクラップ＆ビルド等について随時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討し、より効果的な業務運営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の効率化につながるように、組織のあり方を検証し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ら、必要な改変を視野に入れて業務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るよう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告・連絡・相談の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3000" y="4352760"/>
            <a:ext cx="37497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が事務局を担当する他の支援学校が関わる諸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議等において、連絡調整等の効率化を図るため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校間における連携協力の一層の充実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支援学校のセンター的機能に係る取組について、依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校や関係機関等のニーズを把握し、組織としての適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対応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1079640" y="4352760"/>
            <a:ext cx="40194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勤務時間の正確な把握の取組を確実に実施し、業務の優先順位を見極めながら、長時間勤務の軽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毎月の時間外在校等時間を各人に知らせ、時間外勤務状況を意識し、縮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時間外勤務時間の縮減と、多忙感の低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管理職が、教職員の健康管理について　積極的に面談や声掛けをするなど、メンタルヘルスを含めた健康状態の把握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衛生委員会等において、職場環境の在り方や健康保持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いて意見交換を行い、職場環境の整備を図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109520" y="7837560"/>
            <a:ext cx="11738160" cy="217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２０２４～２０２６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６年度～令和８年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〈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量的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〉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128000" y="7915320"/>
            <a:ext cx="571968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含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段階的に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6951600" y="9072720"/>
            <a:ext cx="5854680" cy="86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定性的目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〉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への充実感や、健康面での安心感の向上、教職員のウェルビーイングの確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８年度において、目標に関連するアンケート項目の肯定的実感が令和６年度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366084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48760" y="840420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前年度（令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5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）実績より減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奈津子</cp:lastModifiedBy>
  <cp:lastPrinted>2024-05-01T01:38:30Z</cp:lastPrinted>
  <dcterms:modified xsi:type="dcterms:W3CDTF">2024-05-02T00:15:07Z</dcterms:modified>
  <cp:revision>970</cp:revision>
  <dc:subject/>
  <dc:title>スライド 1</dc:title>
</cp:coreProperties>
</file>