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0CB8B-28DF-4537-A25D-24BB9F2247C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98831-5D9A-4FD4-85FE-A8AC35378070}"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4BAEA-1A87-4C90-B72D-0DAA54F9C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7F5C0-2BA7-4C69-A3E6-88A367D90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B56BB-11C4-4675-AD12-88C53BAB5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3BCF1-AFB7-4145-8069-508787955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B2B01-9119-415D-8AA2-2F5129B80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EE010-F33F-4E81-A35B-29096318F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287F4-7427-492B-B715-E29C12CC3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A05A2-F65E-4F18-9A2D-516179347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F6EAD-E4F8-469E-A819-A00BDDAE6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DC978-63DB-4ED4-AA7F-B204351F1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C958D-613F-4681-801B-255C75D1B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9A556-1468-452A-B35E-0425ED7F8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23697-6D8A-44CF-AE4B-367F499552C7}"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久慈高等学校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573120" y="1101600"/>
            <a:ext cx="122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久慈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7</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0</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0</a:t>
            </a:r>
            <a:r>
              <a:rPr b="0" lang="ja-JP" sz="1400" spc="-1" strike="noStrike">
                <a:solidFill>
                  <a:srgbClr val="000000"/>
                </a:solidFill>
                <a:latin typeface="Arial"/>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1.2</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3.4</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5.8</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業務のペーパーレス化の取組が全教職員に徹底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部活動の大会開催時期及び受験期に時間外勤務が集中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７日　久慈高等学校長　藤田知彦</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35</a:t>
            </a:r>
            <a:r>
              <a:rPr b="0" lang="ja-JP" sz="1600" spc="-1" strike="noStrike">
                <a:solidFill>
                  <a:srgbClr val="000000"/>
                </a:solidFill>
                <a:latin typeface="Arial"/>
              </a:rPr>
              <a:t>時間と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4</a:t>
            </a:r>
            <a:r>
              <a:rPr b="0" lang="ja-JP" sz="1600" spc="-1" strike="noStrike">
                <a:solidFill>
                  <a:srgbClr val="000000"/>
                </a:solidFill>
                <a:latin typeface="Arial"/>
              </a:rPr>
              <a:t>日に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生徒への質の高い教育を持続的に提供し得る観点か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生徒と接する時間が十分に確保でき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保護者や地域の方にも周知し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年次取得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時間外在校等時間の多い教職員に月初に指導・助言を行い健康を確保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教育の質の向上という観点から業務の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業務のオンライン化、ペーパーレス化をさらに推進し業務の効率化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ＨＰに掲載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部活動の統廃合や部活動指導員の任用により、教職員の業務負担を軽減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分掌ごとに業務削減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田友哉</cp:lastModifiedBy>
  <cp:lastPrinted>2024-07-10T04:48:51Z</cp:lastPrinted>
  <dcterms:modified xsi:type="dcterms:W3CDTF">2024-07-10T04:58:38Z</dcterms:modified>
  <cp:revision>994</cp:revision>
  <dc:subject/>
  <dc:title>スライド 1</dc:title>
</cp:coreProperties>
</file>