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A369-B779-4749-8515-CC6D6DA0B2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CE1E-A70C-456F-807E-F0DEF4D6DF1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8E745-7DB2-4FD3-9D4F-70D5C977C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E72CC-5D75-41D3-B0E7-2A686E2CA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8C871-C148-40EF-BC20-E887A6D62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746D4-6D3F-480F-93C8-21F0EA868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AA639-6EA1-47B0-9BFB-82CBC4166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145F6-06C3-4AAC-8F89-5AE761143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5B26D-F3BB-42A4-BA82-68B8A2836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D827D-C055-4A82-925B-F91B17072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6587F-4969-42D3-8ECF-F4D3B2348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10DC-9E46-4CDD-8BC2-AE0D96CFE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51F1-3A42-48BC-B49B-558FEE2C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FF0D1-574B-4E2A-95F0-C4548DEE6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F46F-FE95-4A77-A959-E5E52FD776C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紫波総合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質の高い教育の持続的提供のために～</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紫波総合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a:t>
            </a:r>
            <a:r>
              <a:rPr b="0" lang="en-US" sz="1400" spc="-1" strike="noStrike">
                <a:solidFill>
                  <a:srgbClr val="000000"/>
                </a:solidFill>
                <a:latin typeface="Arial"/>
              </a:rPr>
              <a:t>15.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4.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a:t>
            </a:r>
            <a:r>
              <a:rPr b="0" lang="en-US" sz="1400" spc="-1" strike="noStrike">
                <a:solidFill>
                  <a:srgbClr val="000000"/>
                </a:solidFill>
                <a:latin typeface="Arial"/>
              </a:rPr>
              <a:t>17.8</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休暇取得推進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728200" y="95169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7</a:t>
            </a:r>
            <a:r>
              <a:rPr b="0" lang="ja-JP" sz="1100" spc="-1" strike="noStrike">
                <a:solidFill>
                  <a:srgbClr val="000000"/>
                </a:solidFill>
                <a:latin typeface="ＭＳ Ｐゴシック"/>
              </a:rPr>
              <a:t>日</a:t>
            </a:r>
            <a:r>
              <a:rPr b="0" lang="ja-JP" sz="1100" spc="-1" strike="noStrike">
                <a:solidFill>
                  <a:srgbClr val="000000"/>
                </a:solidFill>
                <a:latin typeface="Arial"/>
              </a:rPr>
              <a:t>　紫波総合高等学校長　松田　隆宏</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44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25</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409920"/>
            <a:ext cx="5591160" cy="1557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　・</a:t>
            </a:r>
            <a:r>
              <a:rPr b="0" lang="ja-JP" sz="1400" spc="-1" strike="noStrike">
                <a:solidFill>
                  <a:srgbClr val="000000"/>
                </a:solidFill>
                <a:latin typeface="ＭＳ Ｐゴシック"/>
              </a:rPr>
              <a:t>　教職員一人一人が、ワークライフバランス（仕事と家庭生活の調和）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の実践を意識し、教育活動に取り組んでいる。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生徒指導や教科指導などの在り方について、計画的かつ効率的に</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仕事が進められるよう、日頃から教職員間で共有している。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主体的・対話的で深い学びの実現を目指し、教材研究を深める時間</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が教職員に十分に確保されて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や</a:t>
            </a:r>
            <a:r>
              <a:rPr b="0" lang="en-US" sz="1800" spc="-1" strike="noStrike">
                <a:solidFill>
                  <a:srgbClr val="000000"/>
                </a:solidFill>
                <a:latin typeface="Arial"/>
              </a:rPr>
              <a:t>PTA</a:t>
            </a:r>
            <a:r>
              <a:rPr b="0" lang="ja-JP" sz="1800" spc="-1" strike="noStrike">
                <a:solidFill>
                  <a:srgbClr val="000000"/>
                </a:solidFill>
                <a:latin typeface="Arial"/>
              </a:rPr>
              <a:t>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を取得しやすい職場環境づくり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60</a:t>
                      </a:r>
                      <a:r>
                        <a:rPr b="0" lang="ja-JP" sz="1800" spc="-1" strike="noStrike">
                          <a:solidFill>
                            <a:srgbClr val="000000"/>
                          </a:solidFill>
                          <a:latin typeface="ＭＳ Ｐゴシック"/>
                        </a:rPr>
                        <a:t>時間超となった教職員に声掛けし、健康確保の観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点から、面談等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分掌の業務内容について、教育において真に必要な観点から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外部のリソースの活用を検討しながら、業務分担の見直し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情報発信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休養日を必ず設ける等の取組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７年度入学生から検討している系列の見直しに伴う業務改善及び教育課程の改定</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外川　直美</cp:lastModifiedBy>
  <cp:lastPrinted>2024-05-13T03:05:38Z</cp:lastPrinted>
  <dcterms:modified xsi:type="dcterms:W3CDTF">2024-05-14T00:43:07Z</dcterms:modified>
  <cp:revision>984</cp:revision>
  <dc:subject/>
  <dc:title>スライド 1</dc:title>
</cp:coreProperties>
</file>