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F888-1785-4EBC-82FF-A524937055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AA5B-D1EF-4C32-8A3B-F1661B1D98D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581F-3985-4C1A-B8F6-D31C8B44B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3415A-5437-46E2-9743-2142F327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B9656-68A1-457D-8122-F25D1B11D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C1129-52B6-44DE-92CA-2AA652097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1ECF-5080-4F0C-B248-968389772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9DD8A-2A0A-44A2-8BE7-46C3B128F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46DA5-7B0C-4BF3-8834-A480B701C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98066-2397-4BE3-B914-4FEF0C220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25A3-6468-4F97-BD20-A26D9525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9B7D-607B-4FB4-88F9-17911423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C4B19-B468-4C80-9833-2BBC081B7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04B29-BFF0-4347-8781-C424ECDDB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E82A-8EF6-4336-89AB-A19C08AAB56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79640" y="217440"/>
            <a:ext cx="1172664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宮古水産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安航第一」チーム宮水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1" name="テキスト ボックス 2"/>
          <p:cNvSpPr/>
          <p:nvPr/>
        </p:nvSpPr>
        <p:spPr>
          <a:xfrm>
            <a:off x="573120" y="1087560"/>
            <a:ext cx="1277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宮古水産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11240" y="1806480"/>
            <a:ext cx="5541840" cy="3138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１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情報を共有し、一体となって学校経営に取り組んでいる」と答えた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の割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50.0%</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46.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78.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に勤務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多様な生徒への手厚い対応に時間的・精神的な負担がかか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多忙化解消の観点から、慣例の見直しを軸とした業務改善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正方形/長方形 2"/>
          <p:cNvSpPr/>
          <p:nvPr/>
        </p:nvSpPr>
        <p:spPr>
          <a:xfrm>
            <a:off x="872820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６日　宮古水産高等学校長　伊東道夫</a:t>
            </a:r>
            <a:endParaRPr b="0" lang="en-US" sz="1100" spc="-1" strike="noStrike">
              <a:solidFill>
                <a:srgbClr val="000000"/>
              </a:solidFill>
              <a:latin typeface="Arial"/>
            </a:endParaRPr>
          </a:p>
        </p:txBody>
      </p:sp>
      <p:sp>
        <p:nvSpPr>
          <p:cNvPr id="54"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6" name="Rectangle 70"/>
          <p:cNvSpPr/>
          <p:nvPr/>
        </p:nvSpPr>
        <p:spPr>
          <a:xfrm>
            <a:off x="7213680" y="2165400"/>
            <a:ext cx="5603760" cy="1336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時間外在校等時間が月</a:t>
            </a:r>
            <a:r>
              <a:rPr b="0" lang="en-US" sz="1600" spc="-1" strike="noStrike">
                <a:solidFill>
                  <a:srgbClr val="000000"/>
                </a:solidFill>
                <a:latin typeface="Arial"/>
              </a:rPr>
              <a:t>80</a:t>
            </a:r>
            <a:r>
              <a:rPr b="0" lang="ja-JP" sz="1600" spc="-1" strike="noStrike">
                <a:solidFill>
                  <a:srgbClr val="000000"/>
                </a:solidFill>
                <a:latin typeface="Arial"/>
              </a:rPr>
              <a:t>時間以上の者をゼロとすること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情報を共有し、一体となって学校経営に取り組んでいる」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感じる教員の割合を８割以上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endParaRPr b="0" lang="en-US" sz="1600" spc="-1" strike="noStrike">
              <a:solidFill>
                <a:srgbClr val="000000"/>
              </a:solidFill>
              <a:latin typeface="Arial"/>
            </a:endParaRPr>
          </a:p>
        </p:txBody>
      </p:sp>
      <p:sp>
        <p:nvSpPr>
          <p:cNvPr id="57" name="Rectangle 70"/>
          <p:cNvSpPr/>
          <p:nvPr/>
        </p:nvSpPr>
        <p:spPr>
          <a:xfrm>
            <a:off x="7213680" y="3560760"/>
            <a:ext cx="5586480" cy="1384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誇りと使命感を感じながら業務に取り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質の高い教育の持続的提供に資する業務改善を行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が、心身の休養を図る機会が十分に確保されている。</a:t>
            </a:r>
            <a:endParaRPr b="0" lang="en-US" sz="1600" spc="-1" strike="noStrike">
              <a:solidFill>
                <a:srgbClr val="000000"/>
              </a:solidFill>
              <a:latin typeface="Arial"/>
            </a:endParaRPr>
          </a:p>
        </p:txBody>
      </p:sp>
      <p:sp>
        <p:nvSpPr>
          <p:cNvPr id="58"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9"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学校</a:t>
            </a:r>
            <a:r>
              <a:rPr b="0" lang="en-US" sz="1800" spc="-1" strike="noStrike">
                <a:solidFill>
                  <a:srgbClr val="000000"/>
                </a:solidFill>
                <a:latin typeface="Arial"/>
              </a:rPr>
              <a:t>HP</a:t>
            </a:r>
            <a:r>
              <a:rPr b="0" lang="ja-JP" sz="1800" spc="-1" strike="noStrike">
                <a:solidFill>
                  <a:srgbClr val="000000"/>
                </a:solidFill>
                <a:latin typeface="Arial"/>
              </a:rPr>
              <a:t>に掲載し、保護者や地域に周知するとともに、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学校・地域魅力化推進委員会等を通じて、地域・保護者に対してプランについて説明を行います。</a:t>
            </a:r>
            <a:endParaRPr b="0" lang="en-US" sz="1800" spc="-1" strike="noStrike">
              <a:solidFill>
                <a:srgbClr val="000000"/>
              </a:solidFill>
              <a:latin typeface="Arial"/>
            </a:endParaRPr>
          </a:p>
        </p:txBody>
      </p:sp>
      <p:graphicFrame>
        <p:nvGraphicFramePr>
          <p:cNvPr id="60"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業務の効率化や見直しを進め、休暇を取得しやすい職場環境を作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対して健康確保の観点から声掛け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慣例を見直し、業務の精選、働き方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職員朝会は月・金・必要な日の開催、職員会議は必要最低限の時間設定と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働き方改革の取組について、保護者や地域の方の理解が進むよう</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等で周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教職員の仕事内容を整理し、保護者や外部機関に任せられる業務は積極的に任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コンプライアンスの定期的な取組みをとおして、教育公務員としての誇りを醸成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130</a:t>
                      </a:r>
                      <a:r>
                        <a:rPr b="0" lang="ja-JP" sz="1800" spc="-1" strike="noStrike">
                          <a:solidFill>
                            <a:srgbClr val="000000"/>
                          </a:solidFill>
                          <a:latin typeface="ＭＳ Ｐゴシック"/>
                        </a:rPr>
                        <a:t>周年事業・新船建造事業・新校舎建設事業と無理なく共存する働き方を目指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1"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2" name="Rectangle 70"/>
          <p:cNvSpPr/>
          <p:nvPr/>
        </p:nvSpPr>
        <p:spPr>
          <a:xfrm>
            <a:off x="1011240" y="1446120"/>
            <a:ext cx="5541840" cy="33840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水上　弓枝</cp:lastModifiedBy>
  <cp:lastPrinted>2024-05-17T01:56:51Z</cp:lastPrinted>
  <dcterms:modified xsi:type="dcterms:W3CDTF">2024-05-17T01:58:22Z</dcterms:modified>
  <cp:revision>993</cp:revision>
  <dc:subject/>
  <dc:title>スライド 1</dc:title>
</cp:coreProperties>
</file>