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102800" cy="102348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4024440" y="0"/>
            <a:ext cx="3078000" cy="511200"/>
          </a:xfrm>
          <a:prstGeom prst="rect">
            <a:avLst/>
          </a:prstGeom>
          <a:noFill/>
          <a:ln w="0">
            <a:noFill/>
          </a:ln>
        </p:spPr>
        <p:txBody>
          <a:bodyPr lIns="99000" rIns="9900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947880" y="766440"/>
            <a:ext cx="5208480" cy="3838680"/>
          </a:xfrm>
          <a:prstGeom prst="rect">
            <a:avLst/>
          </a:prstGeom>
          <a:noFill/>
          <a:ln w="9360">
            <a:solidFill>
              <a:srgbClr val="000000"/>
            </a:solidFill>
            <a:miter/>
          </a:ln>
        </p:spPr>
        <p:txBody>
          <a:bodyPr lIns="99000" rIns="99000" tIns="49320" bIns="493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709200" y="4860720"/>
            <a:ext cx="5684760" cy="4606920"/>
          </a:xfrm>
          <a:prstGeom prst="rect">
            <a:avLst/>
          </a:prstGeom>
          <a:noFill/>
          <a:ln w="0">
            <a:noFill/>
          </a:ln>
        </p:spPr>
        <p:txBody>
          <a:bodyPr lIns="99000" rIns="99000" tIns="49320" bIns="493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721800"/>
            <a:ext cx="3076560" cy="511200"/>
          </a:xfrm>
          <a:prstGeom prst="rect">
            <a:avLst/>
          </a:prstGeom>
          <a:noFill/>
          <a:ln w="0">
            <a:noFill/>
          </a:ln>
        </p:spPr>
        <p:txBody>
          <a:bodyPr lIns="99000" rIns="99000" tIns="49320" bIns="493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4024440" y="9721800"/>
            <a:ext cx="3078000" cy="511200"/>
          </a:xfrm>
          <a:prstGeom prst="rect">
            <a:avLst/>
          </a:prstGeom>
          <a:noFill/>
          <a:ln w="0">
            <a:noFill/>
          </a:ln>
        </p:spPr>
        <p:txBody>
          <a:bodyPr lIns="99000" rIns="99000" tIns="49320" bIns="493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80252-530F-4124-BD5D-9A4230F8070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4024440" y="9721800"/>
            <a:ext cx="307800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43E4A-B4A1-4770-874D-745A403636B8}"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947880" y="766800"/>
            <a:ext cx="5208480" cy="3838680"/>
          </a:xfrm>
          <a:prstGeom prst="rect">
            <a:avLst/>
          </a:prstGeom>
          <a:ln w="0">
            <a:noFill/>
          </a:ln>
        </p:spPr>
      </p:sp>
      <p:sp>
        <p:nvSpPr>
          <p:cNvPr id="65" name="PlaceHolder 2"/>
          <p:cNvSpPr>
            <a:spLocks noGrp="1"/>
          </p:cNvSpPr>
          <p:nvPr>
            <p:ph type="body"/>
          </p:nvPr>
        </p:nvSpPr>
        <p:spPr>
          <a:xfrm>
            <a:off x="709200" y="4860720"/>
            <a:ext cx="568476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A90E21-62CD-45E7-99CA-3B081669C1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F7811-E6A5-4019-B1FE-E34A1F0F7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8699BF-797F-41AA-907F-A7C960C1F8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A9A9AD-87BC-4F56-8D66-20D887C033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1C5B3-65AA-4041-8036-57B08F601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9362E-63D3-4697-B10E-5DF589027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59B27-2772-41AF-8925-353486D11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7EAAC-CA9E-4627-B6D3-02E067C3F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38D4A-7DB8-4BB2-8C3D-099623C6A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40190-FAAF-4555-80B0-BDA752BEC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C5D86-C974-4076-8CA6-D97D44B28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BE2CC-05BC-4EFC-86FD-1B135D4B50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AF565-1ADC-4670-8ABD-8351926E835E}"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岩手県立水沢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000000"/>
                </a:solidFill>
                <a:latin typeface="ＭＳ Ｐゴシック"/>
              </a:rPr>
              <a:t>水高版ｳｴﾙﾋﾞｰｲﾝｸﾞの実現に向けて</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水沢高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４年度：０人、</a:t>
            </a:r>
            <a:r>
              <a:rPr b="0" lang="en-US" sz="1400" spc="-1" strike="noStrike">
                <a:solidFill>
                  <a:srgbClr val="000000"/>
                </a:solidFill>
                <a:latin typeface="Arial"/>
              </a:rPr>
              <a:t>R</a:t>
            </a:r>
            <a:r>
              <a:rPr b="0" lang="ja-JP" sz="1400" spc="-1" strike="noStrike">
                <a:solidFill>
                  <a:srgbClr val="000000"/>
                </a:solidFill>
                <a:latin typeface="Arial"/>
              </a:rPr>
              <a:t>５年度：０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４年度：</a:t>
            </a:r>
            <a:r>
              <a:rPr b="0" lang="en-US" sz="1400" spc="-1" strike="noStrike">
                <a:solidFill>
                  <a:srgbClr val="000000"/>
                </a:solidFill>
                <a:latin typeface="Arial"/>
              </a:rPr>
              <a:t>13.1</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13.7</a:t>
            </a:r>
            <a:r>
              <a:rPr b="0" lang="ja-JP" sz="1400" spc="-1" strike="noStrike">
                <a:solidFill>
                  <a:srgbClr val="000000"/>
                </a:solidFill>
                <a:latin typeface="Arial"/>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業務に対する熱心な取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平日の場合、定時退庁が難し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週末の部活指導時間が多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スクラップアンドビルドの視点を持って業務見直し等の対応を行っ</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8353440" y="9531360"/>
            <a:ext cx="495288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４月２３日　岩手県立水沢高等学校長　寒河江和広</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239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　教職員一人当たりの平均時間外在校等時間を</a:t>
            </a:r>
            <a:r>
              <a:rPr b="0" lang="en-US" sz="1400" spc="-1" strike="noStrike">
                <a:solidFill>
                  <a:srgbClr val="000000"/>
                </a:solidFill>
                <a:latin typeface="Arial"/>
              </a:rPr>
              <a:t>80</a:t>
            </a:r>
            <a:r>
              <a:rPr b="0" lang="ja-JP" sz="1400" spc="-1" strike="noStrike">
                <a:solidFill>
                  <a:srgbClr val="000000"/>
                </a:solidFill>
                <a:latin typeface="Arial"/>
              </a:rPr>
              <a:t>時間以下とす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　年次休暇の平均取得日数を</a:t>
            </a:r>
            <a:r>
              <a:rPr b="0" lang="en-US" sz="1400" spc="-1" strike="noStrike">
                <a:solidFill>
                  <a:srgbClr val="000000"/>
                </a:solidFill>
                <a:latin typeface="Arial"/>
              </a:rPr>
              <a:t>15</a:t>
            </a:r>
            <a:r>
              <a:rPr b="0" lang="ja-JP" sz="1400" spc="-1" strike="noStrike">
                <a:solidFill>
                  <a:srgbClr val="000000"/>
                </a:solidFill>
                <a:latin typeface="Arial"/>
              </a:rPr>
              <a:t>日以上にす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〇　必要な時に休める雰囲気を醸成す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〇　授業の準備に時間が取れるように、業務の平準化を目指す。</a:t>
            </a:r>
            <a:endParaRPr b="0" lang="en-US" sz="1400" spc="-1" strike="noStrike">
              <a:solidFill>
                <a:srgbClr val="000000"/>
              </a:solidFill>
              <a:latin typeface="Arial"/>
            </a:endParaRPr>
          </a:p>
        </p:txBody>
      </p:sp>
      <p:sp>
        <p:nvSpPr>
          <p:cNvPr id="58" name="Rectangle 70"/>
          <p:cNvSpPr/>
          <p:nvPr/>
        </p:nvSpPr>
        <p:spPr>
          <a:xfrm>
            <a:off x="7215120" y="3433680"/>
            <a:ext cx="559116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ワークライフバランスを意識した働き方を全教職員で意識し、仕事と私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生活を両立できていると感じられる職場となっ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質の高い教育が実践でき、生徒、保護者、教職員の満足度の向上を</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目指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メンタルヘルスについて全体で取り組む職場となっている。</a:t>
            </a:r>
            <a:endParaRPr b="0" lang="en-US" sz="14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アクションプランを学校の</a:t>
            </a:r>
            <a:r>
              <a:rPr b="0" lang="en-US" sz="1800" spc="-1" strike="noStrike">
                <a:solidFill>
                  <a:srgbClr val="000000"/>
                </a:solidFill>
                <a:latin typeface="Arial"/>
              </a:rPr>
              <a:t>HP</a:t>
            </a:r>
            <a:r>
              <a:rPr b="0" lang="ja-JP" sz="1800" spc="-1" strike="noStrike">
                <a:solidFill>
                  <a:srgbClr val="000000"/>
                </a:solidFill>
                <a:latin typeface="Arial"/>
              </a:rPr>
              <a:t>に掲載し、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ＰＴＡの会議等を通じて、保護者に対してアクションプランの内容の説明を行います。</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3078360"/>
        </p:xfrm>
        <a:graphic>
          <a:graphicData uri="http://schemas.openxmlformats.org/drawingml/2006/table">
            <a:tbl>
              <a:tblPr/>
              <a:tblGrid>
                <a:gridCol w="815760"/>
                <a:gridCol w="2016360"/>
                <a:gridCol w="8962920"/>
              </a:tblGrid>
              <a:tr h="91440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管理職が、メンタルヘルス対策について周知、呼びかけを行う。</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時間外在校等時間が８０時間以下となるよう、毎日の勤務時間に気を配り業務改善について相談に</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応じ、必要に応じて助言を行う。</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82224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すべての業務においてＩＣＴ化を進める。（紙によるアンケートの廃止、デジタル採点の導入、保護者　</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宛て文書のペーパーレス化など）</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授業における一人一台端末の活用を促進する。（課題の提示、回収）</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1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部活動における休養日の完全実施に取り組む。</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本来学校が行うべき業務の明確化を行い、その業務を保護者に対して周知し理解いただく。</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週２回の定時退庁の実施。</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全ての教職員において、年次休暇等の平均取得日数が増加する。</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切田　壮</cp:lastModifiedBy>
  <cp:lastPrinted>2024-04-24T01:22:13Z</cp:lastPrinted>
  <dcterms:modified xsi:type="dcterms:W3CDTF">2024-04-24T01:22:18Z</dcterms:modified>
  <cp:revision>985</cp:revision>
  <dc:subject/>
  <dc:title>スライド 1</dc:title>
</cp:coreProperties>
</file>