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2B795-99C0-454D-958F-5E40B10F331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688B-C915-4892-A68C-EB6BAAA83409}"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44E34-DE97-4D3A-83BC-12BB0D2E8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4D5CA-9772-45EC-9AB5-6E71A3F83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ABA26-B7F7-4395-BF57-C9B806659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B5E42-8BD6-4C18-8DCB-50BF582C9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ACEF5-87CF-4684-BE62-232477E2D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0808C-680B-43DF-87A4-5ADDDD29B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0B11A-590F-4FB6-A535-AEA340C93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42A0A-8EA5-4C75-9EEA-E951439BF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FA4C1-4D53-431B-9807-819FB44D1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CD222-3B40-4909-B920-7B4D005A9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B4A23-888C-4443-83E1-378A2E932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7CB4C-52EF-4271-B159-18783AB4F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E36F-EC57-4577-AA2F-FCC9B88C3CC6}"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久慈東高等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884160" y="1092240"/>
            <a:ext cx="1191276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久慈東高校では、「岩手県教職員働き方改革プラン（</a:t>
            </a:r>
            <a:r>
              <a:rPr b="0" lang="en-US" sz="1500" spc="-1" strike="noStrike">
                <a:solidFill>
                  <a:srgbClr val="000000"/>
                </a:solidFill>
                <a:latin typeface="Arial"/>
              </a:rPr>
              <a:t>2024</a:t>
            </a:r>
            <a:r>
              <a:rPr b="0" lang="ja-JP" sz="1500" spc="-1" strike="noStrike">
                <a:solidFill>
                  <a:srgbClr val="000000"/>
                </a:solidFill>
                <a:latin typeface="Arial"/>
              </a:rPr>
              <a:t>～</a:t>
            </a:r>
            <a:r>
              <a:rPr b="0" lang="en-US" sz="1500" spc="-1" strike="noStrike">
                <a:solidFill>
                  <a:srgbClr val="000000"/>
                </a:solidFill>
                <a:latin typeface="Arial"/>
              </a:rPr>
              <a:t>2026</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４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3.0</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3.9</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3.9</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当校で推進する定時退庁の取組が全教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496360" y="950760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５日　岩手県立久慈東高等学校長　村山薫美</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125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32</a:t>
            </a:r>
            <a:r>
              <a:rPr b="0" lang="ja-JP" sz="1600" spc="-1" strike="noStrike">
                <a:solidFill>
                  <a:srgbClr val="000000"/>
                </a:solidFill>
                <a:latin typeface="Arial"/>
              </a:rPr>
              <a:t>時間と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5</a:t>
            </a:r>
            <a:r>
              <a:rPr b="0" lang="ja-JP" sz="1600" spc="-1" strike="noStrike">
                <a:solidFill>
                  <a:srgbClr val="000000"/>
                </a:solidFill>
                <a:latin typeface="Arial"/>
              </a:rPr>
              <a:t>日にします。</a:t>
            </a:r>
            <a:endParaRPr b="0" lang="en-US" sz="1600" spc="-1" strike="noStrike">
              <a:solidFill>
                <a:srgbClr val="000000"/>
              </a:solidFill>
              <a:latin typeface="Arial"/>
            </a:endParaRPr>
          </a:p>
        </p:txBody>
      </p:sp>
      <p:sp>
        <p:nvSpPr>
          <p:cNvPr id="58" name="Rectangle 70"/>
          <p:cNvSpPr/>
          <p:nvPr/>
        </p:nvSpPr>
        <p:spPr>
          <a:xfrm>
            <a:off x="7215120" y="3270240"/>
            <a:ext cx="5591160" cy="16160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生徒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自己有用感を感じながら、互いに支え合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い、チームで業務に取り組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は、ワークライフバランスを実現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ホームページ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評議員・コンソーシアム会議等各種会議を通じて、地域・保護者に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休暇の取得や勤務の振替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a:t>
                      </a:r>
                      <a:r>
                        <a:rPr b="0" lang="en-US" sz="1800" spc="-1" strike="noStrike">
                          <a:solidFill>
                            <a:srgbClr val="000000"/>
                          </a:solidFill>
                          <a:latin typeface="ＭＳ Ｐゴシック"/>
                        </a:rPr>
                        <a:t>40</a:t>
                      </a:r>
                      <a:r>
                        <a:rPr b="0" lang="ja-JP" sz="1800" spc="-1" strike="noStrike">
                          <a:solidFill>
                            <a:srgbClr val="000000"/>
                          </a:solidFill>
                          <a:latin typeface="ＭＳ Ｐゴシック"/>
                        </a:rPr>
                        <a:t>時間超となった教職員に声掛けし、健康確保の観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点から、時間外在校時間の削減を促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前例にとらわれず、教育において真に必要かの観点から業務の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保護者への諸連絡は紙での配付を廃止し、ホームページやメールでの周知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公表を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部活動は、保護者や外部</a:t>
                      </a:r>
                      <a:r>
                        <a:rPr b="0" lang="en-US" sz="1800" spc="-1" strike="noStrike">
                          <a:solidFill>
                            <a:srgbClr val="000000"/>
                          </a:solidFill>
                          <a:latin typeface="ＭＳ Ｐゴシック"/>
                        </a:rPr>
                        <a:t>l</a:t>
                      </a:r>
                      <a:r>
                        <a:rPr b="0" lang="ja-JP" sz="1800" spc="-1" strike="noStrike">
                          <a:solidFill>
                            <a:srgbClr val="000000"/>
                          </a:solidFill>
                          <a:latin typeface="ＭＳ Ｐゴシック"/>
                        </a:rPr>
                        <a:t>コーチの協力をいただきながら顧問の負担を軽減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働き方改革チェックシートを活用し、教職員一人一人の業務改善に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努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菊池　淳</cp:lastModifiedBy>
  <cp:lastPrinted>2024-05-16T00:28:37Z</cp:lastPrinted>
  <dcterms:modified xsi:type="dcterms:W3CDTF">2024-05-16T00:34:53Z</dcterms:modified>
  <cp:revision>990</cp:revision>
  <dc:subject/>
  <dc:title>スライド 1</dc:title>
</cp:coreProperties>
</file>