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ED53-78AA-4908-A8E1-664A6C2176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1305-72D8-46E4-8605-5B1525DFA60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F329-B605-4942-9905-18308840F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37015-7EA8-44BD-930C-1468C0A63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FBB94-7499-41DF-B77A-0F75AA233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E423A-EC3F-4354-B3B9-645ADCFD1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33996-C83D-4FA1-850D-9552C482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1B4B-4268-404F-9787-BF4D835CB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764E-DEEE-4D94-A841-2843369C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DD35F-D76A-4DF3-BD09-77166D03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6BD9C-DC69-41C8-A55D-1F5FCFBF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DFEC-D96E-4479-9E44-BC17AF179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C5EF-26B0-4D1A-8640-84522DC83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4199-EB8C-482B-8E48-7F1112BE9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1116-73E8-49EC-B8DB-64B15E02A3C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雫石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点滴穿石」～</a:t>
            </a:r>
            <a:r>
              <a:rPr b="0" i="1" lang="ja-JP" sz="2000" spc="-1" strike="noStrike">
                <a:solidFill>
                  <a:srgbClr val="7f7f7f"/>
                </a:solidFill>
                <a:latin typeface="HGS創英角ｺﾞｼｯｸUB"/>
                <a:ea typeface="HGS創英角ｺﾞｼｯｸUB"/>
              </a:rPr>
              <a:t>小さな取り組みを積み重ね、幸せな職場を創る</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雫石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1.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のアクションプランの取組が全教職員に浸透しているもの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課外活動を担う教職員の時間外勤務が多くならざるをえ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退勤時刻を意識した働き方を推進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随時業務の効率化を図るための見直し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雫石高等学校長　菊池由美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8</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生き生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および学校通信「穿石」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機会を捉え、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193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暇・振替等の取得を促進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長時間勤務等により疲労の蓄積やストレスを感じている教職員への面談を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て心と体の健康状態の把握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や分掌業務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有効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54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連携活動については、役割分担を明確にし、業務内容の適正化を図るよう関係団体</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との協議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40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の外部対応についてシステム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2:51:04Z</cp:lastPrinted>
  <dcterms:modified xsi:type="dcterms:W3CDTF">2024-07-10T02:51:27Z</dcterms:modified>
  <cp:revision>986</cp:revision>
  <dc:subject/>
  <dc:title>スライド 1</dc:title>
</cp:coreProperties>
</file>