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8A4D-1039-437C-A294-7E8B4B7C3E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D68D-665D-4188-87B8-4CF9CD9D068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94F7B-9EDD-4FD7-82D6-B1962E1F2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FA44-7434-45EB-AD79-691429732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B44BA-8786-4E02-B7A1-BFA6A2CC5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0A7DB-C1D1-4C6A-914A-470425257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905A-00D3-4569-9B00-D7B92BB08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864CA-6906-4169-826D-DC16ABA04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4385B-85E5-450B-B4F5-7487494E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6F46-536A-418C-A7F8-89E41817D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6387-9438-446B-B842-2F031895D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E847-1A78-4267-BF1D-14B405DC1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ECBB-F687-45BE-92BC-B52A2A52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B4458-8DD5-473A-AAD6-507F7D30C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8EA7-EE7A-4754-9517-4500395C0ED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健康第一・教職員一人ひとりがいきいき働ける職場へ～</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63640" y="1101600"/>
            <a:ext cx="1231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北上翔南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4.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a:t>
            </a:r>
            <a:r>
              <a:rPr b="0" lang="ja-JP" sz="1400" spc="-1" strike="noStrike">
                <a:solidFill>
                  <a:srgbClr val="000000"/>
                </a:solidFill>
                <a:latin typeface="Arial"/>
              </a:rPr>
              <a:t>日</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0" lang="en-US" sz="1400" spc="-1" strike="noStrike">
                <a:solidFill>
                  <a:srgbClr val="000000"/>
                </a:solidFill>
                <a:latin typeface="Arial"/>
              </a:rPr>
              <a:t>IT</a:t>
            </a:r>
            <a:r>
              <a:rPr b="0" lang="ja-JP" sz="1400" spc="-1" strike="noStrike">
                <a:solidFill>
                  <a:srgbClr val="000000"/>
                </a:solidFill>
                <a:latin typeface="Arial"/>
              </a:rPr>
              <a:t>化推進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IT</a:t>
            </a:r>
            <a:r>
              <a:rPr b="0" lang="ja-JP" sz="1400" spc="-1" strike="noStrike">
                <a:solidFill>
                  <a:srgbClr val="000000"/>
                </a:solidFill>
                <a:latin typeface="Arial"/>
              </a:rPr>
              <a:t>化を推進し、スクラップアンドビルドの視点を持って業務見直し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a:t>
            </a:r>
            <a:r>
              <a:rPr b="0" lang="en-US" sz="1100" spc="-1" strike="noStrike">
                <a:solidFill>
                  <a:srgbClr val="000000"/>
                </a:solidFill>
                <a:latin typeface="Arial"/>
              </a:rPr>
              <a:t>22</a:t>
            </a:r>
            <a:r>
              <a:rPr b="0" lang="ja-JP" sz="1100" spc="-1" strike="noStrike">
                <a:solidFill>
                  <a:srgbClr val="000000"/>
                </a:solidFill>
                <a:latin typeface="Arial"/>
              </a:rPr>
              <a:t>日　岩手県立北上翔南高等学校長　千葉勝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25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月</a:t>
            </a:r>
            <a:r>
              <a:rPr b="0" lang="en-US" sz="1600" spc="-1" strike="noStrike">
                <a:solidFill>
                  <a:srgbClr val="000000"/>
                </a:solidFill>
                <a:latin typeface="Arial"/>
              </a:rPr>
              <a:t>30</a:t>
            </a:r>
            <a:r>
              <a:rPr b="0" lang="ja-JP" sz="1600" spc="-1" strike="noStrike">
                <a:solidFill>
                  <a:srgbClr val="000000"/>
                </a:solidFill>
                <a:latin typeface="Arial"/>
              </a:rPr>
              <a:t>時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297240"/>
            <a:ext cx="5591160" cy="1563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楽しいと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総会、学校運営協議会、学校連絡網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健康第一を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時間超となった教職員に声掛けし、健康確保の観点</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から、個別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二人担任制を導入し、業務の分散化を推進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連絡文書については、紙での配付を廃止し、ホームページやメールでの配付・</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部活動指導員等の協力をいただきながら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業務の見直し」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4-04-22T06:07:10Z</cp:lastPrinted>
  <dcterms:modified xsi:type="dcterms:W3CDTF">2024-04-23T00:24:26Z</dcterms:modified>
  <cp:revision>989</cp:revision>
  <dc:subject/>
  <dc:title>スライド 1</dc:title>
</cp:coreProperties>
</file>