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0425-B109-41EE-BF3E-FDB6F0BE04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8AF5-104D-4610-B1B5-1BF78441BEB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6E2FE-30B3-4F01-B228-1A362AC96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6AB8-55BD-44E8-8F2F-ACAB07AAD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4BFB5-4EB1-4C9A-A5D1-C193A6128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6885C-E87D-4660-BF8A-C2B218755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A73D-9F17-47AD-AF01-611ED8963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057A-4323-4950-BD23-8400DFAE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371D-AFCA-496E-9B33-2D4B790E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8166B-8C5B-44CA-85BC-8242A1DE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419F-F47B-4EC8-B188-478DD9DE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54DD-85AC-4F18-B695-8966ED96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AE25-8573-4C46-997E-D96EE6DDB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994A-A19E-4AD0-B7F3-E97386556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D0AE-4350-4030-8846-16D8EFD6C3D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コミュニケーションの活性化によるウェルビーイングの向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本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ja-JP" sz="1400" spc="-1" strike="noStrike">
                <a:solidFill>
                  <a:srgbClr val="000000"/>
                </a:solidFill>
                <a:latin typeface="Arial"/>
                <a:ea typeface="Arial"/>
              </a:rPr>
              <a:t>３</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Arial"/>
              </a:rPr>
              <a:t>14.1</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Arial"/>
                <a:ea typeface="Arial"/>
              </a:rPr>
              <a:t>13.0</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Arial"/>
              </a:rPr>
              <a:t>15.5</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チーム盛北」コミュニケーションを軸とした意識改革が進み、情報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共有や効率的な業務遂行を進んでいるが、自分自身の自由な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確保できている教職員が少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CT</a:t>
            </a:r>
            <a:r>
              <a:rPr b="0" lang="ja-JP" sz="1400" spc="-1" strike="noStrike">
                <a:solidFill>
                  <a:srgbClr val="000000"/>
                </a:solidFill>
                <a:latin typeface="Arial"/>
              </a:rPr>
              <a:t>機器を活用した業務の効率化や見える化を進め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5</a:t>
            </a:r>
            <a:r>
              <a:rPr b="0" lang="ja-JP" sz="1100" spc="-1" strike="noStrike">
                <a:solidFill>
                  <a:srgbClr val="000000"/>
                </a:solidFill>
                <a:latin typeface="Arial"/>
              </a:rPr>
              <a:t>日　盛岡北高等学校長　嶋　　　隆</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毎週水曜日を学校全体の定時退庁推奨日とし、教職員一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あたり月２回以上の定時退庁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の取得（１日単位で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の取得を推奨）、夏季休暇５日間取得</a:t>
            </a:r>
            <a:r>
              <a:rPr b="0" lang="en-US" sz="1600" spc="-1" strike="noStrike">
                <a:solidFill>
                  <a:srgbClr val="000000"/>
                </a:solidFill>
                <a:latin typeface="Arial"/>
              </a:rPr>
              <a:t>100</a:t>
            </a:r>
            <a:r>
              <a:rPr b="0" lang="ja-JP" sz="1600" spc="-1" strike="noStrike">
                <a:solidFill>
                  <a:srgbClr val="000000"/>
                </a:solidFill>
                <a:latin typeface="Arial"/>
              </a:rPr>
              <a:t>％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保護者・生徒・地域とのコミュニケーションを大切に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し、組織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業務への充実感を持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に掲載して地域・保護者に対してプランの内容を公開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等を取得しやすい環境づくりに努め、柔軟な働き方を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必要に応じて長時間勤務者に対し、産業医の保健指導やメンタルヘルス相談</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利用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務的な業務について、本来業務に時間が割けるよう業務の見直しや簡便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管データの整理・整頓を進め、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や会議、模擬試験等の運営を見直し、教員が担う業務の整理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協力体制をつくり、従事時間の縮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教職員一人一人の業務改善目標の設定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五十嵐　忠義</cp:lastModifiedBy>
  <cp:lastPrinted>2024-05-15T02:43:12Z</cp:lastPrinted>
  <dcterms:modified xsi:type="dcterms:W3CDTF">2024-05-15T02:49:20Z</dcterms:modified>
  <cp:revision>1002</cp:revision>
  <dc:subject/>
  <dc:title>スライド 1</dc:title>
</cp:coreProperties>
</file>