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C371-A1C0-4694-AACB-26093A7552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5F8-07CB-4E14-B20A-9EF52FE9830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67C-D45B-4A9D-AB74-036FCCDF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B00-D03D-4D55-AA4A-2DB688DE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C49-69BA-478A-9BA9-BE1AC6A4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FD5-1B4F-42F5-94E8-2AC9E957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FF2-1B3B-43D6-944E-0541C505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D26-DBA8-484F-B1D8-F322EE1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6DD-009E-4B03-8780-0ABBC22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D71-EDE3-4176-B878-8580E6CB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AD1-D696-4737-B8D4-C1101C3D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AD9-AD43-47EB-B525-B76BCF6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5C3-4C0B-4471-B4EE-71F0CF0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79D-5BE6-4FA1-8921-3023FAD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859-2F6B-44BF-9AE2-371552F41DF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気仙光陵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明るく　楽しく　元気よく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0328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（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度でもあった者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　　　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よりよい授業づくりの努力は惜しまないが、他業務のために時間が限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られている。また、時期により、業務が集中する職員が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から業務量の把握を行っており、可能なところ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業務分担の見直しや削減を図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気仙光陵支援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896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一人の時間外在校等時間が前年度を下回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改革の取組に対する教職員の肯定的評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068640"/>
            <a:ext cx="5591160" cy="17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の充実した学びが実現し、保護者も教育活動に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足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手応えを感じながら教育活動を行って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は、健康で、心が満たされる時間を生活の中で確保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において、プランを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において、プランを提示し、各委員より助言をいただ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職員室ごとに、月に一度のノー残業デーを確実に実施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、時間外在校等時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を超える教職員に声掛けをするとともに、業務状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を把握し、業務の割り振り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の内容の吟味、実施回数、ＩＣＴの活用、資料のデータ化などの検討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閉庁時の児童生徒の対応について、保護者、関係機関との連携、協力体制を図り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全教職員一斉の定時退庁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4-05-02T08:08:21Z</cp:lastPrinted>
  <dcterms:modified xsi:type="dcterms:W3CDTF">2024-05-02T09:19:16Z</dcterms:modified>
  <cp:revision>991</cp:revision>
  <dc:subject/>
  <dc:title>スライド 1</dc:title>
</cp:coreProperties>
</file>