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3083-5FC9-45A9-BA49-324569989FA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220B-3998-4766-A082-A70599DE824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C7F-074D-4086-94F6-D23CAE9D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32A-64E8-496E-BDC7-07E6970B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2D0-0B08-4D19-B28D-3E09860F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3A9-97D2-45DE-9477-5E2BA87A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DACF-4421-4DF5-A584-40BB0146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FC8-743A-4B4C-8C26-43EF7969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FAE-48D3-4DEC-8B28-884DFF4B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BF6-52AB-4299-8970-5A8F3FA7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844-08C3-4CEA-82D4-EA916970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CECA-EAF9-4036-BCB7-35837F58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0C1-B68A-441E-B203-331CEF34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ED4-56BE-4B83-875F-6CED7316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AD40-A463-4260-8604-E50E4CF13B59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岩谷堂高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健康で文化的な生活のために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792000" y="1101600"/>
            <a:ext cx="120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岩谷堂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０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０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１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１４．６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１５．０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１６．１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長時間の時間外勤務が常態化している教職員も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献身的に業務を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職員との面談を通して、業務見直し等の対応を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001080" y="9524880"/>
            <a:ext cx="4952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１４日　岩谷堂高等学校長　山影　稔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0825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時間外在校等時間が月８０時間以上の者を０人にすること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 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平均取得日数を１７日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290760"/>
            <a:ext cx="5591160" cy="1570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こどもたちへの質の高い教育を持続的に提供し得る観点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ら働き方の見直しについて職員全体で考え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授業や授業準備に集中できている。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業務にやりがいを感じ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自身や家庭の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会議等を通じて教職員にも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のｎｏｔｅ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通じて、地域・保護者に対してプランの内容を紹介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5596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年次休暇取得について積極的に呼びかけ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週１回以上の定時退庁の取組を実施し、教職員の健康を確保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分掌組織や部活動の見直しを図り、業務の効率化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学校行事や業務のスリム化を図り、ゆとりのある学校運営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年度途中においても分掌内の役割分担を見直し、業務の平準化を目指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働き方改革の取組について、ｎｏｔｅ等を活用して保護者や地域の方に周知を行います。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14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月の時間外在校等時間を月頭（先月分）と月途中の分を職員に知らせることで、在校等時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間が長い教職員に声掛けし、健康確保の観点から、在校時間短縮の方策を検討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、留守番電話の運用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々木　直人</cp:lastModifiedBy>
  <cp:lastPrinted>2024-05-09T05:41:08Z</cp:lastPrinted>
  <dcterms:modified xsi:type="dcterms:W3CDTF">2024-05-10T04:49:57Z</dcterms:modified>
  <cp:revision>996</cp:revision>
  <dc:subject/>
  <dc:title>スライド 1</dc:title>
</cp:coreProperties>
</file>