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70360" cy="4968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96760" y="744120"/>
            <a:ext cx="5064480" cy="373068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4360" y="4724280"/>
            <a:ext cx="5489280" cy="44769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6760"/>
            <a:ext cx="2970360" cy="4971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84B0-9E99-4814-8351-DB10B2487E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9447120"/>
            <a:ext cx="2971800" cy="4971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5526-9A41-497C-AFBF-50DE2C022672}"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96760" y="744480"/>
            <a:ext cx="5064480" cy="3730680"/>
          </a:xfrm>
          <a:prstGeom prst="rect">
            <a:avLst/>
          </a:prstGeom>
          <a:ln w="0">
            <a:noFill/>
          </a:ln>
        </p:spPr>
      </p:sp>
      <p:sp>
        <p:nvSpPr>
          <p:cNvPr id="65" name="PlaceHolder 2"/>
          <p:cNvSpPr>
            <a:spLocks noGrp="1"/>
          </p:cNvSpPr>
          <p:nvPr>
            <p:ph type="body"/>
          </p:nvPr>
        </p:nvSpPr>
        <p:spPr>
          <a:xfrm>
            <a:off x="684360" y="4724280"/>
            <a:ext cx="5489280" cy="44769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E83E5-0AFC-48B4-A2BE-118D4022E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F1E3A-FB97-4A74-8360-1304254BF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E81C7-A789-4A3B-AB7C-AE0C93EAC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19ED9-B80B-4AED-A1EF-C862D32EC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994EF-400A-4E6C-9B78-3D097A78E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3A22E-A043-4F5B-A576-602ED8774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B8256-DB8A-495F-AFC7-0EE269475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E7571-6F9D-44DA-B0A1-88A463407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50C8F-6AF6-49F4-952E-A4C4E95F2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3408E-C813-43AD-98A7-F3CF53B60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03E2E-8FBC-4337-BCE1-31F9C39AC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8E092-F53D-4DE0-BEBF-6E5A526DC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BFFA-E68F-415E-9E47-320CD75043C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63972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花巻南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314360"/>
            <a:ext cx="5473440" cy="33192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15920" y="4937040"/>
            <a:ext cx="1178424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152360" y="973080"/>
            <a:ext cx="119127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花巻南高等学校で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644480"/>
            <a:ext cx="5479920" cy="3149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１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5.5</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ＩＣＴ等を活用し、効果的で効率的な業務の実現に取り組んで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時間外勤務が長時間化している教職員が固定化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699400" y="9532800"/>
            <a:ext cx="49532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6</a:t>
            </a:r>
            <a:r>
              <a:rPr b="0" lang="ja-JP" sz="1100" spc="-1" strike="noStrike">
                <a:solidFill>
                  <a:srgbClr val="000000"/>
                </a:solidFill>
                <a:latin typeface="Arial"/>
              </a:rPr>
              <a:t>日　花巻南高等学校長　横坂　貴</a:t>
            </a:r>
            <a:endParaRPr b="0" lang="en-US" sz="1100" spc="-1" strike="noStrike">
              <a:solidFill>
                <a:srgbClr val="000000"/>
              </a:solidFill>
              <a:latin typeface="Arial"/>
            </a:endParaRPr>
          </a:p>
        </p:txBody>
      </p:sp>
      <p:sp>
        <p:nvSpPr>
          <p:cNvPr id="55" name="Rectangle 70"/>
          <p:cNvSpPr/>
          <p:nvPr/>
        </p:nvSpPr>
        <p:spPr>
          <a:xfrm>
            <a:off x="7191360" y="130176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09000" y="2031840"/>
            <a:ext cx="5603760" cy="1108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0</a:t>
            </a:r>
            <a:r>
              <a:rPr b="0" lang="ja-JP" sz="1600" spc="-1" strike="noStrike">
                <a:solidFill>
                  <a:srgbClr val="000000"/>
                </a:solidFill>
                <a:latin typeface="Arial"/>
              </a:rPr>
              <a:t>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6</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09000" y="3139920"/>
            <a:ext cx="5591160" cy="1654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やりがいを感じながら業務に取り組ん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PT</a:t>
            </a:r>
            <a:r>
              <a:rPr b="0" lang="ja-JP" sz="1800" spc="-1" strike="noStrike">
                <a:solidFill>
                  <a:srgbClr val="000000"/>
                </a:solidFill>
                <a:latin typeface="Arial"/>
              </a:rPr>
              <a:t>Ａ、同窓会、学校運営協議会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356080"/>
          <a:ext cx="11795040" cy="31705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等の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大会や遠征等が続き、月の時間外在校等時間が</a:t>
                      </a:r>
                      <a:r>
                        <a:rPr b="0" lang="en-US" sz="1800" spc="-1" strike="noStrike">
                          <a:solidFill>
                            <a:srgbClr val="000000"/>
                          </a:solidFill>
                          <a:latin typeface="ＭＳ Ｐゴシック"/>
                        </a:rPr>
                        <a:t>80</a:t>
                      </a:r>
                      <a:r>
                        <a:rPr b="0" lang="ja-JP" sz="1800" spc="-1" strike="noStrike">
                          <a:solidFill>
                            <a:srgbClr val="000000"/>
                          </a:solidFill>
                          <a:latin typeface="ＭＳ Ｐゴシック"/>
                        </a:rPr>
                        <a:t>時間を超えることが見込まれる教職</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員には健康確保の観点から、大会後の計画的な休養を勧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採点ソフトを導入するなど、業務の効率化を進め、負担軽減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保護者への通知については紙での配付を減らし、メール等での配付・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同窓生に理解いただき、</a:t>
                      </a:r>
                      <a:r>
                        <a:rPr b="0" lang="en-US" sz="1800" spc="-1" strike="noStrike">
                          <a:solidFill>
                            <a:srgbClr val="000000"/>
                          </a:solidFill>
                          <a:latin typeface="ＭＳ Ｐゴシック"/>
                        </a:rPr>
                        <a:t>PT</a:t>
                      </a:r>
                      <a:r>
                        <a:rPr b="0" lang="ja-JP" sz="1800" spc="-1" strike="noStrike">
                          <a:solidFill>
                            <a:srgbClr val="000000"/>
                          </a:solidFill>
                          <a:latin typeface="ＭＳ Ｐゴシック"/>
                        </a:rPr>
                        <a:t>Ａや同窓会等の業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の見直し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本県の部活動休養日及び活動時間の基準を遵守し、部活動指導の負担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外部団体との連携による業務の軽減及び効率化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35920" y="171936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横坂　貴</cp:lastModifiedBy>
  <cp:lastPrinted>2024-05-16T04:44:01Z</cp:lastPrinted>
  <dcterms:modified xsi:type="dcterms:W3CDTF">2024-05-16T06:27:41Z</dcterms:modified>
  <cp:revision>988</cp:revision>
  <dc:subject/>
  <dc:title>スライド 1</dc:title>
</cp:coreProperties>
</file>