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3C5F-C9D8-411F-82CA-04BD47D836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3587-0EA5-473A-80E1-697D7DD6214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4800" y="744480"/>
            <a:ext cx="5057640" cy="3727440"/>
          </a:xfrm>
          <a:prstGeom prst="rect">
            <a:avLst/>
          </a:prstGeom>
          <a:ln w="0">
            <a:noFill/>
          </a:ln>
        </p:spPr>
      </p:sp>
      <p:sp>
        <p:nvSpPr>
          <p:cNvPr id="6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41C24-E5B9-4B0D-B172-059F0BF86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9FA3-D6F4-422F-837F-77871E39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C553D-7766-43BF-9FCB-AF792DDF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B514C-6E29-4432-85F8-BBDE0B5C3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97426-A2B4-4516-B86D-97A8162E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90182-A2BD-4158-987D-3810A2375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A729-8111-49ED-807B-F52A7264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DCD8-5806-4F33-99A5-562F175F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3C1E-31E3-44D5-ACB2-94532941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8215-5EEF-46A1-951C-805A31AA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5FF0-3F05-4732-911F-0E0100BF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4EF2-C1E2-43BC-9B5E-7C97C1FA5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D3B4-B604-4CAE-A6A5-4365F9B32A7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通信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通信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３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7</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年間</a:t>
            </a:r>
            <a:r>
              <a:rPr b="0" lang="en-US" sz="1400" spc="-1" strike="noStrike">
                <a:solidFill>
                  <a:srgbClr val="000000"/>
                </a:solidFill>
                <a:latin typeface="Arial"/>
              </a:rPr>
              <a:t>1000</a:t>
            </a:r>
            <a:r>
              <a:rPr b="0" lang="ja-JP" sz="1400" spc="-1" strike="noStrike">
                <a:solidFill>
                  <a:srgbClr val="000000"/>
                </a:solidFill>
                <a:latin typeface="Arial"/>
              </a:rPr>
              <a:t>枚を超えるレポート点検や</a:t>
            </a:r>
            <a:r>
              <a:rPr b="0" lang="en-US" sz="1400" spc="-1" strike="noStrike">
                <a:solidFill>
                  <a:srgbClr val="000000"/>
                </a:solidFill>
                <a:latin typeface="Arial"/>
              </a:rPr>
              <a:t>MJP</a:t>
            </a:r>
            <a:r>
              <a:rPr b="0" lang="ja-JP" sz="1400" spc="-1" strike="noStrike">
                <a:solidFill>
                  <a:srgbClr val="000000"/>
                </a:solidFill>
                <a:latin typeface="Arial"/>
              </a:rPr>
              <a:t>への出向等により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年次組織がよく機能し成果を上げている」「時間外在校時間の縮減に努め、働き方改革・業務改善に取り組んで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F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の積極的活用、児童相談所、福祉施設など、外部と連携して生徒を支援する態勢を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844280" y="8272440"/>
            <a:ext cx="1011240" cy="1346400"/>
          </a:xfrm>
          <a:prstGeom prst="rect">
            <a:avLst/>
          </a:prstGeom>
          <a:ln w="0">
            <a:noFill/>
          </a:ln>
        </p:spPr>
      </p:pic>
      <p:pic>
        <p:nvPicPr>
          <p:cNvPr id="64" name="図 4" descr=""/>
          <p:cNvPicPr/>
          <p:nvPr/>
        </p:nvPicPr>
        <p:blipFill>
          <a:blip r:embed="rId2"/>
          <a:stretch/>
        </p:blipFill>
        <p:spPr>
          <a:xfrm>
            <a:off x="11595240" y="8856720"/>
            <a:ext cx="1127160" cy="6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田　早苗</cp:lastModifiedBy>
  <cp:lastPrinted>2024-04-10T04:27:27Z</cp:lastPrinted>
  <dcterms:modified xsi:type="dcterms:W3CDTF">2024-05-01T04:45:34Z</dcterms:modified>
  <cp:revision>994</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