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A5E5-8CC2-46E6-A9F9-1C28569319A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1AD9-C19B-48C6-A7F3-258E2F8688F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239-FD5B-445A-B52D-248614E9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89B-7007-46BD-B37E-C140E375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71D-E75E-4797-973D-4C094C2D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798-EDF8-4E4A-8574-67A1F559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D9C-F004-4ABD-BF49-3976A383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69B-5AF4-4AA3-8900-3E2B8F93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E1F-A1FE-4311-9E58-E820445A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576-932B-4677-B3CE-847DA435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A01-D62E-4C41-ACCF-E2E036C8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D6E-EE9C-431A-A68D-E2B1C868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93D-8EDF-425C-AE17-4AAF6061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6B8-A576-4EC6-8EED-4520A79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2EAE-56AE-4CC2-9FE3-FBF16C038F7A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一関清明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明るく働きやすい職場づくり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576360" y="1101600"/>
            <a:ext cx="126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一関清明支援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前プランの期間を通し、月８０時間超の職員ゼ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の職員は毎年その前年度から半減。年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の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員も年ごとに減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本校の特徴による課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四障がい種に対応し、多様な児童生徒が在籍しているため、職員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間の打合せや研修、授業準備等に時間が必要な状況があ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２校舎３分教室の連携を図るため、職員間の連絡調整が欠かせず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日々の業務が増え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施錠時間を意識した業務推進が行わ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361440" y="9524880"/>
            <a:ext cx="34560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●日　一関清明支援学校長　外舘　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時間外在校等時間が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超の職員、年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超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職員を前年度から減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「教職員が意思疎通を図りながら働きやすい職場環境の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備に努めている」教職員の割合が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パーセント以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児童生徒が楽しく学ぶ学校環境づくりを実現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やりがいをもち、有用感を感じながら働く職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お互いにコミュニケーションを取り、助け合える職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管理職が教職員に目を配り、教職員が安心して働ける職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職員会議で周知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周知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は職員の勤務時間外状況を把握し、面談等を通し、職員の健康管理に努め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時間外在校等時間が月の途中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時間超となった職員に声掛けし、業務の状況を確認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したり、面談をしたり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、職員ともに引き続き校内業務の見直し、改善に努め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デスクネッツ回議やオンライン会議を推奨、推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関係団体に係る教職員の業務内容の検討を進め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地域の特別支援教育推進に係る業務について、関係機関との協議を進め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毎月の衛生委員会・職員会議で、前の月の学部・分教室ごとのタイムカード集計結果を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表し、勤務時間への意識をより高められるように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安久都　靖</cp:lastModifiedBy>
  <cp:lastPrinted>2024-05-01T04:34:58Z</cp:lastPrinted>
  <dcterms:modified xsi:type="dcterms:W3CDTF">2024-05-01T06:09:12Z</dcterms:modified>
  <cp:revision>987</cp:revision>
  <dc:subject/>
  <dc:title>スライド 1</dc:title>
</cp:coreProperties>
</file>