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75A2-8D9D-4259-9611-1D70C2EDD3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8EAA-4FD5-4073-8F6E-C6420E51B25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B6CCC-7EF0-4CFE-A6CF-1C1A0FFF8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09EF3-E7F3-43D0-8521-2C07F3801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8E239-E473-46F0-AA69-D58EC0B8E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02C66-51DB-4965-84ED-1CB592A41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227C0-1930-47BB-B503-FD7BF19CF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DA96B-1951-49FC-8E92-31199263F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8F4BB-8047-41DC-8889-5EFC212A7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4BE56-BFC7-4F1B-945E-8C8D02AAA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93E24-D359-44B8-AE37-E1EEA1330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0FFE5-D4FA-48B3-BF3B-8580B13C5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91CAD-8630-4C91-8B01-D4927903E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C53B6-DED9-4B3D-A75A-442A89D2E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DBB6-348B-45D7-AA15-7433CF24558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前沢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前沢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４年：</a:t>
            </a:r>
            <a:r>
              <a:rPr b="0" lang="en-US" sz="1400" spc="-1" strike="noStrike">
                <a:solidFill>
                  <a:srgbClr val="000000"/>
                </a:solidFill>
                <a:latin typeface="Arial"/>
              </a:rPr>
              <a:t>14.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a:t>
            </a:r>
            <a:r>
              <a:rPr b="0" lang="en-US" sz="1400" spc="-1" strike="noStrike">
                <a:solidFill>
                  <a:srgbClr val="000000"/>
                </a:solidFill>
                <a:latin typeface="Arial"/>
              </a:rPr>
              <a:t>16.1</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週末の大会引率等の振替取得が難し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７日　前沢高等学校長　佐藤文子</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教職員一人当たりの平均時間外在校等時間を</a:t>
            </a:r>
            <a:r>
              <a:rPr b="0" lang="en-US" sz="1400" spc="-1" strike="noStrike">
                <a:solidFill>
                  <a:srgbClr val="000000"/>
                </a:solidFill>
                <a:latin typeface="Arial"/>
              </a:rPr>
              <a:t>45</a:t>
            </a:r>
            <a:r>
              <a:rPr b="0" lang="ja-JP" sz="1400" spc="-1" strike="noStrike">
                <a:solidFill>
                  <a:srgbClr val="000000"/>
                </a:solidFill>
                <a:latin typeface="Arial"/>
              </a:rPr>
              <a:t>時間とすること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目指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年次休暇の平均取得日数を</a:t>
            </a:r>
            <a:r>
              <a:rPr b="0" lang="en-US" sz="1400" spc="-1" strike="noStrike">
                <a:solidFill>
                  <a:srgbClr val="000000"/>
                </a:solidFill>
                <a:latin typeface="Arial"/>
              </a:rPr>
              <a:t>17</a:t>
            </a:r>
            <a:r>
              <a:rPr b="0" lang="ja-JP" sz="1400" spc="-1" strike="noStrike">
                <a:solidFill>
                  <a:srgbClr val="000000"/>
                </a:solidFill>
                <a:latin typeface="Arial"/>
              </a:rPr>
              <a:t>日以上にします。</a:t>
            </a: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質の高い教育を持続的提供のため、授業準備の時間を十分に確保</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一人一人が、働きがいを感じながら業務に取り組んで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が、家庭のための時間や自由時間を確保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が、健康でいきいきと業務をおこなっ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a:t>
            </a:r>
            <a:r>
              <a:rPr b="0" lang="ja-JP" sz="1600" spc="-1" strike="noStrike">
                <a:solidFill>
                  <a:srgbClr val="000000"/>
                </a:solidFill>
                <a:latin typeface="Arial"/>
              </a:rPr>
              <a:t>アクションプランを学校の</a:t>
            </a:r>
            <a:r>
              <a:rPr b="0" lang="en-US" sz="1600" spc="-1" strike="noStrike">
                <a:solidFill>
                  <a:srgbClr val="000000"/>
                </a:solidFill>
                <a:latin typeface="Arial"/>
              </a:rPr>
              <a:t>HP</a:t>
            </a:r>
            <a:r>
              <a:rPr b="0" lang="ja-JP" sz="1600" spc="-1" strike="noStrike">
                <a:solidFill>
                  <a:srgbClr val="000000"/>
                </a:solidFill>
                <a:latin typeface="Arial"/>
              </a:rPr>
              <a:t>に掲載し、地域・保護者に働き方改革の理解醸成を促進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　会議等を通じて教職員にも周知する。</a:t>
            </a:r>
            <a:endParaRPr b="0" lang="en-US" sz="16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が、メンタルヘルス対策について呼びかけ等の取組を行う。</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休日の部活動従事日が月途中で３日超となった教職員に声掛けし、健康確保の観点から、計画的な</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休暇取得等を促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各業務において、ＩＣＴの積極的な活用を進める。（ペーパーレス化等）</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職員定数減による負担増加にならないよう、業務内容の精査を進める。</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働き方改革の取組について、保護者や地域の方に理解いただけるよう情報発信をする。</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課外や部活動等については、外部人材を積極的に活用する。</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ノー残業デーの実施。</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全教職員が年次休暇等の取得日数を増加させる。</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藤　文子</cp:lastModifiedBy>
  <cp:lastPrinted>2024-05-02T06:05:58Z</cp:lastPrinted>
  <dcterms:modified xsi:type="dcterms:W3CDTF">2024-05-07T04:35:33Z</dcterms:modified>
  <cp:revision>983</cp:revision>
  <dc:subject/>
  <dc:title>スライド 1</dc:title>
</cp:coreProperties>
</file>