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4440" y="744480"/>
            <a:ext cx="505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8046-59EB-4418-BE52-2F33646719F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9E00-7C95-4239-BA0B-FD655FBDEA08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74800" y="744480"/>
            <a:ext cx="5057640" cy="37274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8584-C4C3-4C46-B51F-CADA0D55C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ECD4-8C55-4B81-9E6E-3998421F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C5C5-26A1-48D8-BCB1-F761624D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30BE-6AB2-4677-9FA8-B7746A5F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8B73-011A-46F9-BD0D-FF5713E6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AD4F-B1E1-424F-94CA-BCFACBA5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F993-30DA-4258-8DD8-497B9F62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96BF-B8FC-4A2A-BB67-5182EF55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ACC6-A542-435F-8801-CBB9D475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FF44-8455-489B-95DC-035C4B33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2178-6D89-48EA-95B1-CEDAEB1C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43EC-46F4-457C-9BCE-0E4EC29E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FB15-D385-4CD5-9A88-04E6F7CA7A0C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６年度　花北青雲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22400" y="4916520"/>
            <a:ext cx="11783880" cy="39204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３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2"/>
          <p:cNvSpPr/>
          <p:nvPr/>
        </p:nvSpPr>
        <p:spPr>
          <a:xfrm>
            <a:off x="592200" y="1133640"/>
            <a:ext cx="127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花北青雲高等学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1657440"/>
            <a:ext cx="5473440" cy="32288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量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目標達成状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外在校等時間が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以上の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４年度：０人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５年度：０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次休暇の取得状況について（年間一人当たりの平均取得日数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４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.8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５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.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性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教職員の意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部活動に意欲的に取り組む生徒・職員が多いため、週休日及び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日の部活動指導の時間が多くなっ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退庁時間後も業務を続けている。仕事量の均一化は容易では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管理職のマネジメン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副担任２人制を用い、全教職員で学級運営に携わり担任の負担を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軽減する対応を行っ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正方形/長方形 2"/>
          <p:cNvSpPr/>
          <p:nvPr/>
        </p:nvSpPr>
        <p:spPr>
          <a:xfrm>
            <a:off x="8569440" y="9555120"/>
            <a:ext cx="4952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６年５月１０日　岩手県立花北青雲高等学校長　小松　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7191360" y="1440000"/>
            <a:ext cx="5626080" cy="37296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右矢印 1"/>
          <p:cNvSpPr/>
          <p:nvPr/>
        </p:nvSpPr>
        <p:spPr>
          <a:xfrm>
            <a:off x="6576840" y="2263680"/>
            <a:ext cx="614520" cy="16509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7213680" y="2165400"/>
            <a:ext cx="5603760" cy="11253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学校独自の目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教職員の時間外在校時間が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時間以上の者をゼロに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ることを目指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年次休暇の平均取得日数を１５日とすることを目指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15120" y="3297240"/>
            <a:ext cx="5591160" cy="15638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一人ひとりが、心に余裕をもち、生徒と向き合い丁寧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な指導を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管理職が日頃から教職員に対し、休暇取得や定時退庁の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がけを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が、家庭のための時間や自由時間を確保でき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1011240" y="8523360"/>
            <a:ext cx="11806200" cy="33804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４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アクションプランの周知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1022400" y="8861400"/>
            <a:ext cx="11795040" cy="6634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　プランを学校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掲載し、地域・保護者に対して周知するとともに、教職員には会議等で呼びかけ、確認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　学校運営協議会等を通じて、地域・委員の方に対してプランの内容の説明を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022400" y="5308560"/>
          <a:ext cx="11795040" cy="3264120"/>
        </p:xfrm>
        <a:graphic>
          <a:graphicData uri="http://schemas.openxmlformats.org/drawingml/2006/table">
            <a:tbl>
              <a:tblPr/>
              <a:tblGrid>
                <a:gridCol w="815760"/>
                <a:gridCol w="2016360"/>
                <a:gridCol w="8962920"/>
              </a:tblGrid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1</a:t>
                      </a: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教職員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健康管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管理職が、休暇取得について積極的に呼びかけを行い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月の時間外在校等時間が月途中で４０時間超となった教職員に声掛けをし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２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学校におけ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改善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欠席・遅刻の把握や学校行事等のお知らせは、一斉メールを活用し、教職員や保護者の連絡時間の　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　負担を軽減し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部活動の休養日を月に１回以上は週休日に設定し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HP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でお知らせし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69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３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の明確化・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適正化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働き方改革の取組について、保護者や地域の方に理解いただけるよう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HP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にアクションプランを掲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　し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休日の部活動については、顧問間で分担したり外部コーチ等の協力をいただきながら指導にあたり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　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令和６年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重点取組事項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令和６年度から新たに「週休日の振替」を積極的に活用し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1" name="テキスト ボックス 2"/>
          <p:cNvSpPr/>
          <p:nvPr/>
        </p:nvSpPr>
        <p:spPr>
          <a:xfrm>
            <a:off x="7191360" y="1819440"/>
            <a:ext cx="57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県の働き方改革プランの目標を前提に、以下の目標を設定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小原　桂</cp:lastModifiedBy>
  <cp:lastPrinted>2024-05-09T07:17:45Z</cp:lastPrinted>
  <dcterms:modified xsi:type="dcterms:W3CDTF">2024-05-10T03:13:57Z</dcterms:modified>
  <cp:revision>988</cp:revision>
  <dc:subject/>
  <dc:title>スライド 1</dc:title>
</cp:coreProperties>
</file>