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0638-4407-4EA5-A60F-414370E57A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6628-7D3E-4FB2-8D1B-AB8E091528E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F02C1-7760-45D7-99AD-B9C69122F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C7D4-9C63-4534-9B69-450631BB4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4F869-BEFA-481E-BF1D-1E6B669DC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3662F-B44A-44F7-946F-DBEAC5F06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5B89-3764-40C5-A77E-11EA70F5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5D812-2D7D-4347-9E47-B98E6962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E9370-4E3A-4030-A129-FB700D51E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3580B-5059-43DD-BFAE-C48877C73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F8B47-4A49-47DE-B159-92D19432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F7BC-1589-4B94-9468-D936B2A8B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B4B0-931E-4C30-AAFA-EDCD43C81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D4F9-D12C-486F-8B37-DC93403A0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23C2-6D10-4BDF-88AD-9A1603C73DE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大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持続可能」な働き方を目指して</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71720" y="1069920"/>
            <a:ext cx="1162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大野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少ない教職員数で分担し、各自が多様な業務に取り組んでお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負担を感じている教職員が少なく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慣例の見直しを軸とした業務のスクラップアンドビルド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742240" y="9540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大野高等学校長　千葉　美春</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11400"/>
            <a:ext cx="5604120" cy="1057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学校独自の目標</a:t>
            </a:r>
            <a:r>
              <a:rPr b="0" lang="en-US"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　時間外在校等時間（週休日の部活動従事時間を除く）が、</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年</a:t>
            </a:r>
            <a:r>
              <a:rPr b="0" lang="en-US" sz="1500" spc="-1" strike="noStrike">
                <a:solidFill>
                  <a:srgbClr val="000000"/>
                </a:solidFill>
                <a:latin typeface="Arial"/>
              </a:rPr>
              <a:t>300</a:t>
            </a:r>
            <a:r>
              <a:rPr b="0" lang="ja-JP" sz="1500" spc="-1" strike="noStrike">
                <a:solidFill>
                  <a:srgbClr val="000000"/>
                </a:solidFill>
                <a:latin typeface="Arial"/>
              </a:rPr>
              <a:t>時間超の教職員ゼロ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　年次休暇の取得日数を全職員が</a:t>
            </a:r>
            <a:r>
              <a:rPr b="0" lang="en-US" sz="1500" spc="-1" strike="noStrike">
                <a:solidFill>
                  <a:srgbClr val="000000"/>
                </a:solidFill>
                <a:latin typeface="Arial"/>
              </a:rPr>
              <a:t>10</a:t>
            </a:r>
            <a:r>
              <a:rPr b="0" lang="ja-JP" sz="1500" spc="-1" strike="noStrike">
                <a:solidFill>
                  <a:srgbClr val="000000"/>
                </a:solidFill>
                <a:latin typeface="Arial"/>
              </a:rPr>
              <a:t>日以上にします。</a:t>
            </a:r>
            <a:endParaRPr b="0" lang="en-US" sz="1500" spc="-1" strike="noStrike">
              <a:solidFill>
                <a:srgbClr val="000000"/>
              </a:solidFill>
              <a:latin typeface="Arial"/>
            </a:endParaRPr>
          </a:p>
        </p:txBody>
      </p:sp>
      <p:sp>
        <p:nvSpPr>
          <p:cNvPr id="58" name="Rectangle 70"/>
          <p:cNvSpPr/>
          <p:nvPr/>
        </p:nvSpPr>
        <p:spPr>
          <a:xfrm>
            <a:off x="7215120" y="3228840"/>
            <a:ext cx="559116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目指す姿</a:t>
            </a:r>
            <a:r>
              <a:rPr b="0" lang="en-US" sz="1500" spc="-1" strike="noStrike">
                <a:solidFill>
                  <a:srgbClr val="000000"/>
                </a:solidFill>
                <a:latin typeface="Arial"/>
              </a:rPr>
              <a:t>】</a:t>
            </a:r>
            <a:r>
              <a:rPr b="0" lang="ja-JP"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教職員一人ひとりが、やりがいを感じながら業務に取り組んで</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お互いの業務を理解・サポートし合いながら、更なる業務改善に</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取り組んで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ワークライフバランスをとりながら、ゆとりと思いやりを持って同僚</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や生徒に接している。</a:t>
            </a:r>
            <a:endParaRPr b="0" lang="en-US" sz="15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通信を通じて、地域・保護者に対して周知し、理解を求め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や振替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産業医の保健指導やメンタルヘルス相談等の活用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種行事等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外部機関を積極的に活用し、教職員の負担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主任間で業務内容、進捗状況を確認し、業務の見える化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やＰＴＡ、同窓会等との連携を図り、協力を求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ノー残業デー」（平日のうちのいずれか１日を各自設定）に取り</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美春</cp:lastModifiedBy>
  <cp:lastPrinted>2024-05-10T06:46:16Z</cp:lastPrinted>
  <dcterms:modified xsi:type="dcterms:W3CDTF">2024-05-16T00:31:35Z</dcterms:modified>
  <cp:revision>991</cp:revision>
  <dc:subject/>
  <dc:title>スライド 1</dc:title>
</cp:coreProperties>
</file>