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B791-D885-4CC1-AACB-2A7F638A08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C934-B76E-4285-B4BA-873E56C7E9D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28F-1444-4AA5-A3DF-D081C1E4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070-5BC8-416B-922A-CB69FDC3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116-5C20-4776-AD61-F612D31A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1B5-4A0B-49B0-9D5A-72D01290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411-EDC0-40B1-A662-296CE9E8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147-433A-465C-B56B-EFC72A80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EE6-F1B8-476B-AABB-9D34250C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3CA-F59F-4F01-8130-A28971E6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F0C-27BC-4EBA-A617-A54F81D8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197-8C68-4E4B-9453-CFC8CF2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900-DBAA-4C75-BF62-FD73C08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14D-186E-4EE1-8C39-5AA581C3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5DBE-9B73-4D51-AA6F-6603588BDB0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岩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魅力ある職場と健康的な生活をめざして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岩泉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か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ゼ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9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本校で推進する「早く帰る日」の取組がまだ浸透し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特定の部活動顧問に負担が集中しがちであ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面談等によって業務の進捗状況や負担等を把握し、業務内容の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理や振分等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８日　岩泉高等学校長　岩渕　雅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平均時間外在校等時間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と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授業準備にしっかりと時間を確保し、質の高い教育を持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に提供し得る観点から働き方の見直しが図られ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、活力を感じながら業務に取り組んで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の内容を、職員会議等を通じて教職員に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地域回覧板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総会等を通じ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１時間単位の年次休暇取得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途中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超となった教職員に声掛けし、健康確保の観点から、管理職による面談や業務推進に係る助言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長期休業中の課外授業について、実施内容の精選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部活動指導を複数顧問によって交代で行い、他業務の遂行に要する時間を確保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教員の本来業務以外のものについては、積極的に地域・保護者等へ協力を要請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個々の役割分担を常に見直し、柔軟な発想によって適正化および合理化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会議時間の短縮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岩渕　雅明</cp:lastModifiedBy>
  <cp:lastPrinted>2024-05-07T03:44:36Z</cp:lastPrinted>
  <dcterms:modified xsi:type="dcterms:W3CDTF">2024-05-08T02:00:53Z</dcterms:modified>
  <cp:revision>1005</cp:revision>
  <dc:subject/>
  <dc:title>スライド 1</dc:title>
</cp:coreProperties>
</file>