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00C7-B238-4B41-B0D5-6C7A5639A9E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1C74-80CF-45B0-B66F-FED5FC7C7FB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D58-4B3C-404D-BFEF-387B4066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839-3FC5-4281-8B3F-E2DCF1E6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11B-AEE9-4966-A65B-2612C22B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89B-6666-47E7-9500-8635220B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F18-8C94-4490-AE52-4836898E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688-4DFD-459E-8580-9E067D14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2F6-3EC3-4F88-8292-177ECFE7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0FD-D6AC-44A8-8E39-E8841183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F3E-B0EA-4B2F-AEEC-B03AFF64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8A9-FBCB-410A-B45D-C1B145ED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72D-0FA4-4EFC-BEC6-4FDD8844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504-6F77-4720-8D2A-4ED0224F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6A99-774C-4E7E-AA2C-8F0B008361C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黒沢尻北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～「持続可能な働き方目標（ＳＷＳＧｓ）の設定と実践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468360" y="1117440"/>
            <a:ext cx="127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黒沢尻北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年度～５年度：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年度：１４．５日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年度：１４．４日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年度：１４．６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ＩＣＴ機器の利活用が進んで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仕事量の削減、いわゆる「スクラップ」は容易では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教職員のワークショップの実施などを通じて、業務改善の取組を進め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令和６年５月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日　黒沢尻北高等学校長　金濱千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平均時間外在校等時間を３８時間と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１５日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一人一人が、やりがいを感じながら業務に前向きに取り組むことで、質の高い教育を持続的に提供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のウェルビーイングを確保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会議等を通じて教職員に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管理職が、休暇取得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勤務時間外在校状況により、該当教職員に声掛けし、健康確保の観点から面談を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業務改善のための話し合いを持ち、職員の発案による業務改善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ＩＣＴ機器の積極的な活用により、調査や成績処理等業務の効率化を図り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行事の見直し等で業務負担の集中を軽減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部活動については、外部人材の活用により、教員の負担を軽減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令和６年度から行事の見直し等の負担軽減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高橋　直樹</cp:lastModifiedBy>
  <cp:lastPrinted>2024-05-16T02:11:47Z</cp:lastPrinted>
  <dcterms:modified xsi:type="dcterms:W3CDTF">2024-05-16T02:16:50Z</dcterms:modified>
  <cp:revision>981</cp:revision>
  <dc:subject/>
  <dc:title>スライド 1</dc:title>
</cp:coreProperties>
</file>