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81A2-D9E2-4C0B-9AE6-C6859870D8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5C72-6322-4D47-A070-DF976208166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9C979-557D-4D32-9E05-3DB0C8D4C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C2AD1-B62A-43DB-963C-46838B324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3A54D-A8EC-4D1E-AD76-A6B871E89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BC79C-9A52-4B20-9F7D-734E2CD6B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052FA-7C48-4A21-8356-7235CB4F9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0ADAD-BFC4-4776-800F-1AEE9127A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B8CF8-045A-4EA2-B582-40DCB9035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79DC1-95D8-401E-B986-2ABA6A93A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5618E-887C-4EFD-BF2E-AEF6C635D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B895-A1EE-4F72-8938-3B070E85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D1A0F-4D6B-4687-AF66-29D649EBE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7494-EBFD-4E5B-ADBB-CE2D8687C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4F2D-3559-4E9F-A7F6-C88236A02A7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大船渡東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職員間が互いに認め合う気風を醸成し、業務改善へ～</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船渡東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7</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年次取得へ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２日　大船渡東高等学校長　宇夫方  聰</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45</a:t>
            </a:r>
            <a:r>
              <a:rPr b="0" lang="ja-JP" sz="1600" spc="-1" strike="noStrike">
                <a:solidFill>
                  <a:srgbClr val="000000"/>
                </a:solidFill>
                <a:latin typeface="Arial"/>
              </a:rPr>
              <a:t>時間以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8</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計画的に年次休暇、特別休暇等を取得できる環境が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充実感を感じながら業務に取り組ん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一人に業務が集中しないように業務を分散する気風があ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HP</a:t>
            </a:r>
            <a:r>
              <a:rPr b="0" lang="ja-JP" sz="1800" spc="-1" strike="noStrike">
                <a:solidFill>
                  <a:srgbClr val="000000"/>
                </a:solidFill>
                <a:latin typeface="Arial"/>
              </a:rPr>
              <a:t>、ＰＴＡ、学校運営協議会委員を通じて、地域・保護者に対してプランの周知を行います。</a:t>
            </a:r>
            <a:endParaRPr b="0" lang="en-US" sz="1800" spc="-1" strike="noStrike">
              <a:solidFill>
                <a:srgbClr val="000000"/>
              </a:solidFill>
              <a:latin typeface="Arial"/>
            </a:endParaRPr>
          </a:p>
        </p:txBody>
      </p:sp>
      <p:graphicFrame>
        <p:nvGraphicFramePr>
          <p:cNvPr id="61" name=""/>
          <p:cNvGraphicFramePr/>
          <p:nvPr/>
        </p:nvGraphicFramePr>
        <p:xfrm>
          <a:off x="1015920" y="4915080"/>
          <a:ext cx="11795040" cy="3443040"/>
        </p:xfrm>
        <a:graphic>
          <a:graphicData uri="http://schemas.openxmlformats.org/drawingml/2006/table">
            <a:tbl>
              <a:tblPr/>
              <a:tblGrid>
                <a:gridCol w="816120"/>
                <a:gridCol w="201600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４５時間超となった教職員に声掛けし、健康確保の観</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点から、早い退庁を促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の開催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資料や連絡は紙での配付を廃止しフォルダ閲覧やメールでの配付・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ＰＴＡや学校運営</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a:t>
                      </a:r>
                      <a:r>
                        <a:rPr b="0" lang="ja-JP" sz="1800" spc="-1" strike="noStrike">
                          <a:solidFill>
                            <a:srgbClr val="000000"/>
                          </a:solidFill>
                          <a:latin typeface="ＭＳ Ｐゴシック"/>
                        </a:rPr>
                        <a:t>協議会委員と協力して進め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複数顧問の配置により、交代で指導に当たることができる</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環境を構築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会議時間の短縮、会議の削減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秋田　美紀男</cp:lastModifiedBy>
  <cp:lastPrinted>2024-05-13T09:34:17Z</cp:lastPrinted>
  <dcterms:modified xsi:type="dcterms:W3CDTF">2024-05-14T02:13:00Z</dcterms:modified>
  <cp:revision>983</cp:revision>
  <dc:subject/>
  <dc:title>スライド 1</dc:title>
</cp:coreProperties>
</file>