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4418-7209-40EA-857B-7605DF92958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EB5C-CD17-46BA-88CA-443D83F9622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4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67E-69D4-4B4E-A8A8-A4FA1B36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61A-85F6-4469-9EA2-EC45696C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946-D2BF-4395-814E-282C5849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406-956C-410A-A4EF-93429A9C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2D7-2570-4891-8F83-B081578A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F83-06F1-494F-8DDC-E2016F21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5CE-5DCA-4FD2-A71C-12240DF2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73F-9DAA-4925-BE5D-93CFFCA9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4C1-3BAB-4A69-97FA-98F1284D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B9B-2B3D-4E63-B96D-E9EE0E0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729-A64E-4660-A14E-508C60C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58E-2702-4FD9-9FA2-BE18C2D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E683-1D13-43BB-8283-B32F8DE4D2F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23" descr=""/>
          <p:cNvPicPr/>
          <p:nvPr/>
        </p:nvPicPr>
        <p:blipFill>
          <a:blip r:embed="rId1"/>
          <a:stretch/>
        </p:blipFill>
        <p:spPr>
          <a:xfrm>
            <a:off x="1200240" y="85680"/>
            <a:ext cx="11558520" cy="10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04940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宮古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　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教職員の割合（％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Ｒ４年度０％、Ｒ５年度：０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　時間外在校等時間（週休日の部活動指導従事時間を除く）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月４５時間以上の延べ数の割合 　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2.7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、Ｒ５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8.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 年３６０時間以上の教職員の割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2.6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、Ｒ５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9.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2.9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、Ｒ５年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4.9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上記の結果から、教職員の意識は向上し働き方改革が進んで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といえるが、時間外在校等時間の値は高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569440" y="94932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岩手県立宮古高等学校長　髙　橋　　　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（週休日の部活動指導従事時間を含む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が月４５時間以上の延べ数の割合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.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％以下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.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％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以上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が心身ともに健康で充実感を得ながら働くことが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きる職場環境づくりの観点から、一人ひとりが働き方改革を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識し、継続的に実践し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アクション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広く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教職員に対しては、職員会議を通じて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長時間勤務の教職員と面談しながら、勤務時間の適正化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年次休暇等を活用しやすい環境整備に努め、教職員が心身ともに健康で働くことがで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る職場環境づくり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校務運営委員会等を活用しながら、業務の見直し、改善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ＩＣＴの積極的活用を図りながら、業務量の軽減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勤務時間外の業務の適正化に向け、関係団体や保護者と協議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留守番電話を有効活用しながら、教職員の勤務時間外業務の適正化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C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活用した自動採点システムを導入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玲一郎</cp:lastModifiedBy>
  <cp:lastPrinted>2024-05-17T03:15:29Z</cp:lastPrinted>
  <dcterms:modified xsi:type="dcterms:W3CDTF">2024-05-17T06:21:04Z</dcterms:modified>
  <cp:revision>998</cp:revision>
  <dc:subject/>
  <dc:title>スライド 1</dc:title>
</cp:coreProperties>
</file>