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01F-D9ED-4C5E-B7BC-EAAA5D41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CF8-FFA0-4041-A178-9CDE20BD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421-5A60-4B78-8C08-88EE9241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31D-64CA-4657-A31C-41F6EC2B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4F9-9862-4042-8355-3FE5EC99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A94-4813-4915-B636-408AF14D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EDF-85D8-486D-8E21-7431EB8F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DE2-9BE0-4205-B171-F25E3C3F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582-FFB9-4165-9662-7FA3DDE6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FD5-34BB-4E85-9E87-C6EB45C3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CE2-02A5-452E-80B1-F6CE5E5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7D6-FBBC-4D2F-B361-9B7C1F5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F670-3CC5-495E-8631-A014A485FB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1"/>
          <p:cNvSpPr/>
          <p:nvPr/>
        </p:nvSpPr>
        <p:spPr>
          <a:xfrm>
            <a:off x="1311120" y="3705120"/>
            <a:ext cx="952560" cy="486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学金（Ｂ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2"/>
          <p:cNvSpPr/>
          <p:nvPr/>
        </p:nvSpPr>
        <p:spPr>
          <a:xfrm>
            <a:off x="2268360" y="3705120"/>
            <a:ext cx="1762200" cy="486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授業料（Ｃ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3"/>
          <p:cNvSpPr/>
          <p:nvPr/>
        </p:nvSpPr>
        <p:spPr>
          <a:xfrm>
            <a:off x="4025880" y="3705120"/>
            <a:ext cx="1647720" cy="486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施設整備費等（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4"/>
          <p:cNvSpPr/>
          <p:nvPr/>
        </p:nvSpPr>
        <p:spPr>
          <a:xfrm>
            <a:off x="330120" y="3705120"/>
            <a:ext cx="914400" cy="486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検定料（Ａ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左右矢印 8"/>
          <p:cNvSpPr/>
          <p:nvPr/>
        </p:nvSpPr>
        <p:spPr>
          <a:xfrm>
            <a:off x="1311120" y="890640"/>
            <a:ext cx="4343400" cy="428400"/>
          </a:xfrm>
          <a:prstGeom prst="leftRightArrow">
            <a:avLst>
              <a:gd name="adj1" fmla="val 50000"/>
              <a:gd name="adj2" fmla="val 50036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園児１人当たり補助上限額　</a:t>
            </a:r>
            <a:r>
              <a:rPr b="0" lang="en-US" sz="11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49,589</a:t>
            </a:r>
            <a:r>
              <a:rPr b="0" lang="ja-JP" sz="11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左右矢印 9"/>
          <p:cNvSpPr/>
          <p:nvPr/>
        </p:nvSpPr>
        <p:spPr>
          <a:xfrm>
            <a:off x="311040" y="880920"/>
            <a:ext cx="981360" cy="428760"/>
          </a:xfrm>
          <a:prstGeom prst="left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全額補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9"/>
          <p:cNvSpPr/>
          <p:nvPr/>
        </p:nvSpPr>
        <p:spPr>
          <a:xfrm>
            <a:off x="1330200" y="1324080"/>
            <a:ext cx="903240" cy="485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園料（Ｂ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10"/>
          <p:cNvSpPr/>
          <p:nvPr/>
        </p:nvSpPr>
        <p:spPr>
          <a:xfrm>
            <a:off x="2233440" y="1324080"/>
            <a:ext cx="1764000" cy="485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保育料（Ｃ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1"/>
          <p:cNvSpPr/>
          <p:nvPr/>
        </p:nvSpPr>
        <p:spPr>
          <a:xfrm>
            <a:off x="3995640" y="1328760"/>
            <a:ext cx="1648080" cy="485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施設整備費等（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12"/>
          <p:cNvSpPr/>
          <p:nvPr/>
        </p:nvSpPr>
        <p:spPr>
          <a:xfrm>
            <a:off x="311040" y="1324080"/>
            <a:ext cx="971640" cy="485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検定料（Ａ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3"/>
          <p:cNvSpPr/>
          <p:nvPr/>
        </p:nvSpPr>
        <p:spPr>
          <a:xfrm>
            <a:off x="1330200" y="1968480"/>
            <a:ext cx="4329360" cy="4856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補助対象部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4"/>
          <p:cNvSpPr/>
          <p:nvPr/>
        </p:nvSpPr>
        <p:spPr>
          <a:xfrm>
            <a:off x="311040" y="1973160"/>
            <a:ext cx="971640" cy="486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補助対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部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16"/>
          <p:cNvSpPr/>
          <p:nvPr/>
        </p:nvSpPr>
        <p:spPr>
          <a:xfrm>
            <a:off x="6253200" y="1052640"/>
            <a:ext cx="2695680" cy="149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15"/>
          <p:cNvSpPr/>
          <p:nvPr/>
        </p:nvSpPr>
        <p:spPr>
          <a:xfrm>
            <a:off x="6330960" y="1206360"/>
            <a:ext cx="280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園児ごとの補助金額は、次の計算による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左右矢印 18"/>
          <p:cNvSpPr/>
          <p:nvPr/>
        </p:nvSpPr>
        <p:spPr>
          <a:xfrm>
            <a:off x="1330200" y="3209760"/>
            <a:ext cx="4353120" cy="428760"/>
          </a:xfrm>
          <a:prstGeom prst="leftRightArrow">
            <a:avLst>
              <a:gd name="adj1" fmla="val 50000"/>
              <a:gd name="adj2" fmla="val 49965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児童生徒１人当たり補助上限額　：　学校種別に設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左右矢印 19"/>
          <p:cNvSpPr/>
          <p:nvPr/>
        </p:nvSpPr>
        <p:spPr>
          <a:xfrm>
            <a:off x="330120" y="3200400"/>
            <a:ext cx="981000" cy="42876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全額補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角丸四角形 20"/>
          <p:cNvSpPr/>
          <p:nvPr/>
        </p:nvSpPr>
        <p:spPr>
          <a:xfrm>
            <a:off x="6330960" y="2997360"/>
            <a:ext cx="2695680" cy="149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6416640" y="3068640"/>
            <a:ext cx="2676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生徒ごとの補助金額は、次の計算による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1"/>
          <p:cNvSpPr/>
          <p:nvPr/>
        </p:nvSpPr>
        <p:spPr>
          <a:xfrm>
            <a:off x="339840" y="5537160"/>
            <a:ext cx="952560" cy="339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学金（Ｂ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2"/>
          <p:cNvSpPr/>
          <p:nvPr/>
        </p:nvSpPr>
        <p:spPr>
          <a:xfrm>
            <a:off x="1297080" y="5537160"/>
            <a:ext cx="1762200" cy="339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授業料（Ｃ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3"/>
          <p:cNvSpPr/>
          <p:nvPr/>
        </p:nvSpPr>
        <p:spPr>
          <a:xfrm>
            <a:off x="3063960" y="5537160"/>
            <a:ext cx="1647720" cy="339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施設整備費等（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25"/>
          <p:cNvGrpSpPr/>
          <p:nvPr/>
        </p:nvGrpSpPr>
        <p:grpSpPr>
          <a:xfrm>
            <a:off x="6273720" y="5369040"/>
            <a:ext cx="2695680" cy="685800"/>
            <a:chOff x="6273720" y="5369040"/>
            <a:chExt cx="2695680" cy="685800"/>
          </a:xfrm>
        </p:grpSpPr>
        <p:sp>
          <p:nvSpPr>
            <p:cNvPr id="63" name="角丸四角形 32"/>
            <p:cNvSpPr/>
            <p:nvPr/>
          </p:nvSpPr>
          <p:spPr>
            <a:xfrm>
              <a:off x="6273720" y="5369040"/>
              <a:ext cx="26956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29"/>
            <p:cNvSpPr/>
            <p:nvPr/>
          </p:nvSpPr>
          <p:spPr>
            <a:xfrm>
              <a:off x="6349680" y="5448240"/>
              <a:ext cx="251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　学生ごとの補助金額は、設置者が減免した額の３分の２とする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テキスト ボックス 34"/>
          <p:cNvSpPr/>
          <p:nvPr/>
        </p:nvSpPr>
        <p:spPr>
          <a:xfrm>
            <a:off x="1824480" y="64072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設置者が減免した額の３分の２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35"/>
          <p:cNvSpPr/>
          <p:nvPr/>
        </p:nvSpPr>
        <p:spPr>
          <a:xfrm>
            <a:off x="6449040" y="1616040"/>
            <a:ext cx="199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　　</a:t>
            </a:r>
            <a:r>
              <a:rPr b="0" lang="ja-JP" sz="1100" spc="-1" strike="noStrike" u="sng">
                <a:solidFill>
                  <a:srgbClr val="000000"/>
                </a:solidFill>
                <a:uFillTx/>
                <a:latin typeface="Calibri"/>
              </a:rPr>
              <a:t>補助額＝Ａ＋（Ｂ＋Ｃ＋Ｄ－Ｅ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6"/>
          <p:cNvSpPr/>
          <p:nvPr/>
        </p:nvSpPr>
        <p:spPr>
          <a:xfrm>
            <a:off x="7094160" y="2097000"/>
            <a:ext cx="121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Ｂ＋Ｃ＋Ｄの上限額は、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49,589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37"/>
          <p:cNvSpPr/>
          <p:nvPr/>
        </p:nvSpPr>
        <p:spPr>
          <a:xfrm>
            <a:off x="7085520" y="3421080"/>
            <a:ext cx="157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 u="sng">
                <a:solidFill>
                  <a:srgbClr val="000000"/>
                </a:solidFill>
                <a:uFillTx/>
                <a:latin typeface="Calibri"/>
              </a:rPr>
              <a:t>補助額＝Ａ＋（Ｂ＋Ｃ＋Ｄ－Ｆ）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38"/>
          <p:cNvSpPr/>
          <p:nvPr/>
        </p:nvSpPr>
        <p:spPr>
          <a:xfrm>
            <a:off x="7090560" y="3754440"/>
            <a:ext cx="1433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Ｂ＋Ｃ＋Ｄの上限額は、次のとおり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小学校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28,40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中学校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35,50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高・特・専修（高等）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10,554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34"/>
          <p:cNvSpPr/>
          <p:nvPr/>
        </p:nvSpPr>
        <p:spPr>
          <a:xfrm>
            <a:off x="189000" y="47628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幼稚園</a:t>
            </a: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35"/>
          <p:cNvSpPr/>
          <p:nvPr/>
        </p:nvSpPr>
        <p:spPr>
          <a:xfrm>
            <a:off x="2425320" y="2924280"/>
            <a:ext cx="7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小学校、中学校、高等学校、特別支援学校、専修（高等課程）</a:t>
            </a: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6"/>
          <p:cNvSpPr/>
          <p:nvPr/>
        </p:nvSpPr>
        <p:spPr>
          <a:xfrm>
            <a:off x="1381680" y="519120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専修学校（専門課程）、各種学校</a:t>
            </a: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37"/>
          <p:cNvSpPr/>
          <p:nvPr/>
        </p:nvSpPr>
        <p:spPr>
          <a:xfrm>
            <a:off x="3188880" y="23328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私立学校被災児童生徒等就学支援事業スキーム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13"/>
          <p:cNvSpPr/>
          <p:nvPr/>
        </p:nvSpPr>
        <p:spPr>
          <a:xfrm>
            <a:off x="1311120" y="4280040"/>
            <a:ext cx="4353120" cy="4856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補助対象部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14"/>
          <p:cNvSpPr/>
          <p:nvPr/>
        </p:nvSpPr>
        <p:spPr>
          <a:xfrm>
            <a:off x="316080" y="4284720"/>
            <a:ext cx="928440" cy="4856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補助対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部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右中かっこ 39"/>
          <p:cNvSpPr/>
          <p:nvPr/>
        </p:nvSpPr>
        <p:spPr>
          <a:xfrm rot="5400000">
            <a:off x="3419280" y="412560"/>
            <a:ext cx="165240" cy="4324320"/>
          </a:xfrm>
          <a:custGeom>
            <a:avLst/>
            <a:gdLst>
              <a:gd name="textAreaLeft" fmla="*/ 0 w 165240"/>
              <a:gd name="textAreaRight" fmla="*/ 59760 w 165240"/>
              <a:gd name="textAreaTop" fmla="*/ 20160 h 4324320"/>
              <a:gd name="textAreaBottom" fmla="*/ 4304160 h 43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"/>
                  <a:pt x="10800" y="323"/>
                </a:cubicBezTo>
                <a:lnTo>
                  <a:pt x="10800" y="10607"/>
                </a:lnTo>
                <a:cubicBezTo>
                  <a:pt x="10800" y="10769"/>
                  <a:pt x="16200" y="10930"/>
                  <a:pt x="21600" y="10930"/>
                </a:cubicBezTo>
                <a:cubicBezTo>
                  <a:pt x="16200" y="10930"/>
                  <a:pt x="10800" y="11092"/>
                  <a:pt x="10800" y="11253"/>
                </a:cubicBezTo>
                <a:lnTo>
                  <a:pt x="10800" y="21277"/>
                </a:lnTo>
                <a:cubicBezTo>
                  <a:pt x="10800" y="214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テキスト ボックス 34"/>
          <p:cNvSpPr/>
          <p:nvPr/>
        </p:nvSpPr>
        <p:spPr>
          <a:xfrm>
            <a:off x="1898640" y="2657520"/>
            <a:ext cx="375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「幼稚園就園奨励費等（Ｅ）」⇒補助対象部分から差し引くこ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右中かっこ 41"/>
          <p:cNvSpPr/>
          <p:nvPr/>
        </p:nvSpPr>
        <p:spPr>
          <a:xfrm rot="5400000">
            <a:off x="3407400" y="2705760"/>
            <a:ext cx="165240" cy="4322880"/>
          </a:xfrm>
          <a:custGeom>
            <a:avLst/>
            <a:gdLst>
              <a:gd name="textAreaLeft" fmla="*/ 0 w 165240"/>
              <a:gd name="textAreaRight" fmla="*/ 59760 w 165240"/>
              <a:gd name="textAreaTop" fmla="*/ 20160 h 4322880"/>
              <a:gd name="textAreaBottom" fmla="*/ 4302720 h 432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"/>
                  <a:pt x="10800" y="323"/>
                </a:cubicBezTo>
                <a:lnTo>
                  <a:pt x="10800" y="10607"/>
                </a:lnTo>
                <a:cubicBezTo>
                  <a:pt x="10800" y="10769"/>
                  <a:pt x="16200" y="10930"/>
                  <a:pt x="21600" y="10930"/>
                </a:cubicBezTo>
                <a:cubicBezTo>
                  <a:pt x="16200" y="10930"/>
                  <a:pt x="10800" y="11092"/>
                  <a:pt x="10800" y="11253"/>
                </a:cubicBezTo>
                <a:lnTo>
                  <a:pt x="10800" y="21277"/>
                </a:lnTo>
                <a:cubicBezTo>
                  <a:pt x="10800" y="214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4"/>
          <p:cNvSpPr/>
          <p:nvPr/>
        </p:nvSpPr>
        <p:spPr>
          <a:xfrm>
            <a:off x="1787400" y="4950000"/>
            <a:ext cx="3751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「就学支援金等」（Ｆ）⇒補助対象部分から差し引くこ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右中かっこ 43"/>
          <p:cNvSpPr/>
          <p:nvPr/>
        </p:nvSpPr>
        <p:spPr>
          <a:xfrm rot="5400000">
            <a:off x="2419560" y="4200480"/>
            <a:ext cx="164880" cy="4324320"/>
          </a:xfrm>
          <a:custGeom>
            <a:avLst/>
            <a:gdLst>
              <a:gd name="textAreaLeft" fmla="*/ 0 w 164880"/>
              <a:gd name="textAreaRight" fmla="*/ 59400 w 164880"/>
              <a:gd name="textAreaTop" fmla="*/ 20160 h 4324320"/>
              <a:gd name="textAreaBottom" fmla="*/ 4304160 h 43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"/>
                  <a:pt x="10800" y="323"/>
                </a:cubicBezTo>
                <a:lnTo>
                  <a:pt x="10800" y="10607"/>
                </a:lnTo>
                <a:cubicBezTo>
                  <a:pt x="10800" y="10769"/>
                  <a:pt x="16200" y="10930"/>
                  <a:pt x="21600" y="10930"/>
                </a:cubicBezTo>
                <a:cubicBezTo>
                  <a:pt x="16200" y="10930"/>
                  <a:pt x="10800" y="11092"/>
                  <a:pt x="10800" y="11253"/>
                </a:cubicBezTo>
                <a:lnTo>
                  <a:pt x="10800" y="21277"/>
                </a:lnTo>
                <a:cubicBezTo>
                  <a:pt x="10800" y="214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3"/>
          <p:cNvSpPr/>
          <p:nvPr/>
        </p:nvSpPr>
        <p:spPr>
          <a:xfrm>
            <a:off x="331920" y="5950080"/>
            <a:ext cx="4379760" cy="3078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補助対象部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8:38:31Z</dcterms:created>
  <dc:creator>石木田　浩美</dc:creator>
  <dc:description/>
  <dc:language>en-US</dc:language>
  <cp:lastModifiedBy>小野寺　裕士</cp:lastModifiedBy>
  <cp:lastPrinted>2011-12-09T02:24:53Z</cp:lastPrinted>
  <dcterms:modified xsi:type="dcterms:W3CDTF">2011-12-09T02:26:13Z</dcterms:modified>
  <cp:revision>5</cp:revision>
  <dc:subject/>
  <dc:title>PowerPoint プレゼンテーション</dc:title>
</cp:coreProperties>
</file>